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050-1E4D-4217-B4F1-857A3AE3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D4D-AAF1-4614-A3B8-39032F26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ED4-86E3-4D69-9CBC-03CFF34C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55A-8889-41A6-B6C0-5841B8D0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907A-845E-4367-8A34-DE5F3877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09FE-2F34-40BB-840B-331D4B1B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C39C-B404-4BBA-A8E2-6925B823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0632-E865-462B-B5DB-5E273DF4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9204-F4B8-4AA6-B944-AA53EA5C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CCBE-BDBD-4126-976C-2B5C2195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0E11-48E9-43E6-BAB2-8859AC70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C45-04CA-4926-BE52-40B64B11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456C-DB58-4E90-8F52-81FCE67A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19DA-663C-4068-9670-764FD08E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DEBA-7E20-4B9A-980D-B0A716E0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FAF8-C502-4C02-8E84-D0B169A7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7B36-414F-4D78-9831-B25BE117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A48-F384-497B-8757-0576A3AF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4D9-DD8D-43BC-81D3-5B4ED8E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E8D-0B3A-4D8D-9DE0-6B818C93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7E6-A6CB-4219-B4D5-0238A78D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6CA-330C-4516-80B3-09C28EB0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74F-33DE-48AB-9805-995DEC2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4B3-9988-461D-8FBD-70897A48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4EAA-0BB0-4E7E-B5A7-56EE39B531EB}" type="slidenum">
              <a:rPr b="0" lang="bg-BG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495C-27A9-4FAB-ACEE-918E51A4D7F9}" type="slidenum">
              <a:rPr b="0" lang="bg-BG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eaeaea"/>
                </a:solidFill>
                <a:latin typeface="Tahoma"/>
              </a:rPr>
              <a:t>Финанси за специалисти Ч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 u="sng">
                <a:solidFill>
                  <a:srgbClr val="eaeaea"/>
                </a:solidFill>
                <a:uFillTx/>
                <a:latin typeface="Tahoma"/>
              </a:rPr>
              <a:t>Показатели, използвани от специалисти ЧР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1989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eaeaea"/>
                </a:solidFill>
                <a:latin typeface="Tahoma"/>
              </a:rPr>
              <a:t>Показатели /KPI/ за Разходи за подбор и наемане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Разходи за позбор и наемане за дадена пози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Разходи за позбор и наемане за дадена позиция по различни кана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Среден първоначален разход за наеман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- Среден първоначален разход за наемане, включително публикуване на обяви, реклама, допълнителни разходи.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Показатели /KPI/ за Разходи за об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KPI за разходи за здравословни и безопасни условия на тру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eaeaea"/>
                </a:solidFill>
                <a:latin typeface="Tahoma"/>
              </a:rPr>
              <a:t>Показатели за измерване на ефективността</a:t>
            </a:r>
            <a:r>
              <a:rPr b="1" lang="bg-BG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Ефективност на труда като цяло, </a:t>
            </a: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Overall Labor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Effectiveness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(OLE) е ключов индикатор за изпълнение, който показва мерките за използване, представяне и качеството на работната сила и нейното влияние върху производителност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Наличие - процентът на непълно работно време използвано за ефективен принос; </a:t>
            </a:r>
            <a:br>
              <a:rPr sz="2400"/>
            </a:b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- Представяне - количеството на доставен продукт; </a:t>
            </a:r>
            <a:br>
              <a:rPr sz="2400"/>
            </a:b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- Качество - процентът на перфектен или продаваем продукт, който е произведен;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eaeaea"/>
                </a:solidFill>
                <a:latin typeface="Tahoma"/>
              </a:rPr>
              <a:t>Open-book manag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699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Основните правила на Отворената книга за управление с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- да обученим служителите да разберат какво е финансова информац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- да предоставим на служителите цялата необходима финансова информац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да направим служителите отговорни за числата, които зависят от тях и са под техен контрол /КРІ/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- направи служителите участници в разпределянето на финансовия дял, взависимост от  това как команията завършва даден пери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aeaea"/>
                </a:solidFill>
                <a:latin typeface="Tahoma"/>
              </a:rPr>
              <a:t>Финансови отчети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ffffff"/>
                </a:solidFill>
                <a:uFillTx/>
                <a:latin typeface="Tahoma"/>
              </a:rPr>
              <a:t>Отчет за приходите и разход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- прихо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- разхо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- печалба/загу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Показва приходи и разходи, извършени за определено вр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Приходи – разходи = печал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Разходи – приходи = загу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6064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ffffff"/>
                </a:solidFill>
                <a:uFillTx/>
                <a:latin typeface="Tahoma"/>
              </a:rPr>
              <a:t>Балан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- акти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- паси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- капит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Показва снимка /картина/ на дружеството към определен мо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Актив – пасив = капит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ffff"/>
                </a:solidFill>
                <a:uFillTx/>
                <a:latin typeface="Tahoma"/>
              </a:rPr>
              <a:t>Хора и групи, заинтересовани от паричните потоци отчети</a:t>
            </a: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финансово-счетоводни кадри, които имат нужда да знаят дали организацията ще бъде в състояние да покрие заплата и други непосредствени разход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потенциални кредитори или инвеститори, които искат ясна картина на една компания на способността да погасява задълженията с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специалисти ЧР, които имат нужда да знаят дали техния бюджет е изпълним и дали е необходимо да вземат предпазни мер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служители и партньори, които трябва да знаят дали компанията ще бъде в състояние да си позволи обезщет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824040"/>
            <a:ext cx="76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ffffff"/>
                </a:solidFill>
                <a:uFillTx/>
                <a:latin typeface="Tahoma"/>
              </a:rPr>
              <a:t>Отчет за Паричния по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aeaea"/>
                </a:solidFill>
                <a:latin typeface="Tahoma"/>
              </a:rPr>
              <a:t>Управленско счетоводство </a:t>
            </a:r>
            <a:br>
              <a:rPr sz="2400"/>
            </a:br>
            <a:r>
              <a:rPr b="1" lang="bg-BG" sz="2400" spc="-1" strike="noStrike">
                <a:solidFill>
                  <a:srgbClr val="eaeaea"/>
                </a:solidFill>
                <a:latin typeface="Tahoma"/>
              </a:rPr>
              <a:t>/</a:t>
            </a:r>
            <a:r>
              <a:rPr b="1" lang="en" sz="2400" spc="-1" strike="noStrike">
                <a:solidFill>
                  <a:srgbClr val="eaeaea"/>
                </a:solidFill>
                <a:latin typeface="Tahoma"/>
              </a:rPr>
              <a:t>Management accounting</a:t>
            </a:r>
            <a:r>
              <a:rPr b="1" lang="bg-BG" sz="2400" spc="-1" strike="noStrike">
                <a:solidFill>
                  <a:srgbClr val="eaeaea"/>
                </a:solidFill>
                <a:latin typeface="Tahoma"/>
              </a:rPr>
              <a:t>/</a:t>
            </a:r>
            <a:r>
              <a:rPr b="1" lang="bg-BG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В контраст с финансово-счетоводната информация, управленската информация 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разработена и предназначена за ползване от мениджъри в рамките на организацията, докато финансово-счетоводната информация е предназначена за използване от акционерите и кредитори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обикновено поверителна и използвана от ръководството, вместо публично съобщавана информац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насочена напред към бъдещето, вместо историчес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изчислена въз основа на нуждите на мениджърите, които често използват управленски информационни системи, вместо позоваване на финансови счетоводни стандарти.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eaeaea"/>
                </a:solidFill>
                <a:latin typeface="Tahoma"/>
              </a:rPr>
              <a:t>Ключови показатели за изпълнение (KPI)</a:t>
            </a:r>
            <a:r>
              <a:rPr b="1" lang="bg-BG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KPI могат да бъдат различни по редица начин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Насочващи KPI, например, обикновено дават по-добър или по-лош рейтинг за конкретна област на ЧР и чрез тях може да се следи дали се подобрява или не тази обла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Количествени KPI, които са представени като брой и се дава възможност за по-точен анализ на данните. Дори KPI първоначално да не са в суми, могат да бъдат преведени по-къс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 u="sng">
                <a:solidFill>
                  <a:srgbClr val="eaeaea"/>
                </a:solidFill>
                <a:uFillTx/>
                <a:latin typeface="Tahoma"/>
              </a:rPr>
              <a:t>Основни Бизнес показател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333360"/>
            <a:ext cx="754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bg-BG" sz="2400" spc="-1" strike="noStrike" u="sng">
                <a:solidFill>
                  <a:srgbClr val="ffffff"/>
                </a:solidFill>
                <a:uFillTx/>
                <a:latin typeface="Tahoma"/>
              </a:rPr>
              <a:t>Възвръщаемост на активит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, ROA /Return on Assets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OA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 = Нетна печалба / Акти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bg-BG" sz="2400" spc="-1" strike="noStrike" u="sng">
                <a:solidFill>
                  <a:srgbClr val="ffffff"/>
                </a:solidFill>
                <a:uFillTx/>
                <a:latin typeface="Tahoma"/>
              </a:rPr>
              <a:t>Възвръщаемост н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bg-BG" sz="2400" spc="-1" strike="noStrike" u="sng">
                <a:solidFill>
                  <a:srgbClr val="ffffff"/>
                </a:solidFill>
                <a:uFillTx/>
                <a:latin typeface="Tahoma"/>
              </a:rPr>
              <a:t>капитала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OE /Return on Equity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O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Е = Нетна печалба / Капит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ffffff"/>
                </a:solidFill>
                <a:uFillTx/>
                <a:latin typeface="Tahoma"/>
              </a:rPr>
              <a:t>3. Оборот на стоките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nventory Turno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Оборот на стоките = Продажби / Стоки в наличност за продаж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05264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ffffff"/>
                </a:solidFill>
                <a:uFillTx/>
                <a:latin typeface="Tahoma"/>
              </a:rPr>
              <a:t>4. Оборот на Вземанията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ceivables Turno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Оборот на Вземанията = Продажби / Взе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ffffff"/>
                </a:solidFill>
                <a:uFillTx/>
                <a:latin typeface="Tahoma"/>
              </a:rPr>
              <a:t>5. Марж /%/ на Нетна печалба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PM /Net Profit Margin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PM =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Нетна печалба/ Продаж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ffffff"/>
                </a:solidFill>
                <a:uFillTx/>
                <a:latin typeface="Tahoma"/>
              </a:rPr>
              <a:t>6. Марж /%/ на Брутна печалба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PM /Gross Profit Margin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PM = </a:t>
            </a: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Брутна печалба/ Продаж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09:02:07Z</dcterms:created>
  <dc:creator>zxv</dc:creator>
  <dc:description/>
  <dc:language>en-US</dc:language>
  <cp:lastModifiedBy>dilyanas</cp:lastModifiedBy>
  <dcterms:modified xsi:type="dcterms:W3CDTF">2009-06-29T13:16:07Z</dcterms:modified>
  <cp:revision>10</cp:revision>
  <dc:subject/>
  <dc:title>Финанси за специалисти ЧР</dc:title>
</cp:coreProperties>
</file>