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840-1188-4609-996C-FB3BF590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0A1-A9A2-4197-B5D5-1288C184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B8E-AD85-44FA-8837-26ACA762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8B0-0B87-422F-8231-AD2FA7AF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737E-82E4-40B9-B3A7-74A60ADC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D9DB-234C-4971-AAAF-92FFAA68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F755-6332-40A6-A83C-2F8FC735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8133-A0E9-4F8A-B4D9-496FB46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A3D1-39C7-4969-9E59-0C1E3126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1037-9559-448F-8218-B1765B87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9183-6754-4018-A767-EEC8D95F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7EF-ABE9-4FF5-9179-A1563038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DC90-EDD0-49B3-84B7-2404950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1EA2-F623-4398-82F0-6FC86C0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6DF3-BFE8-4624-B4B6-FD443A29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C707-CB31-4783-9CDA-B97FAE08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779-542A-44EF-9831-BF08C1BF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FE4-4E2A-4E98-9CDB-FFE5F5E8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372-914B-45D3-8B37-6E2BFE4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7F7-8285-4724-B506-8BB78233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1C9-0A85-4559-85C2-5E1BB872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07F-FC60-4345-9374-7C3E6188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5FD-4E66-47E2-9D3B-DD49ACEA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07A-9D3E-4142-9237-0B275A67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D4E6-1F6F-466F-8B3F-E960B36AB219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3A11-926B-465B-80C4-6A883F376C73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Verdana"/>
              </a:rPr>
              <a:t>Социалните придобивки за служители по време на криз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3428640"/>
            <a:ext cx="77752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Мариана Стоян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Управите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Некст Левъл Брокер ЕО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София Пре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Ул.”Славянска” 29, етаж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,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офис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SM: + 359 888 25 17 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тел.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+ 359 2 </a:t>
            </a:r>
            <a:r>
              <a:rPr b="0" lang="bg-BG" sz="1400" spc="-1" strike="noStrike">
                <a:solidFill>
                  <a:srgbClr val="000000"/>
                </a:solidFill>
                <a:latin typeface="Verdana"/>
              </a:rPr>
              <a:t>480 5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8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c0000"/>
                </a:solidFill>
                <a:latin typeface="Verdana"/>
              </a:rPr>
              <a:t>26 Юни 2009 г., Боро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Премахване на съществуващи придобив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640" y="3141360"/>
            <a:ext cx="321336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Стар Пла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звънболнична Мед. Помо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Болнична Мед. Помо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Възстановяване на рзходи за медикамен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76360" y="3141360"/>
            <a:ext cx="34909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Verdana"/>
              </a:rPr>
              <a:t>Нов Пла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Извънболнична Мед. Помо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Болнична Мед. Помо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1280" y="1916280"/>
            <a:ext cx="79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Пример за промяна на план за Допълнително Здравно Осигуряван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24440" y="4017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c0000"/>
                </a:solidFill>
                <a:latin typeface="Wingdings 3"/>
                <a:ea typeface="Wingdings 3"/>
              </a:rPr>
              <a:t>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Verdana"/>
              </a:rPr>
              <a:t>Въвеждане на социални придобивки по време на кр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Поставяне на критерии кои служители да бъдат включен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Прослужено време във фирма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Заемана позиция (напр. само ключови служител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Работодателят да поема част от разходите на тези от служителите, които желаят да се включат към договорен групов пл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600" spc="-1" strike="noStrike">
                <a:solidFill>
                  <a:srgbClr val="cc0000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Verdana"/>
              </a:rPr>
              <a:t>Благодаря !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20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0000"/>
                </a:solidFill>
                <a:latin typeface="Verdana"/>
              </a:rPr>
              <a:t>По време на криза се създават най – лоялните служители 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Verdana"/>
              </a:rPr>
              <a:t>Някои от предприеманите мерк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Запазване на персонала и намаляване на заплатите на всич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НЕназначаване на нови служители на мястото на напусналите и намаляване на общия брой зае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Пускане в неплатен отпу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Съкращ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Премахване</a:t>
            </a:r>
            <a:r>
              <a:rPr b="1" lang="bg-BG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1" lang="bg-BG" sz="3000" spc="-1" strike="noStrike">
                <a:solidFill>
                  <a:srgbClr val="cc0000"/>
                </a:solidFill>
                <a:latin typeface="Verdana"/>
              </a:rPr>
              <a:t>Социалните придобив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Verdana"/>
              </a:rPr>
              <a:t>Някои от предприеманите мерк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cc0000"/>
                </a:solidFill>
                <a:latin typeface="Wingdings 3"/>
                <a:ea typeface="Wingdings 3"/>
              </a:rPr>
              <a:t></a:t>
            </a:r>
            <a:r>
              <a:rPr b="0" lang="bg-BG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В резултат на тов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30760" indent="-385920">
              <a:lnSpc>
                <a:spcPct val="90000"/>
              </a:lnSpc>
              <a:spcBef>
                <a:spcPts val="206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Напрежение в колекти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30760" indent="-385920">
              <a:lnSpc>
                <a:spcPct val="90000"/>
              </a:lnSpc>
              <a:spcBef>
                <a:spcPts val="206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Несигурнос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30760" indent="-385920">
              <a:lnSpc>
                <a:spcPct val="90000"/>
              </a:lnSpc>
              <a:spcBef>
                <a:spcPts val="206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Демотив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30760" indent="0">
              <a:lnSpc>
                <a:spcPct val="90000"/>
              </a:lnSpc>
              <a:spcBef>
                <a:spcPts val="233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bg-BG" sz="3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bg-BG" sz="4400" spc="-1" strike="noStrike">
                <a:solidFill>
                  <a:srgbClr val="cc0000"/>
                </a:solidFill>
                <a:latin typeface="Wingdings 3"/>
                <a:ea typeface="Wingdings 3"/>
              </a:rPr>
              <a:t></a:t>
            </a:r>
            <a:r>
              <a:rPr b="1" lang="bg-BG" sz="4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bg-BG" sz="2800" spc="-1" strike="noStrike">
                <a:solidFill>
                  <a:srgbClr val="cc0000"/>
                </a:solidFill>
                <a:latin typeface="Verdana"/>
              </a:rPr>
              <a:t>влошаване качеството </a:t>
            </a:r>
            <a:r>
              <a:rPr b="0" lang="bg-BG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bg-BG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bg-BG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bg-BG" sz="2800" spc="-1" strike="noStrike">
                <a:solidFill>
                  <a:srgbClr val="cc0000"/>
                </a:solidFill>
                <a:latin typeface="Verdana"/>
              </a:rPr>
              <a:t>на работа</a:t>
            </a:r>
            <a:r>
              <a:rPr b="1" lang="bg-BG" sz="3400" spc="-1" strike="noStrike">
                <a:solidFill>
                  <a:srgbClr val="cc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Verdana"/>
              </a:rPr>
              <a:t>Социалните придобив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Фокусират грижата на компанията за нейните служите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Ефикасен и сравнително нескъп инструмент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Допълнително здравно осигурява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Групови застраховки “Живот” и “Злополука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Групови спестовни планов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Допълнително пенсионно осигурява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Ваучери за хр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Verdana"/>
              </a:rPr>
              <a:t>Данъчни преферен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Verdana"/>
              </a:rPr>
              <a:t>Съгласно чл. 208 и чл. 209 от ЗКП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разходите за вноски (премии) за допълнително доброволно осигуряване, за доброволно здравно осигуряване и за застраховки "Живот“в размер 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cc0000"/>
                </a:solidFill>
                <a:latin typeface="Verdana"/>
              </a:rPr>
              <a:t>60 лева месечно за всяко наето лиц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разходите за ваучери за храна в разм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cc0000"/>
                </a:solidFill>
                <a:latin typeface="Verdana"/>
              </a:rPr>
              <a:t>до 60 лева месеч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Премахване на съществуващи придобив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cc0000"/>
                </a:solidFill>
                <a:latin typeface="Verdana"/>
              </a:rPr>
              <a:t>Опасност !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Веднъж въведена дадена социална придобивка, трудно се отнем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cc0000"/>
                </a:solidFill>
                <a:latin typeface="Wingdings 3"/>
                <a:ea typeface="Wingdings 3"/>
              </a:rPr>
              <a:t></a:t>
            </a: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резултатът е по- отрицателен отколкото въобще да не е била дава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Премахването на социална придобивка не винаги води до освобождаване на големи финансови ресурс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Премахване на съществуващи придобив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Фирма със 100 служи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редна нетна работна заплата 750 лв / ме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Общо разходи на работодателя 1 003,49 лв / ме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Разходи за социални придоби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50 лева / месец / служите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Премахването на социалните придобивки ще освободи бюджет</a:t>
            </a:r>
            <a:r>
              <a:rPr b="0" lang="bg-BG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о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cc0000"/>
                </a:solidFill>
                <a:latin typeface="Verdana"/>
              </a:rPr>
              <a:t>60 000 лева / год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Което е </a:t>
            </a:r>
            <a:r>
              <a:rPr b="0" lang="bg-BG" sz="1600" spc="-1" strike="noStrike">
                <a:solidFill>
                  <a:srgbClr val="cc0000"/>
                </a:solidFill>
                <a:latin typeface="Verdana"/>
              </a:rPr>
              <a:t>&lt; от 5 брутни годишни раб.запла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&lt; 5% от персонала</a:t>
            </a:r>
            <a:r>
              <a:rPr b="0" lang="bg-BG" sz="1600" spc="-1" strike="noStrike">
                <a:solidFill>
                  <a:srgbClr val="cc0000"/>
                </a:solidFill>
                <a:latin typeface="Verdana"/>
              </a:rPr>
              <a:t> - може да бъде постигнато като резултат с </a:t>
            </a:r>
            <a:r>
              <a:rPr b="1" lang="bg-BG" sz="1600" spc="-1" strike="noStrike">
                <a:solidFill>
                  <a:srgbClr val="cc0000"/>
                </a:solidFill>
                <a:latin typeface="Verdana"/>
              </a:rPr>
              <a:t>НЕ</a:t>
            </a:r>
            <a:r>
              <a:rPr b="0" lang="bg-BG" sz="1600" spc="-1" strike="noStrike">
                <a:solidFill>
                  <a:srgbClr val="cc0000"/>
                </a:solidFill>
                <a:latin typeface="Verdana"/>
              </a:rPr>
              <a:t>назначаване на нови служители на местата на напуснали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Премахване на съществуващи придобив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cc0000"/>
                </a:solidFill>
                <a:latin typeface="Verdana"/>
              </a:rPr>
              <a:t>Възможни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Намаляване на лимити и / или застрахователните суми по някои покрит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Премахване на някои пакети / услуг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Verdana"/>
              </a:rPr>
              <a:t>Предоговаряне на условията по договорите (разсрочване на плащания, по- големи отстъпки ..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35600" y="189000"/>
            <a:ext cx="2157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7:21:46Z</dcterms:created>
  <dc:creator>eViLgRin</dc:creator>
  <dc:description/>
  <dc:language>en-US</dc:language>
  <cp:lastModifiedBy>dilyanas</cp:lastModifiedBy>
  <dcterms:modified xsi:type="dcterms:W3CDTF">2009-06-25T09:48:20Z</dcterms:modified>
  <cp:revision>42</cp:revision>
  <dc:subject/>
  <dc:title>Социалните придобивки за служители по време на криза</dc:title>
</cp:coreProperties>
</file>