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5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Svetla Stoeva" initials="SS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9-06-24T16:25:42.562000000" idx="2">
    <p:pos x="4451" y="480"/>
    <p:text>според мен няма смисъл от този слайд</p:text>
  </p:cm>
</p:cmLst>
</file>

<file path=ppt/comments/comment13.xml><?xml version="1.0" encoding="UTF-8" standalone="yes"?>
<p:cmLst xmlns:p="http://schemas.openxmlformats.org/presentationml/2006/main"><p:cm authorId="0" dt="2009-06-24T16:26:27.562000000" idx="3"><p:pos x="4522" y="480"/><p:text>моем ли вместо странични ефекти да сложим pros. & cons като заглавие, хем да е consistent с предишните за Outplacement?</p:text></p:cm></p:cmLst>
</file>

<file path=ppt/comments/comment5.xml><?xml version="1.0" encoding="utf-8"?>
<p:cmLst xmlns:p="http://schemas.openxmlformats.org/presentationml/2006/main">
  <p:cm authorId="0" dt="2009-06-24T16:40:01.515000000" idx="1">
    <p:pos x="3877" y="480"/>
    <p:text>Въобще не знам дали има сми от този слайд? Идея какво да кажа????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A69-AC56-40E1-AA68-58983FB4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A40-1B19-4899-9E41-BCED73A9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D5D-FCD4-4B9B-8FDE-C1885B84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2AF-A624-4B28-8E27-6995BEC0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F9E3-B881-4EAD-83D4-6CD9D02C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C68C-8641-42AD-89E4-21C823B4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E6C3-7E82-49FE-8E66-B4C7A96C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E647-ED40-474F-98FF-F59C9DE5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D2E7-719F-4D4E-92E8-C2BFF479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64DA-AA31-43B5-956A-B3C85189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5FF7-77D8-441F-A9D1-8E61B056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C9A-D97E-434E-87E3-B99544BC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4FF1-7349-433D-97FE-CDA10EAB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5843-A087-4E3C-9FAC-7DD39F5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524B-CE78-4CB4-81CB-708795C2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FE82-0D2A-416C-9FC8-0411C157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8B50-9827-4191-B1C1-DA47499D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EB2-AA92-4C06-A0B8-712D85FF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590-9F24-45DD-B4CC-F5DA7426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D28-73F8-4107-925A-B5074871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CA7-0C78-4927-8AF3-7BBB9A70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113-15BE-4B2C-A1DA-B0E41D48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676-E17E-4BA0-9952-142C5BB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711-3766-433D-AAA2-CACBBE0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3C0F-746B-49FB-B7F1-A4A1CE1536E0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DF94-233D-4421-8882-2D9027123DFA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0066"/>
                </a:solidFill>
                <a:latin typeface="Arial"/>
              </a:rPr>
              <a:t>Outplacement </a:t>
            </a: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и кариерното консултиране като инструмент</a:t>
            </a: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133720" y="4800600"/>
            <a:ext cx="51051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ветла Сто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авел Хаджи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Tiger.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R Weekend by JobTi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-27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юни 2009 г., Боров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Кариерно консултиране при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Outplacement</a:t>
            </a: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Защо” през призмата на освободения служите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преходен мо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анти” (“вместо”) фрустриране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кариерното консултиране 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професионално ориентир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Кариерно консултиране при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Outplacement</a:t>
            </a: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Защо” от гледна точка на работодателя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имидж и рекла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гриж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външна комп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ценно е и на фона на цената </a:t>
            </a:r>
            <a:r>
              <a:rPr b="0" lang="bg-BG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Отношение “кариерен консултант – клиент”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Кариерен консулта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Освободен служит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Кариерно консултиране – странични ефекти </a:t>
            </a:r>
            <a:r>
              <a:rPr b="1" lang="bg-BG" sz="4000" spc="-1" strike="noStrike">
                <a:solidFill>
                  <a:srgbClr val="330066"/>
                </a:solidFill>
                <a:latin typeface="Wingdings"/>
                <a:ea typeface="Wingdings"/>
              </a:rPr>
              <a:t>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Себеоткриване”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талан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силни, слаби страни на харак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це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000" spc="-1" strike="noStrike">
                <a:solidFill>
                  <a:srgbClr val="000000"/>
                </a:solidFill>
                <a:latin typeface="Arial"/>
              </a:rPr>
              <a:t>желания, меч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...страничните ефекти </a:t>
            </a:r>
            <a:r>
              <a:rPr b="1" lang="bg-BG" sz="4000" spc="-1" strike="noStrike">
                <a:solidFill>
                  <a:srgbClr val="330066"/>
                </a:solidFill>
                <a:latin typeface="Wingdings"/>
                <a:ea typeface="Wingdings"/>
              </a:rPr>
              <a:t>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Нови знания и ум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Нова надеж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Самоувереност и си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330066"/>
                </a:solidFill>
                <a:latin typeface="Arial"/>
              </a:rPr>
              <a:t>„</a:t>
            </a:r>
            <a:r>
              <a:rPr b="0" i="1" lang="bg-BG" sz="4000" spc="-1" strike="noStrike">
                <a:solidFill>
                  <a:srgbClr val="330066"/>
                </a:solidFill>
                <a:latin typeface="Arial"/>
              </a:rPr>
              <a:t>Вместо да ловиш риба за някой - научи го да лови риба сам.</a:t>
            </a:r>
            <a:r>
              <a:rPr b="0" lang="bg-BG" sz="40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bg-BG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За какво ще си говорим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317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lac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зни дефин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ога и ... Д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хнология на проц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. &amp; cons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 работод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. &amp; cons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 служител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лучай от практи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алко циф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ариерно консулти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Що е 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щ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ношенията Кариерен консултант – кли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42084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траничн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Outplacement – </a:t>
            </a: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разни дефиниции...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Outplacement – </a:t>
            </a: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разни дефиниции...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581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placem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помощ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подкрепа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 за освободените служители в 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процеса на търсене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 на нова работа, осигурени от 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специализирана компания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, за сметка на 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работодател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и/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Услуга с 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реална полза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 за хората и компания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и/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Модерен 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термин на кризата и средство за </a:t>
            </a:r>
            <a:r>
              <a:rPr b="1" lang="bg-BG" sz="3000" spc="-1" strike="noStrike">
                <a:solidFill>
                  <a:srgbClr val="000000"/>
                </a:solidFill>
                <a:latin typeface="Arial"/>
              </a:rPr>
              <a:t>измъкване от отговорност</a:t>
            </a: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Outplacement – </a:t>
            </a: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кога и ...дали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България 2009 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А посл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Защ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placem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Outplacement – </a:t>
            </a: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технология на процес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ндивидуал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руп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 Job 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н-лайн програми за обучения, интерактивни обучения, психометрични изследвания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 developm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нформация за свободни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овеждани от вътрешни специал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овеждани от външни специал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омбинация от специал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ременна зает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държавните помощи и ресур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бор на критерии, по които ще се освобождават 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пределяне на бюд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пределяне на обезщетения и допълнителни разх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Outplacement – pros. &amp; cons. </a:t>
            </a: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за работодател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56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loyer br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Комун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Ум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Arial"/>
              </a:rPr>
              <a:t>БГ реално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Outplacement – pros. &amp; cons. </a:t>
            </a: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за служителите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мяна на кариер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миране на нова раб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учение и придобиване на нови знания за търсенето на работа, пазара на тру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вояване на умения за поставяне на цели, планиране и справяне със стресови ситу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азване на психичното здраве на хор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Outplacement – </a:t>
            </a:r>
            <a:r>
              <a:rPr b="1" lang="bg-BG" sz="4000" spc="-1" strike="noStrike">
                <a:solidFill>
                  <a:srgbClr val="330066"/>
                </a:solidFill>
                <a:latin typeface="Arial"/>
              </a:rPr>
              <a:t>случай от практиката</a:t>
            </a:r>
            <a:r>
              <a:rPr b="1" lang="bg-BG" sz="4000" spc="-1" strike="noStrike">
                <a:solidFill>
                  <a:srgbClr val="330066"/>
                </a:solidFill>
                <a:latin typeface="Wingdings"/>
                <a:ea typeface="Wingdings"/>
              </a:rPr>
              <a:t>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94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10:43Z</dcterms:created>
  <dc:creator>jj</dc:creator>
  <dc:description/>
  <dc:language>en-US</dc:language>
  <cp:lastModifiedBy>Svetla Stoeva</cp:lastModifiedBy>
  <dcterms:modified xsi:type="dcterms:W3CDTF">2009-06-26T05:19:5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