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720263" cy="64801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F800D-1052-4A57-B8EC-50E1FA711D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2BF-5FE8-4B07-98AC-95097DAD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2560"/>
            <a:ext cx="873288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2B1-AD7C-4A29-BB80-9900DD1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25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37425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073-B9CE-4E3D-ADCC-53D30EE8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2560"/>
            <a:ext cx="281160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3742560"/>
            <a:ext cx="281160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720" y="3742560"/>
            <a:ext cx="281160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6D4-8309-4D42-ACB2-50F6FDE0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8DF-16CD-450D-9886-AA07DF6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6A3-0BB8-4C4D-8849-D6F0861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836-5DBA-4EF7-BBDC-3246E9A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FC7-75D2-4B03-BCFA-30DD5A6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2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D4A-82AD-48D7-ADAC-22593AC3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25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B6E-ED2E-4E14-87F3-B522267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37425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18C-86CB-4450-AF96-61A6BF8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2560"/>
            <a:ext cx="8732880" cy="20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4BF-94A7-47AA-8A03-5C68A923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93840" indent="-295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26532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5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11720" indent="-1911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7440" indent="-1922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7440" indent="-1922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7440" indent="-1922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DB16F-2564-4A90-B970-AB340F4C16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0"/>
            <a:ext cx="82296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085840"/>
            <a:ext cx="66294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ployer Branding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колко маркетинг + колко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5486400"/>
            <a:ext cx="41148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Нели Христова, Икономеди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еминар на JobTi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левен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9372600" cy="403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Пътят на кандид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86400"/>
            <a:ext cx="5486400" cy="993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15000"/>
            <a:ext cx="5257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марката играе роля във всеки сантимет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от този пъ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257800"/>
            <a:ext cx="181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0400"/>
            <a:ext cx="1143000" cy="1143000"/>
          </a:xfrm>
          <a:custGeom>
            <a:avLst/>
            <a:gdLst/>
            <a:ahLst/>
            <a:rect l="l" t="t" r="r" b="b"/>
            <a:pathLst>
              <a:path w="780" h="907">
                <a:moveTo>
                  <a:pt x="390" y="0"/>
                </a:moveTo>
                <a:lnTo>
                  <a:pt x="492" y="276"/>
                </a:lnTo>
                <a:lnTo>
                  <a:pt x="780" y="228"/>
                </a:lnTo>
                <a:lnTo>
                  <a:pt x="594" y="457"/>
                </a:lnTo>
                <a:lnTo>
                  <a:pt x="780" y="679"/>
                </a:lnTo>
                <a:lnTo>
                  <a:pt x="492" y="631"/>
                </a:lnTo>
                <a:lnTo>
                  <a:pt x="390" y="907"/>
                </a:lnTo>
                <a:lnTo>
                  <a:pt x="288" y="631"/>
                </a:lnTo>
                <a:lnTo>
                  <a:pt x="0" y="679"/>
                </a:lnTo>
                <a:lnTo>
                  <a:pt x="186" y="457"/>
                </a:lnTo>
                <a:lnTo>
                  <a:pt x="0" y="228"/>
                </a:lnTo>
                <a:lnTo>
                  <a:pt x="288" y="276"/>
                </a:lnTo>
                <a:lnTo>
                  <a:pt x="390" y="0"/>
                </a:lnTo>
                <a:close/>
              </a:path>
            </a:pathLst>
          </a:cu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429000"/>
            <a:ext cx="6400800" cy="685800"/>
          </a:xfrm>
          <a:prstGeom prst="rightArrow">
            <a:avLst>
              <a:gd name="adj1" fmla="val 47333"/>
              <a:gd name="adj2" fmla="val 83395"/>
            </a:avLst>
          </a:prstGeom>
          <a:solidFill>
            <a:srgbClr val="19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971800"/>
            <a:ext cx="457200" cy="1600200"/>
          </a:xfrm>
          <a:prstGeom prst="foldedCorner">
            <a:avLst>
              <a:gd name="adj" fmla="val 125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342900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19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1148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343400"/>
            <a:ext cx="1600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Форма за киндадтст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84520" y="4510080"/>
            <a:ext cx="973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Интерв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340160"/>
            <a:ext cx="9144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Центъ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за 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343400"/>
            <a:ext cx="914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Оферта за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4343400"/>
            <a:ext cx="1143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Поддържа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на огъ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302000"/>
            <a:ext cx="1143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Базиран на бранда уелкъм п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48760" y="4114800"/>
            <a:ext cx="1371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въвежд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914400"/>
            <a:ext cx="1371600" cy="16002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Може да 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ползва,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да стимули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ангажира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и ценни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бра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86800" y="2743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685800"/>
            <a:ext cx="1371600" cy="20574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В най-доб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слу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новите х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се чувств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физиче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постъп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още пре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това да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914400"/>
            <a:ext cx="914400" cy="20574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та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дуп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може да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седм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поняк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месец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тук 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губят най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кандид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914400"/>
            <a:ext cx="914400" cy="11430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пис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за от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са същ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важни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бра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2286000"/>
            <a:ext cx="914400" cy="9144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ме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ли 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бран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ф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48040" y="714240"/>
            <a:ext cx="1600200" cy="11430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повед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интервюиращ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е съобраз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с бра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2046240"/>
            <a:ext cx="1371600" cy="114300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изисква 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и пове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отговаря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на бра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914400" cy="914400"/>
          </a:xfrm>
          <a:prstGeom prst="rect">
            <a:avLst/>
          </a:prstGeom>
          <a:solidFill>
            <a:srgbClr val="7da6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отгова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бра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9718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200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828800"/>
            <a:ext cx="228600" cy="1828800"/>
          </a:xfrm>
          <a:prstGeom prst="downArrow">
            <a:avLst>
              <a:gd name="adj1" fmla="val 50000"/>
              <a:gd name="adj2" fmla="val 200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200400"/>
            <a:ext cx="228600" cy="457200"/>
          </a:xfrm>
          <a:prstGeom prst="downArrow">
            <a:avLst>
              <a:gd name="adj1" fmla="val 43713"/>
              <a:gd name="adj2" fmla="val 6499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057400"/>
            <a:ext cx="228600" cy="1600200"/>
          </a:xfrm>
          <a:prstGeom prst="downArrow">
            <a:avLst>
              <a:gd name="adj1" fmla="val 50000"/>
              <a:gd name="adj2" fmla="val 175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200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27432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814400"/>
            <a:ext cx="7543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яка марка предлага обещание и клиентът го купува. Ако обещанието е изпълнено – е доволен, говори позитивно, рекла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ко не – спира да купува и говори негативно, не препоръчв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1124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ъвеждането на новите хора – критично за мар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9144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Ден първ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маме специална програма – прави се от ЧР от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сия, организационна и акционерна структура, проду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Филм – ценности и 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гри – целта на игрите е да накарат хората да възприемат мисията и ценните неща за компанията, да създадат неформална мрежа за помо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 първите месе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ъчник на новия ч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Ролята на преките ръководители – поведения, съобразени с бран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831000" y="5151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57200" y="11124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акво направих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611280"/>
            <a:ext cx="93726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ДП – вътрешна програма за развиване на умения за управление на 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бхват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всички хора, които управляват хора – над 70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родължителност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6 месеца, 6 мод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оду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Диагност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Въвеждане на нови хора и обратна връ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Инструктиране, делегиране, коуч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Оценка на представян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Управление на времето и стреса, Управление на конфли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Вътрешен клиент, вътрешни мр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31000" y="5151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" y="11124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И ощ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371600"/>
            <a:ext cx="914400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ътрешна комун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к уволняваме: обективно, справедливо, демонстрираме грижа за бъдещето на ч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 всяко, всяко, абсолютно всяко поведение на всеки     един менижър в компания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31000" y="5151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11124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371600"/>
            <a:ext cx="914400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514600" y="228600"/>
            <a:ext cx="39355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9810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57200"/>
            <a:ext cx="7543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ъдъ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 Икономедиа кейс стъди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ратко представяне на компания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къв е таргетът на нашия Employer Br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кво послание искаме да изпраща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кви канали използва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к се държим по време на селекционния проце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ъвежд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ътрешният фокус: ангажираност и удовлетворенос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2. Работилниц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0" y="52578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9810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Икономедиа - предст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00200"/>
            <a:ext cx="7315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57200"/>
            <a:ext cx="9372600" cy="61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Икономедиа м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Основни брандове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Капитал, Дневник, Строителство Градът, Регал, Хорема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изнес Спотлайт, MD, FP, Индекс Имоти, Джентълмен, Бакхус, Меню, dnevnik.bg, capital.bg, karieri.bg, radar.bg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Екип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80 човека, от които 200 журнал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Метрополи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основен бранд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а града,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екип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 човека (за сега), от които 8 журнали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ФинСи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консултиране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екип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ч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CT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Основни брандове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C World, Computerworld, Digital World, Network World, 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Екип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8 човека, от които 25 журнал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Юкономикс - основни брандове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Ютилитис, Фасилитис, Maintenanc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Екип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0 човека, от които 10 журналисти, консулта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ia Echo Media - Екип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0  човека, от които 15 журнали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Печатница Дружба 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7086600"/>
            <a:ext cx="3657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286000"/>
            <a:ext cx="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914400" y="1744200"/>
            <a:ext cx="77724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57200"/>
            <a:ext cx="8458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а какви хора искаме да се харесва нашата работодателска мар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ициа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дейни и креа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юбопи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пор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дприемч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тусиази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фесионал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ак го решихме т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0"/>
            <a:ext cx="7891560" cy="4800600"/>
          </a:xfrm>
          <a:prstGeom prst="cloudCallout">
            <a:avLst>
              <a:gd name="adj1" fmla="val -60416"/>
              <a:gd name="adj2" fmla="val 6065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Извадка от мисията на компания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Най-ценният ни капитал са хорат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а тяхното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вдъхновение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професионализъ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най-голямото ни предимст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Затова търсим и развиваме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таланти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Насърчаваме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упоритите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любопитните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креативните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инициативните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0" y="52578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57200"/>
            <a:ext cx="9372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акво ще докосне сърцето и разума на тези х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итаме хората, които работят вече при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 време на интервютата питаме и хората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ито кандидатстват за работа при на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тервюта при напуск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акво се получа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тересна работа, много контакти, забав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ъзможност за развит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ъзможност да реализират собствените си иде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еформална работна среда (няма дрескод, възможност за собствен стил на обличане, няма строга йерархия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чествени продукти (според тях, но и според другите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 една дума: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голяма доза своб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57200"/>
            <a:ext cx="9372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ъде са тези х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шият опит показва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основн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 университетит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аргетирани от нас като фоку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СУ – стопански факултет, журналистически факул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УНСС – всички икономически специалности и журн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АУБГ – журналистика и бизнес админис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НБУ – медии, дизайн и икономически специа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ма такива и в конкурентни компании/м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ма известен процент и в други неконкурентни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08080"/>
            <a:ext cx="937260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акви канали използваме, за да стигнем до 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За университе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есни връзки с кариерните центрове на тези университети и участие в техните кариерни панаири, сайтовете им и т.н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есни връзки с Бизнес клуба на Стопански факултет и AIESEC, сътрудничество по про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частие като лектори в студентски инициативи без пряка реклама на компанията като работодател – StartUp, Leadership Day, Бизнесът в действие!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частие в кариерния форум на Job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За остана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яви и визии в Капитал Кари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яви, визии, видео в Karieri.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риерна секция в economedia.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ши служители – прог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поръчай нов коле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509760"/>
            <a:ext cx="4800600" cy="597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06280" y="914400"/>
            <a:ext cx="3222720" cy="4314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11124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артинките имат значени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858000" y="457200"/>
            <a:ext cx="286236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17220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719360" cy="1450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457200"/>
            <a:ext cx="708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5029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914400" cy="76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11124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Сайтът, wik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9400" y="2514600"/>
            <a:ext cx="487980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343400" y="352440"/>
            <a:ext cx="5048280" cy="3990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7200" y="685800"/>
            <a:ext cx="5337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ели Христова</dc:creator>
  <dc:description/>
  <dc:language>en-US</dc:language>
  <cp:lastModifiedBy>dilyanas</cp:lastModifiedBy>
  <dcterms:modified xsi:type="dcterms:W3CDTF">2008-07-07T12:49:52Z</dcterms:modified>
  <cp:revision>1</cp:revision>
  <dc:subject/>
  <dc:title>PowerPoint Presentation</dc:title>
</cp:coreProperties>
</file>