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13880" y="744120"/>
            <a:ext cx="537228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133b9c"/>
                </a:solidFill>
                <a:latin typeface="Verdana"/>
              </a:rPr>
              <a:t>Click to move the slide</a:t>
            </a: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92E12C-18A6-46DC-9A5E-30C7585A41C2}" type="slidenum">
              <a:rPr b="0" lang="it-IT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6F4-053F-441C-9125-F73B9CEFB02B}" type="slidenum">
              <a:rPr b="0" lang="en-US" sz="1200" spc="-1" strike="noStrike">
                <a:solidFill>
                  <a:srgbClr val="133b9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DAY 1 10:45 – 13:00 MARC DE TURC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619-BB8E-4B93-9DEE-145EDF883187}" type="slidenum">
              <a:rPr b="0" lang="en-US" sz="1200" spc="-1" strike="noStrike">
                <a:solidFill>
                  <a:srgbClr val="133b9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721512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86080" y="3734280"/>
            <a:ext cx="721512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32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86080" y="373428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3280" y="373428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25800" y="146952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5160" y="146952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86080" y="373428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25800" y="373428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5160" y="3734280"/>
            <a:ext cx="232308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86080" y="1469520"/>
            <a:ext cx="72151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721512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352080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3280" y="1469520"/>
            <a:ext cx="352080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-360"/>
            <a:ext cx="842004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3280" y="1469520"/>
            <a:ext cx="352080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86080" y="373428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352080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32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3280" y="373428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60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3280" y="1469520"/>
            <a:ext cx="352080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86080" y="3734280"/>
            <a:ext cx="7215120" cy="20678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86080" y="1469520"/>
            <a:ext cx="721512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1" marL="262080" indent="-262080">
              <a:spcBef>
                <a:spcPts val="425"/>
              </a:spcBef>
              <a:buClr>
                <a:srgbClr val="133b9c"/>
              </a:buClr>
              <a:buFont typeface="Lucida Grande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2" marL="262080" indent="-262080">
              <a:spcBef>
                <a:spcPts val="425"/>
              </a:spcBef>
              <a:buClr>
                <a:srgbClr val="133b9c"/>
              </a:buClr>
              <a:buFont typeface="Lucida Grande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3" marL="262080" indent="-262080">
              <a:spcBef>
                <a:spcPts val="425"/>
              </a:spcBef>
              <a:buClr>
                <a:srgbClr val="133b9c"/>
              </a:buClr>
              <a:buFont typeface="Lucida Grande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4" marL="262080" indent="-262080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5" marL="262080" indent="-262080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lvl="6" marL="262080" indent="-262080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133b9c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743040" y="6523200"/>
            <a:ext cx="206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480" tIns="0" bIns="0" anchor="b">
            <a:noAutofit/>
          </a:bodyPr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June 2008</a:t>
            </a: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65240" y="152280"/>
            <a:ext cx="1320840" cy="121932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133b9c"/>
                </a:solidFill>
                <a:latin typeface="Verdana"/>
              </a:rPr>
              <a:t>Click to edit the title text format</a:t>
            </a: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7869240" y="149400"/>
            <a:ext cx="151776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noAutofit/>
          </a:bodyPr>
          <a:p>
            <a:pPr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160960" y="6629400"/>
            <a:ext cx="321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480" tIns="0" bIns="0" anchor="b">
            <a:noAutofit/>
          </a:bodyPr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                     </a:t>
            </a: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          </a:t>
            </a: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133b9c"/>
                </a:solidFill>
                <a:latin typeface="Verdana"/>
              </a:rPr>
              <a:t>                                     </a:t>
            </a:r>
            <a:endParaRPr b="0" lang="en-US" sz="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7869240" y="149400"/>
            <a:ext cx="151776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360" bIns="54360" anchor="t">
            <a:noAutofit/>
          </a:bodyPr>
          <a:p>
            <a:pPr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5160960" y="6629400"/>
            <a:ext cx="321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480" tIns="0" bIns="0" anchor="b">
            <a:noAutofit/>
          </a:bodyPr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                     </a:t>
            </a: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133b9c"/>
                </a:solidFill>
                <a:latin typeface="Verdana"/>
              </a:rPr>
              <a:t>          </a:t>
            </a:r>
            <a:endParaRPr b="0" lang="en-US" sz="1000" spc="-1" strike="noStrike">
              <a:solidFill>
                <a:srgbClr val="133b9c"/>
              </a:solidFill>
              <a:latin typeface="Verdana"/>
            </a:endParaRPr>
          </a:p>
          <a:p>
            <a:pPr marL="396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133b9c"/>
                </a:solidFill>
                <a:latin typeface="Verdana"/>
              </a:rPr>
              <a:t>                                     </a:t>
            </a:r>
            <a:endParaRPr b="0" lang="en-US" sz="8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1800" y="476280"/>
            <a:ext cx="8420040" cy="79200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КОМУНИКАЦИЯ С</a:t>
            </a:r>
            <a:r>
              <a:rPr b="0" lang="bg-BG" sz="2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р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АВ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и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 И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под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ЧИ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ени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52520" y="278136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А НЕ СМЕ ЛИ ВСИЧКИ РАВНИ? 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ЗА СЪЖАЛЕНИЕ </a:t>
            </a:r>
            <a:r>
              <a:rPr b="0" lang="bg-BG" sz="1500" spc="-1" strike="noStrike">
                <a:solidFill>
                  <a:srgbClr val="133b9c"/>
                </a:solidFill>
                <a:latin typeface="Wingdings"/>
                <a:ea typeface="Wingdings"/>
              </a:rPr>
              <a:t>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КОМУНИКАЦИЯ С</a:t>
            </a:r>
            <a:r>
              <a:rPr b="0" lang="bg-BG" sz="2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р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АВ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и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 И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под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ЧИ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ени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1469520"/>
            <a:ext cx="353052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bg-BG" sz="1500" spc="-1" strike="noStrike">
                <a:solidFill>
                  <a:srgbClr val="133b9c"/>
                </a:solidFill>
                <a:latin typeface="Verdana"/>
              </a:rPr>
              <a:t>Дарина Петрова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bg-BG" sz="1500" spc="-1" strike="noStrike">
                <a:solidFill>
                  <a:srgbClr val="133b9c"/>
                </a:solidFill>
                <a:latin typeface="Verdana"/>
              </a:rPr>
              <a:t>Старши Администратор ЧР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ДАРИ </a:t>
            </a:r>
            <a:r>
              <a:rPr b="0" lang="bg-BG" sz="1500" spc="-1" strike="noStrike">
                <a:solidFill>
                  <a:srgbClr val="133b9c"/>
                </a:solidFill>
                <a:latin typeface="Wingdings"/>
                <a:ea typeface="Wingdings"/>
              </a:rPr>
              <a:t></a:t>
            </a: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8880" y="1469520"/>
            <a:ext cx="353232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bg-BG" sz="1500" spc="-1" strike="noStrike">
                <a:solidFill>
                  <a:srgbClr val="133b9c"/>
                </a:solidFill>
                <a:latin typeface="Verdana"/>
              </a:rPr>
              <a:t>Евгения Иванова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bg-BG" sz="1500" spc="-1" strike="noStrike">
                <a:solidFill>
                  <a:srgbClr val="133b9c"/>
                </a:solidFill>
                <a:latin typeface="Verdana"/>
              </a:rPr>
              <a:t>Мениджър ЧР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ЖЕНИ </a:t>
            </a:r>
            <a:r>
              <a:rPr b="0" lang="bg-BG" sz="1500" spc="-1" strike="noStrike">
                <a:solidFill>
                  <a:srgbClr val="133b9c"/>
                </a:solidFill>
                <a:latin typeface="Wingdings"/>
                <a:ea typeface="Wingdings"/>
              </a:rPr>
              <a:t>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790560" y="955800"/>
            <a:ext cx="8236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8775720" y="6597720"/>
            <a:ext cx="113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48C-097D-44A3-AD9E-AEAD358B575C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600"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r>
              <a:rPr b="1" lang="bg-BG" sz="2100" spc="-1" strike="noStrike">
                <a:solidFill>
                  <a:srgbClr val="133b9c"/>
                </a:solidFill>
                <a:latin typeface="Verdana"/>
              </a:rPr>
              <a:t>ОСНОВИ НА КОМУНИКАЦИЯТА И РАЗБИРАНЕТО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159000" y="2637000"/>
            <a:ext cx="2652840" cy="252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133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62640" y="2276640"/>
            <a:ext cx="397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33b9c"/>
                </a:solidFill>
                <a:latin typeface="Arial"/>
                <a:ea typeface="Arial"/>
              </a:rPr>
              <a:t>Комуникация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22640" y="537372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33b9c"/>
                </a:solidFill>
                <a:latin typeface="Arial"/>
                <a:ea typeface="Arial"/>
              </a:rPr>
              <a:t>Афинитет</a:t>
            </a:r>
            <a:r>
              <a:rPr b="1" lang="nl-BE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811840" y="537372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33b9c"/>
                </a:solidFill>
                <a:latin typeface="Arial"/>
                <a:ea typeface="Arial"/>
              </a:rPr>
              <a:t>Реалност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924280" y="4506840"/>
            <a:ext cx="32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7a00"/>
                </a:solidFill>
                <a:latin typeface="Arial"/>
                <a:ea typeface="Arial"/>
              </a:rPr>
              <a:t>Разбиране</a:t>
            </a:r>
            <a:endParaRPr b="0" lang="en-US" sz="22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775720" y="6597720"/>
            <a:ext cx="113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135-DF47-4102-89DD-8C25ED5B4053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100"/>
            </a:br>
            <a:br>
              <a:rPr sz="1900"/>
            </a:br>
            <a:br>
              <a:rPr sz="1900"/>
            </a:br>
            <a:r>
              <a:rPr b="1" lang="bg-BG" sz="2100" spc="-1" strike="noStrike">
                <a:solidFill>
                  <a:srgbClr val="133b9c"/>
                </a:solidFill>
                <a:latin typeface="Verdana"/>
              </a:rPr>
              <a:t>КОМУНИКАЦИОННА ФОРМУЛА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7240" y="2565000"/>
            <a:ext cx="89154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Причина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Намерени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Внимани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Разстояни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Ефект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Копиран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Разбиран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Потвърждение / признание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          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НЯКОЛКО ПРАВИЛА КАК ДА КОМУНИКИРАМЕ…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52520" y="1469520"/>
            <a:ext cx="366408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БЪДЕМ ДОБРИ ПРИЕМНИЦИ НА ИНФОРМАЦИЯ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ПООЩРЯВАМЕ ИДЕИТЕ НА ДРУГИЯ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ПОКАЗВАМЕ, ЧЕ УВАЖАВАМЕ ТЕЗИ ИДЕИ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АКО НЕ РАЗБИРАМЕ НЕЧИЯ ИДЕЯ – ДА СЕ ОПИТАМЕ ДА Я ПОВТОРИМ И ОПИШЕМ СЪС СВОИ ДУМИ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НАИСТИНА ДА СЛУШАМЕ ДРУГАТА СТРАНА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ПИТАМЕ ЗА МНЕНИЕТО НА ДРУГИЯ – ДОРИ И ПОДЧИНЕН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ПОДКРЕПЯМЕ ЧУЖДАТА ИДЕЯ, ДОРИ И РАЗЛИЧНА ОТ СОБСТВЕНАТА 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8520" y="1413000"/>
            <a:ext cx="3745080" cy="446400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ИЗКАЗВАМЕ ПРОСТО СОБСТВЕНИТЕ СИ ИДЕИ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ИЗПОЛЗВАМЕ ВНИМАТЕЛНО ДУМИТЕ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АКО ИМАМЕ ДА СЪОБЩИМ ЛОША НОВИНА – ДА ГО НАПРАВИМ ДИСКРЕТНО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СМЕ НАЯСНО СЪС СВОЯ СТИЛ НА КОМУНИКАЦИЯ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ВНИМАНИЕТО ДА Е НАСОЧЕНО КЪМ ПРОБЛЕМА, НЕ КЪМ ЛИЧНОСТТА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СЕ ОТНАСЯМЕ ПОЗИТИВНО КЪМ НОВИТЕ ИДЕИ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НЕ КРИТИКУВАЙТЕ ЗАД ГЪРБА НА НЯКОГО, ЗА ДА ПЕЧЕЛИТЕ ДОВЕРИЕТО НА ДРУГ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АКО НЕ СЕ СЪГЛАСЯВАТЕ С НЯКОГО, НЕ ГО ПОКАЗВАЙТЕ ПРЕД ДРУГИТЕ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АКО НЯКОЙ ВИ Е ЯДОСАН …   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790560" y="955800"/>
            <a:ext cx="8236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333000"/>
            <a:ext cx="8420040" cy="97956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bg-BG" sz="2300" spc="-1" strike="noStrike">
                <a:solidFill>
                  <a:srgbClr val="133b9c"/>
                </a:solidFill>
                <a:latin typeface="Arial"/>
              </a:rPr>
              <a:t>Човешкият фактор в общуването</a:t>
            </a:r>
            <a:endParaRPr b="1" lang="en-US" sz="23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6080" y="3141360"/>
            <a:ext cx="7215120" cy="266364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-262080"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не бъдем безразлични към сърцата на тези, с които общуваме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marL="262080" indent="0" algn="r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marL="262080" indent="-262080"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помним винаги, че срещу нас стои Човешко същество, също като нас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marL="262080" indent="0" algn="r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marL="262080" indent="-262080" algn="r"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300" spc="-1" strike="noStrike">
                <a:solidFill>
                  <a:srgbClr val="133b9c"/>
                </a:solidFill>
                <a:latin typeface="Verdana"/>
              </a:rPr>
              <a:t>Да се стремим да общуваме с другите така, както ние желаем другите да общуват с нас</a:t>
            </a: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  <a:p>
            <a:pPr marL="262080" indent="0" algn="r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9700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133b9c"/>
                </a:solidFill>
                <a:latin typeface="Verdana"/>
              </a:rPr>
              <a:t>ВСИЧКО, КОЕТО КАЗВАМЕ Е  ХУБАВО ДА МИНЕ ПРЕЗ ТРИ ВРАТИ</a:t>
            </a:r>
            <a:r>
              <a:rPr b="1" lang="bg-BG" sz="1700" spc="-1" strike="noStrike">
                <a:solidFill>
                  <a:srgbClr val="133b9c"/>
                </a:solidFill>
                <a:latin typeface="Verdana"/>
              </a:rPr>
              <a:t>:</a:t>
            </a:r>
            <a:endParaRPr b="1" lang="en-US" sz="17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5720" y="2060640"/>
            <a:ext cx="6562440" cy="252072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ДАЛИ Е ДОБРО ?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Е ЛИ НЕОБХОДИМО ?? 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spcBef>
                <a:spcPts val="425"/>
              </a:spcBef>
              <a:buClr>
                <a:srgbClr val="133b9c"/>
              </a:buClr>
              <a:buFont typeface="Time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133b9c"/>
                </a:solidFill>
                <a:latin typeface="Verdana"/>
              </a:rPr>
              <a:t>А ДАЛИ Е ВЯРНО ??? 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790560" y="955800"/>
            <a:ext cx="8236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86080" y="1469520"/>
            <a:ext cx="7215120" cy="4335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rmAutofit/>
          </a:bodyPr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marL="262080" indent="0" algn="ctr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bg-BG" sz="2400" spc="-1" strike="noStrike">
                <a:solidFill>
                  <a:srgbClr val="133b9c"/>
                </a:solidFill>
                <a:latin typeface="Verdana"/>
              </a:rPr>
              <a:t>СПОДЕЛЕТЕ ПРИМЕРИ ОТ ВАШИТЕ ПРАКТИКИ...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1800" y="476280"/>
            <a:ext cx="8420040" cy="79200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b">
            <a:noAutofit/>
          </a:bodyPr>
          <a:p>
            <a:pPr marL="39600"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КОМУНИКАЦИЯ С</a:t>
            </a:r>
            <a:r>
              <a:rPr b="0" lang="bg-BG" sz="23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р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АВ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и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 И 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под</a:t>
            </a:r>
            <a:r>
              <a:rPr b="1" lang="bg-BG" sz="2300" spc="-1" strike="noStrike">
                <a:solidFill>
                  <a:srgbClr val="133b9c"/>
                </a:solidFill>
                <a:latin typeface="Verdana"/>
              </a:rPr>
              <a:t>ЧИН</a:t>
            </a:r>
            <a:r>
              <a:rPr b="0" lang="bg-BG" sz="2100" spc="-1" strike="noStrike">
                <a:solidFill>
                  <a:srgbClr val="133b9c"/>
                </a:solidFill>
                <a:latin typeface="Verdana"/>
              </a:rPr>
              <a:t>ени</a:t>
            </a:r>
            <a:endParaRPr b="1" lang="en-US" sz="2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52520" y="278136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53280" rIns="95760" tIns="53280" bIns="5328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А НЕ СМЕ ЛИ ВСИЧКИ РАВНИ? 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bg-BG" sz="1500" spc="-1" strike="noStrike">
                <a:solidFill>
                  <a:srgbClr val="133b9c"/>
                </a:solidFill>
                <a:latin typeface="Verdana"/>
              </a:rPr>
              <a:t>ЗА СЪЖАЛЕНИЕ </a:t>
            </a:r>
            <a:r>
              <a:rPr b="0" lang="bg-BG" sz="1500" spc="-1" strike="noStrike">
                <a:solidFill>
                  <a:srgbClr val="133b9c"/>
                </a:solidFill>
                <a:latin typeface="Wingdings"/>
                <a:ea typeface="Wingdings"/>
              </a:rPr>
              <a:t></a:t>
            </a:r>
            <a:endParaRPr b="0" lang="en-US" sz="15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 della copia di valutazione di Office 2004</dc:creator>
  <dc:description/>
  <cp:keywords/>
  <dc:language>en-US</dc:language>
  <cp:lastModifiedBy>svetlozarp</cp:lastModifiedBy>
  <dcterms:modified xsi:type="dcterms:W3CDTF">2008-06-27T09:38:17Z</dcterms:modified>
  <cp:revision>144</cp:revision>
  <dc:subject/>
  <dc:title>Presentazione di PowerPoint</dc:title>
</cp:coreProperties>
</file>