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97D0-FA5F-4016-BAD4-7F4B3BFD6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918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C4B8-37F7-43FB-BEFE-00DEF0BC4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F7F4-852E-4C02-87C4-72C638A7C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0B36-6705-44C7-947C-4A9AD4709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65976-8643-46C2-AAF1-9E107791EB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84A7-219F-4B27-BD39-C6AEC4A8F2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E8F4-B19B-4E32-B4D3-ABF2A61DB5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23A00-DB61-4057-AA56-CB65225DC9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8FAF2-4C05-408D-B92E-A537626916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14256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9710F-510A-4F8E-88CD-27D55DF3FF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3204-3E45-4277-B939-8596DCEE4F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51CB-703D-498A-A280-47D44BA21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6FCD7-673A-48DC-A00F-44AE14BE2E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1E4E6-5C92-4F84-A559-B25F0BE691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3918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DD7A-332D-49E8-A169-C69DDCD052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2D390-9E79-4535-BE83-B368262262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C423-F6E4-4682-806F-A8B7F3A442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CF5E-79F2-4709-8C81-8EAF91228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C3C7-A13E-40D6-8638-664E55CC0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A657-1333-4BF4-8467-9F77C87B2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80880" y="14256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3298-25A4-4B5B-A9B3-8C0FD4C11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CD47-2BD3-46A2-945A-6999680FD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3744-BC16-4E7B-9A70-CF90FFC49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BA7D-6E85-4B3E-A399-949D40F61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825480"/>
            <a:ext cx="9093240" cy="6032520"/>
          </a:xfrm>
          <a:custGeom>
            <a:avLst/>
            <a:gdLst/>
            <a:ahLst/>
            <a:rect l="l" t="t" r="r" b="b"/>
            <a:pathLst>
              <a:path w="5520" h="3284">
                <a:moveTo>
                  <a:pt x="3216" y="195"/>
                </a:moveTo>
                <a:cubicBezTo>
                  <a:pt x="1608" y="195"/>
                  <a:pt x="0" y="195"/>
                  <a:pt x="0" y="195"/>
                </a:cubicBezTo>
                <a:lnTo>
                  <a:pt x="0" y="3284"/>
                </a:lnTo>
                <a:lnTo>
                  <a:pt x="5520" y="3284"/>
                </a:lnTo>
                <a:lnTo>
                  <a:pt x="5520" y="20"/>
                </a:lnTo>
                <a:cubicBezTo>
                  <a:pt x="5520" y="20"/>
                  <a:pt x="4800" y="20"/>
                  <a:pt x="4080" y="20"/>
                </a:cubicBezTo>
                <a:cubicBezTo>
                  <a:pt x="3808" y="0"/>
                  <a:pt x="3696" y="116"/>
                  <a:pt x="3696" y="116"/>
                </a:cubicBezTo>
                <a:cubicBezTo>
                  <a:pt x="3696" y="116"/>
                  <a:pt x="3568" y="195"/>
                  <a:pt x="3216" y="195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880240" y="838080"/>
            <a:ext cx="2882880" cy="304920"/>
            <a:chOff x="5880240" y="838080"/>
            <a:chExt cx="2882880" cy="304920"/>
          </a:xfrm>
        </p:grpSpPr>
        <p:sp>
          <p:nvSpPr>
            <p:cNvPr id="3" name=""/>
            <p:cNvSpPr/>
            <p:nvPr/>
          </p:nvSpPr>
          <p:spPr>
            <a:xfrm>
              <a:off x="5880240" y="838080"/>
              <a:ext cx="1788840" cy="273240"/>
            </a:xfrm>
            <a:custGeom>
              <a:avLst/>
              <a:gdLst/>
              <a:ahLst/>
              <a:rect l="l" t="t" r="r" b="b"/>
              <a:pathLst>
                <a:path w="1127" h="172">
                  <a:moveTo>
                    <a:pt x="0" y="172"/>
                  </a:moveTo>
                  <a:lnTo>
                    <a:pt x="1127" y="172"/>
                  </a:lnTo>
                  <a:lnTo>
                    <a:pt x="1124" y="0"/>
                  </a:lnTo>
                  <a:lnTo>
                    <a:pt x="524" y="0"/>
                  </a:lnTo>
                  <a:cubicBezTo>
                    <a:pt x="120" y="0"/>
                    <a:pt x="0" y="172"/>
                    <a:pt x="0" y="172"/>
                  </a:cubicBezTo>
                  <a:close/>
                </a:path>
              </a:pathLst>
            </a:custGeom>
            <a:solidFill>
              <a:srgbClr val="a18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543800" y="838080"/>
              <a:ext cx="1219320" cy="304920"/>
            </a:xfrm>
            <a:prstGeom prst="rect">
              <a:avLst/>
            </a:prstGeom>
            <a:solidFill>
              <a:srgbClr val="a18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0" y="957240"/>
            <a:ext cx="8763120" cy="5641920"/>
          </a:xfrm>
          <a:custGeom>
            <a:avLst/>
            <a:gdLst/>
            <a:ahLst/>
            <a:rect l="l" t="t" r="r" b="b"/>
            <a:pathLst>
              <a:path w="5513" h="3285">
                <a:moveTo>
                  <a:pt x="4093" y="2"/>
                </a:moveTo>
                <a:cubicBezTo>
                  <a:pt x="3865" y="0"/>
                  <a:pt x="3741" y="62"/>
                  <a:pt x="3699" y="92"/>
                </a:cubicBezTo>
                <a:cubicBezTo>
                  <a:pt x="3639" y="129"/>
                  <a:pt x="3606" y="180"/>
                  <a:pt x="3249" y="179"/>
                </a:cubicBezTo>
                <a:cubicBezTo>
                  <a:pt x="1624" y="179"/>
                  <a:pt x="0" y="179"/>
                  <a:pt x="0" y="179"/>
                </a:cubicBezTo>
                <a:lnTo>
                  <a:pt x="0" y="3285"/>
                </a:lnTo>
                <a:lnTo>
                  <a:pt x="5513" y="3285"/>
                </a:lnTo>
                <a:lnTo>
                  <a:pt x="5513" y="2"/>
                </a:lnTo>
                <a:lnTo>
                  <a:pt x="4093" y="2"/>
                </a:lnTo>
                <a:cubicBezTo>
                  <a:pt x="4093" y="2"/>
                  <a:pt x="4093" y="2"/>
                  <a:pt x="4093" y="2"/>
                </a:cubicBezTo>
                <a:close/>
              </a:path>
            </a:pathLst>
          </a:custGeom>
          <a:solidFill>
            <a:srgbClr val="003f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8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3000" indent="-243000">
              <a:lnSpc>
                <a:spcPct val="10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71360">
              <a:lnSpc>
                <a:spcPct val="105000"/>
              </a:lnSpc>
              <a:spcBef>
                <a:spcPts val="499"/>
              </a:spcBef>
              <a:buClr>
                <a:srgbClr val="e633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07960" indent="-90360">
              <a:lnSpc>
                <a:spcPct val="105000"/>
              </a:lnSpc>
              <a:spcBef>
                <a:spcPts val="499"/>
              </a:spcBef>
              <a:buClr>
                <a:srgbClr val="e633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92080" indent="-193680">
              <a:lnSpc>
                <a:spcPct val="105000"/>
              </a:lnSpc>
              <a:spcBef>
                <a:spcPts val="499"/>
              </a:spcBef>
              <a:buClr>
                <a:srgbClr val="e633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71520" indent="-189000">
              <a:lnSpc>
                <a:spcPct val="105000"/>
              </a:lnSpc>
              <a:spcBef>
                <a:spcPts val="499"/>
              </a:spcBef>
              <a:buClr>
                <a:srgbClr val="e6332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71520" indent="-1890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71520" indent="-1890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466040" y="0"/>
            <a:ext cx="1677960" cy="75420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-17640" y="825480"/>
            <a:ext cx="8780400" cy="5771880"/>
            <a:chOff x="-17640" y="825480"/>
            <a:chExt cx="8780400" cy="5771880"/>
          </a:xfrm>
        </p:grpSpPr>
        <p:grpSp>
          <p:nvGrpSpPr>
            <p:cNvPr id="10" name=""/>
            <p:cNvGrpSpPr/>
            <p:nvPr/>
          </p:nvGrpSpPr>
          <p:grpSpPr>
            <a:xfrm>
              <a:off x="5874120" y="825480"/>
              <a:ext cx="2888280" cy="329400"/>
              <a:chOff x="5874120" y="825480"/>
              <a:chExt cx="2888280" cy="329400"/>
            </a:xfrm>
          </p:grpSpPr>
          <p:sp>
            <p:nvSpPr>
              <p:cNvPr id="11" name=""/>
              <p:cNvSpPr/>
              <p:nvPr/>
            </p:nvSpPr>
            <p:spPr>
              <a:xfrm>
                <a:off x="5874120" y="825480"/>
                <a:ext cx="1792080" cy="295200"/>
              </a:xfrm>
              <a:custGeom>
                <a:avLst/>
                <a:gdLst/>
                <a:ahLst/>
                <a:rect l="l" t="t" r="r" b="b"/>
                <a:pathLst>
                  <a:path w="1127" h="172">
                    <a:moveTo>
                      <a:pt x="0" y="172"/>
                    </a:moveTo>
                    <a:lnTo>
                      <a:pt x="1127" y="172"/>
                    </a:lnTo>
                    <a:lnTo>
                      <a:pt x="1124" y="0"/>
                    </a:lnTo>
                    <a:lnTo>
                      <a:pt x="524" y="0"/>
                    </a:lnTo>
                    <a:cubicBezTo>
                      <a:pt x="120" y="0"/>
                      <a:pt x="0" y="172"/>
                      <a:pt x="0" y="172"/>
                    </a:cubicBezTo>
                    <a:close/>
                  </a:path>
                </a:pathLst>
              </a:custGeom>
              <a:solidFill>
                <a:srgbClr val="a18972"/>
              </a:solidFill>
              <a:ln w="19080">
                <a:solidFill>
                  <a:srgbClr val="a189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540920" y="825480"/>
                <a:ext cx="1221480" cy="329400"/>
              </a:xfrm>
              <a:prstGeom prst="rect">
                <a:avLst/>
              </a:prstGeom>
              <a:solidFill>
                <a:srgbClr val="a18972"/>
              </a:solidFill>
              <a:ln w="19080">
                <a:solidFill>
                  <a:srgbClr val="a189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-17640" y="954360"/>
              <a:ext cx="8780400" cy="5643000"/>
            </a:xfrm>
            <a:custGeom>
              <a:avLst/>
              <a:gdLst/>
              <a:ahLst/>
              <a:rect l="l" t="t" r="r" b="b"/>
              <a:pathLst>
                <a:path w="5513" h="3285">
                  <a:moveTo>
                    <a:pt x="4093" y="2"/>
                  </a:moveTo>
                  <a:cubicBezTo>
                    <a:pt x="3865" y="0"/>
                    <a:pt x="3741" y="62"/>
                    <a:pt x="3699" y="92"/>
                  </a:cubicBezTo>
                  <a:cubicBezTo>
                    <a:pt x="3639" y="129"/>
                    <a:pt x="3606" y="180"/>
                    <a:pt x="3249" y="179"/>
                  </a:cubicBezTo>
                  <a:cubicBezTo>
                    <a:pt x="1624" y="179"/>
                    <a:pt x="0" y="179"/>
                    <a:pt x="0" y="179"/>
                  </a:cubicBezTo>
                  <a:lnTo>
                    <a:pt x="0" y="3285"/>
                  </a:lnTo>
                  <a:lnTo>
                    <a:pt x="5513" y="3285"/>
                  </a:lnTo>
                  <a:lnTo>
                    <a:pt x="5513" y="2"/>
                  </a:lnTo>
                  <a:lnTo>
                    <a:pt x="4093" y="2"/>
                  </a:lnTo>
                  <a:cubicBezTo>
                    <a:pt x="4093" y="2"/>
                    <a:pt x="4093" y="2"/>
                    <a:pt x="4093" y="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a189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73E6-C4C7-4012-A921-589FB5CC31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825480"/>
            <a:ext cx="9093240" cy="6032520"/>
          </a:xfrm>
          <a:custGeom>
            <a:avLst/>
            <a:gdLst/>
            <a:ahLst/>
            <a:rect l="l" t="t" r="r" b="b"/>
            <a:pathLst>
              <a:path w="5520" h="3284">
                <a:moveTo>
                  <a:pt x="3216" y="195"/>
                </a:moveTo>
                <a:cubicBezTo>
                  <a:pt x="1608" y="195"/>
                  <a:pt x="0" y="195"/>
                  <a:pt x="0" y="195"/>
                </a:cubicBezTo>
                <a:lnTo>
                  <a:pt x="0" y="3284"/>
                </a:lnTo>
                <a:lnTo>
                  <a:pt x="5520" y="3284"/>
                </a:lnTo>
                <a:lnTo>
                  <a:pt x="5520" y="20"/>
                </a:lnTo>
                <a:cubicBezTo>
                  <a:pt x="5520" y="20"/>
                  <a:pt x="4800" y="20"/>
                  <a:pt x="4080" y="20"/>
                </a:cubicBezTo>
                <a:cubicBezTo>
                  <a:pt x="3808" y="0"/>
                  <a:pt x="3696" y="116"/>
                  <a:pt x="3696" y="116"/>
                </a:cubicBezTo>
                <a:cubicBezTo>
                  <a:pt x="3696" y="116"/>
                  <a:pt x="3568" y="195"/>
                  <a:pt x="3216" y="195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923160" y="1398600"/>
            <a:ext cx="901800" cy="100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284720" y="350028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6659640" y="2563920"/>
            <a:ext cx="1330200" cy="15127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486320" y="838080"/>
            <a:ext cx="4276800" cy="330120"/>
            <a:chOff x="4486320" y="838080"/>
            <a:chExt cx="4276800" cy="330120"/>
          </a:xfrm>
        </p:grpSpPr>
        <p:sp>
          <p:nvSpPr>
            <p:cNvPr id="57" name=""/>
            <p:cNvSpPr/>
            <p:nvPr/>
          </p:nvSpPr>
          <p:spPr>
            <a:xfrm>
              <a:off x="4486320" y="838080"/>
              <a:ext cx="1789200" cy="295920"/>
            </a:xfrm>
            <a:custGeom>
              <a:avLst/>
              <a:gdLst/>
              <a:ahLst/>
              <a:rect l="l" t="t" r="r" b="b"/>
              <a:pathLst>
                <a:path w="1127" h="172">
                  <a:moveTo>
                    <a:pt x="0" y="172"/>
                  </a:moveTo>
                  <a:lnTo>
                    <a:pt x="1127" y="172"/>
                  </a:lnTo>
                  <a:lnTo>
                    <a:pt x="1124" y="0"/>
                  </a:lnTo>
                  <a:lnTo>
                    <a:pt x="524" y="0"/>
                  </a:lnTo>
                  <a:cubicBezTo>
                    <a:pt x="120" y="0"/>
                    <a:pt x="0" y="172"/>
                    <a:pt x="0" y="172"/>
                  </a:cubicBezTo>
                  <a:close/>
                </a:path>
              </a:pathLst>
            </a:custGeom>
            <a:solidFill>
              <a:srgbClr val="a18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72200" y="838080"/>
              <a:ext cx="2590920" cy="330120"/>
            </a:xfrm>
            <a:prstGeom prst="rect">
              <a:avLst/>
            </a:prstGeom>
            <a:solidFill>
              <a:srgbClr val="a18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0" y="961920"/>
            <a:ext cx="8763120" cy="5637240"/>
            <a:chOff x="0" y="961920"/>
            <a:chExt cx="8763120" cy="5637240"/>
          </a:xfrm>
        </p:grpSpPr>
        <p:sp>
          <p:nvSpPr>
            <p:cNvPr id="60" name=""/>
            <p:cNvSpPr/>
            <p:nvPr/>
          </p:nvSpPr>
          <p:spPr>
            <a:xfrm>
              <a:off x="6781680" y="4043520"/>
              <a:ext cx="1981440" cy="2555640"/>
            </a:xfrm>
            <a:prstGeom prst="rect">
              <a:avLst/>
            </a:prstGeom>
            <a:solidFill>
              <a:srgbClr val="003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5970600"/>
              <a:ext cx="6838920" cy="628560"/>
            </a:xfrm>
            <a:prstGeom prst="rect">
              <a:avLst/>
            </a:prstGeom>
            <a:solidFill>
              <a:srgbClr val="003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0" y="961920"/>
              <a:ext cx="8763120" cy="5210280"/>
              <a:chOff x="0" y="961920"/>
              <a:chExt cx="8763120" cy="5210280"/>
            </a:xfrm>
          </p:grpSpPr>
          <p:sp>
            <p:nvSpPr>
              <p:cNvPr id="63" name=""/>
              <p:cNvSpPr/>
              <p:nvPr/>
            </p:nvSpPr>
            <p:spPr>
              <a:xfrm>
                <a:off x="7791480" y="1219320"/>
                <a:ext cx="971640" cy="1143000"/>
              </a:xfrm>
              <a:prstGeom prst="rect">
                <a:avLst/>
              </a:prstGeom>
              <a:solidFill>
                <a:srgbClr val="003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896240" y="2286000"/>
                <a:ext cx="866880" cy="1828800"/>
              </a:xfrm>
              <a:prstGeom prst="rect">
                <a:avLst/>
              </a:prstGeom>
              <a:solidFill>
                <a:srgbClr val="003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781680" y="3809880"/>
                <a:ext cx="1981440" cy="2362320"/>
              </a:xfrm>
              <a:prstGeom prst="rect">
                <a:avLst/>
              </a:prstGeom>
              <a:solidFill>
                <a:srgbClr val="003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019920" y="1219320"/>
                <a:ext cx="971280" cy="1143000"/>
              </a:xfrm>
              <a:prstGeom prst="rect">
                <a:avLst/>
              </a:prstGeom>
              <a:solidFill>
                <a:srgbClr val="003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572000" y="1295280"/>
                <a:ext cx="2143080" cy="2314800"/>
              </a:xfrm>
              <a:prstGeom prst="rect">
                <a:avLst/>
              </a:prstGeom>
              <a:solidFill>
                <a:srgbClr val="003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1295280"/>
                <a:ext cx="4762440" cy="4572000"/>
              </a:xfrm>
              <a:prstGeom prst="rect">
                <a:avLst/>
              </a:prstGeom>
              <a:solidFill>
                <a:srgbClr val="003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67360" y="1009800"/>
                <a:ext cx="971640" cy="533160"/>
              </a:xfrm>
              <a:prstGeom prst="rect">
                <a:avLst/>
              </a:prstGeom>
              <a:solidFill>
                <a:srgbClr val="003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477120" y="2324160"/>
                <a:ext cx="1428480" cy="342720"/>
              </a:xfrm>
              <a:prstGeom prst="rect">
                <a:avLst/>
              </a:prstGeom>
              <a:solidFill>
                <a:srgbClr val="003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5591160"/>
                <a:ext cx="6838920" cy="581040"/>
              </a:xfrm>
              <a:prstGeom prst="rect">
                <a:avLst/>
              </a:prstGeom>
              <a:solidFill>
                <a:srgbClr val="003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961920"/>
                <a:ext cx="8763120" cy="384120"/>
              </a:xfrm>
              <a:custGeom>
                <a:avLst/>
                <a:gdLst/>
                <a:ahLst/>
                <a:rect l="l" t="t" r="r" b="b"/>
                <a:pathLst>
                  <a:path w="5520" h="224">
                    <a:moveTo>
                      <a:pt x="3221" y="0"/>
                    </a:moveTo>
                    <a:cubicBezTo>
                      <a:pt x="2918" y="2"/>
                      <a:pt x="2885" y="59"/>
                      <a:pt x="2821" y="93"/>
                    </a:cubicBezTo>
                    <a:cubicBezTo>
                      <a:pt x="2744" y="138"/>
                      <a:pt x="2710" y="172"/>
                      <a:pt x="2361" y="174"/>
                    </a:cubicBezTo>
                    <a:cubicBezTo>
                      <a:pt x="1180" y="174"/>
                      <a:pt x="0" y="174"/>
                      <a:pt x="0" y="174"/>
                    </a:cubicBezTo>
                    <a:lnTo>
                      <a:pt x="0" y="224"/>
                    </a:lnTo>
                    <a:lnTo>
                      <a:pt x="5520" y="224"/>
                    </a:lnTo>
                    <a:lnTo>
                      <a:pt x="5520" y="0"/>
                    </a:lnTo>
                    <a:lnTo>
                      <a:pt x="3221" y="0"/>
                    </a:lnTo>
                    <a:cubicBezTo>
                      <a:pt x="3221" y="0"/>
                      <a:pt x="3221" y="0"/>
                      <a:pt x="3221" y="0"/>
                    </a:cubicBezTo>
                    <a:close/>
                  </a:path>
                </a:pathLst>
              </a:custGeom>
              <a:solidFill>
                <a:srgbClr val="003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267080" y="3116160"/>
                <a:ext cx="2971800" cy="2971800"/>
              </a:xfrm>
              <a:prstGeom prst="donut">
                <a:avLst>
                  <a:gd name="adj" fmla="val 17467"/>
                </a:avLst>
              </a:prstGeom>
              <a:solidFill>
                <a:srgbClr val="003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400800" y="2340000"/>
                <a:ext cx="1771560" cy="1771560"/>
              </a:xfrm>
              <a:prstGeom prst="donut">
                <a:avLst>
                  <a:gd name="adj" fmla="val 19263"/>
                </a:avLst>
              </a:prstGeom>
              <a:solidFill>
                <a:srgbClr val="003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743880" y="1311120"/>
                <a:ext cx="1266480" cy="1266840"/>
              </a:xfrm>
              <a:prstGeom prst="donut">
                <a:avLst>
                  <a:gd name="adj" fmla="val 20050"/>
                </a:avLst>
              </a:prstGeom>
              <a:solidFill>
                <a:srgbClr val="003f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 rot="14646000">
            <a:off x="4491000" y="3335400"/>
            <a:ext cx="2519280" cy="2519280"/>
          </a:xfrm>
          <a:prstGeom prst="blockArc">
            <a:avLst>
              <a:gd name="adj1" fmla="val 7555906"/>
              <a:gd name="adj2" fmla="val 3244094"/>
              <a:gd name="adj3" fmla="val 5324"/>
            </a:avLst>
          </a:prstGeom>
          <a:solidFill>
            <a:srgbClr val="a500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497800">
            <a:off x="6838560" y="1406160"/>
            <a:ext cx="1066680" cy="1066680"/>
          </a:xfrm>
          <a:prstGeom prst="blockArc">
            <a:avLst>
              <a:gd name="adj1" fmla="val 10329851"/>
              <a:gd name="adj2" fmla="val 470149"/>
              <a:gd name="adj3" fmla="val 7556"/>
            </a:avLst>
          </a:prstGeom>
          <a:solidFill>
            <a:srgbClr val="bcc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7165200">
            <a:off x="6513120" y="2435040"/>
            <a:ext cx="1563480" cy="1563840"/>
          </a:xfrm>
          <a:prstGeom prst="blockArc">
            <a:avLst>
              <a:gd name="adj1" fmla="val 10362302"/>
              <a:gd name="adj2" fmla="val 437698"/>
              <a:gd name="adj3" fmla="val 5667"/>
            </a:avLst>
          </a:prstGeom>
          <a:solidFill>
            <a:srgbClr val="ef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474840"/>
            <a:ext cx="418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a18972"/>
                </a:solidFill>
                <a:latin typeface="Arial"/>
              </a:rPr>
              <a:t>WELL-BEING AN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259000" cy="10875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AC6A-9A71-4FC4-A806-00C2D13D88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44440" indent="0" algn="ctr">
              <a:lnSpc>
                <a:spcPct val="10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417600" algn="ctr">
              <a:lnSpc>
                <a:spcPct val="105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698400" algn="ctr">
              <a:lnSpc>
                <a:spcPct val="105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4" marL="1082520" algn="ctr">
              <a:lnSpc>
                <a:spcPct val="105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5" marL="1082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6" marL="1082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349360"/>
            <a:ext cx="417672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ccor Services Bulga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50560" y="5589360"/>
            <a:ext cx="6095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ffff"/>
                </a:solidFill>
                <a:latin typeface="Arial"/>
              </a:rPr>
              <a:t>Девети Уикенд н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 </a:t>
            </a:r>
            <a:r>
              <a:rPr b="0" i="1" lang="bg-BG" sz="1800" spc="-1" strike="noStrike">
                <a:solidFill>
                  <a:srgbClr val="ffffff"/>
                </a:solidFill>
                <a:latin typeface="Arial"/>
              </a:rPr>
              <a:t>екипите в Бълга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ffff"/>
                </a:solidFill>
                <a:latin typeface="Arial"/>
              </a:rPr>
              <a:t>27-29 юни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15908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496800"/>
            <a:ext cx="347040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f8a"/>
                </a:solidFill>
                <a:latin typeface="Arial"/>
              </a:rPr>
              <a:t>Заключение</a:t>
            </a: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538280"/>
            <a:ext cx="714060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3000" indent="-243000">
              <a:lnSpc>
                <a:spcPct val="10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No. 1 </a:t>
            </a:r>
            <a:r>
              <a:rPr b="1" lang="bg-BG" sz="2000" spc="-1" strike="noStrike">
                <a:solidFill>
                  <a:srgbClr val="003f8a"/>
                </a:solidFill>
                <a:latin typeface="Arial"/>
              </a:rPr>
              <a:t>в света по пазарен дял и печалба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000" indent="-243000">
              <a:lnSpc>
                <a:spcPct val="10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f8a"/>
                </a:solidFill>
                <a:latin typeface="Arial"/>
              </a:rPr>
              <a:t>Пионерски дух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: </a:t>
            </a:r>
            <a:r>
              <a:rPr b="1" lang="bg-BG" sz="2000" spc="-1" strike="noStrike">
                <a:solidFill>
                  <a:srgbClr val="003f8a"/>
                </a:solidFill>
                <a:latin typeface="Arial"/>
              </a:rPr>
              <a:t>иновативни продукти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, </a:t>
            </a:r>
            <a:r>
              <a:rPr b="1" lang="bg-BG" sz="2000" spc="-1" strike="noStrike">
                <a:solidFill>
                  <a:srgbClr val="003f8a"/>
                </a:solidFill>
                <a:latin typeface="Arial"/>
              </a:rPr>
              <a:t>отворени към нови пазари и технолог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000" indent="-243000">
              <a:lnSpc>
                <a:spcPct val="10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f8a"/>
                </a:solidFill>
                <a:latin typeface="Arial"/>
              </a:rPr>
              <a:t>Уникални уме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000" indent="-243000">
              <a:lnSpc>
                <a:spcPct val="10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f8a"/>
                </a:solidFill>
                <a:latin typeface="Arial"/>
              </a:rPr>
              <a:t>Международно присъствие чрез локално опериран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000" indent="-243000">
              <a:lnSpc>
                <a:spcPct val="10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f8a"/>
                </a:solidFill>
                <a:latin typeface="Arial"/>
              </a:rPr>
              <a:t>Висок потенциал за растеж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19280" y="4869000"/>
            <a:ext cx="5794200" cy="676080"/>
          </a:xfrm>
          <a:prstGeom prst="rect">
            <a:avLst/>
          </a:prstGeom>
          <a:solidFill>
            <a:srgbClr val="e75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тратегически бизнес на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Accor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3940-13F5-4D75-AB9E-B617A883EB9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f8a"/>
                </a:solidFill>
                <a:latin typeface="Arial"/>
              </a:rPr>
              <a:t>Accor Services: </a:t>
            </a:r>
            <a:r>
              <a:rPr b="1" lang="bg-BG" sz="2400" spc="-1" strike="noStrike">
                <a:solidFill>
                  <a:srgbClr val="003f8a"/>
                </a:solidFill>
                <a:latin typeface="Arial"/>
              </a:rPr>
              <a:t>един уникален бизнес</a:t>
            </a: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3255840"/>
            <a:ext cx="568800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f8a"/>
                </a:solidFill>
                <a:latin typeface="Arial"/>
              </a:rPr>
              <a:t>Accor Services </a:t>
            </a:r>
            <a:r>
              <a:rPr b="1" lang="bg-BG" sz="1400" spc="-1" strike="noStrike">
                <a:solidFill>
                  <a:srgbClr val="003f8a"/>
                </a:solidFill>
                <a:latin typeface="Arial"/>
              </a:rPr>
              <a:t>проектира, разработва и управлява иновативни решения за мотивиране, задържане и създаване на лоялни и дългосрочни отношения с Вашите </a:t>
            </a:r>
            <a:r>
              <a:rPr b="1" lang="bg-BG" sz="1400" spc="-1" strike="noStrike">
                <a:solidFill>
                  <a:srgbClr val="a18972"/>
                </a:solidFill>
                <a:latin typeface="Arial"/>
              </a:rPr>
              <a:t>служители, партньори и клиен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f8a"/>
                </a:solidFill>
                <a:latin typeface="Arial"/>
                <a:ea typeface="Arial"/>
              </a:rPr>
              <a:t>Улеснявайки ежедневния живот и подобрявайки благосъстоянието на служителя, </a:t>
            </a:r>
            <a:r>
              <a:rPr b="1" lang="fr-FR" sz="1400" spc="-1" strike="noStrike">
                <a:solidFill>
                  <a:srgbClr val="003f8a"/>
                </a:solidFill>
                <a:latin typeface="Arial"/>
                <a:ea typeface="Arial"/>
              </a:rPr>
              <a:t>Accor Services </a:t>
            </a:r>
            <a:r>
              <a:rPr b="1" lang="bg-BG" sz="1400" spc="-1" strike="noStrike">
                <a:solidFill>
                  <a:srgbClr val="003f8a"/>
                </a:solidFill>
                <a:latin typeface="Arial"/>
                <a:ea typeface="Arial"/>
              </a:rPr>
              <a:t>помога на своите</a:t>
            </a:r>
            <a:r>
              <a:rPr b="1" lang="bg-BG" sz="1400" spc="-1" strike="noStrike">
                <a:solidFill>
                  <a:srgbClr val="a18972"/>
                </a:solidFill>
                <a:latin typeface="Arial"/>
                <a:ea typeface="Arial"/>
              </a:rPr>
              <a:t> корпоративни клиенти и публични институции</a:t>
            </a:r>
            <a:r>
              <a:rPr b="1" lang="bg-BG" sz="1400" spc="-1" strike="noStrike">
                <a:solidFill>
                  <a:srgbClr val="003f8a"/>
                </a:solidFill>
                <a:latin typeface="Arial"/>
                <a:ea typeface="Arial"/>
              </a:rPr>
              <a:t> да подобрят постижения си, чрез нашите лесни за употреба продукти: ваучери на храна и хранителни продукти, грижи за децата, грижи за бита, продукти за свободното време, ваучери за подарък, програми за поощряване на служители и пъртньор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2060640"/>
            <a:ext cx="5616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f8a"/>
                </a:solidFill>
                <a:latin typeface="Arial"/>
              </a:rPr>
              <a:t>Оператор №1 в издаването на ваучери за услуги</a:t>
            </a:r>
            <a:r>
              <a:rPr b="1" lang="fr-FR" sz="1600" spc="-1" strike="noStrike">
                <a:solidFill>
                  <a:srgbClr val="003f8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3645000"/>
            <a:ext cx="201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a18972"/>
                </a:solidFill>
                <a:latin typeface="Arial"/>
                <a:ea typeface="Arial"/>
              </a:rPr>
              <a:t>Какво прави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397160"/>
            <a:ext cx="1800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a18972"/>
                </a:solidFill>
                <a:latin typeface="Arial"/>
                <a:ea typeface="Arial"/>
              </a:rPr>
              <a:t>Кои сме 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2016000" cy="13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606-48"/>
          <p:cNvPicPr/>
          <p:nvPr/>
        </p:nvPicPr>
        <p:blipFill>
          <a:blip r:embed="rId2"/>
          <a:stretch/>
        </p:blipFill>
        <p:spPr>
          <a:xfrm>
            <a:off x="468360" y="1844640"/>
            <a:ext cx="2158920" cy="14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0C8A-3C50-49E0-A53A-8A36F067F6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f8a"/>
                </a:solidFill>
                <a:latin typeface="Arial"/>
              </a:rPr>
              <a:t>Глобално присъствие и лидерски позиции</a:t>
            </a: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68480" y="1817640"/>
            <a:ext cx="5735880" cy="2979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8880" y="1484280"/>
            <a:ext cx="35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18972"/>
                </a:solidFill>
                <a:latin typeface="Arial"/>
              </a:rPr>
              <a:t>Основни 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2492280"/>
            <a:ext cx="496872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f8a"/>
                </a:solidFill>
                <a:latin typeface="Arial"/>
              </a:rPr>
              <a:t>30 </a:t>
            </a:r>
            <a:r>
              <a:rPr b="1" lang="bg-BG" sz="2000" spc="-1" strike="noStrike">
                <a:solidFill>
                  <a:srgbClr val="003f8a"/>
                </a:solidFill>
                <a:latin typeface="Arial"/>
              </a:rPr>
              <a:t>000 000 потреб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f8a"/>
                </a:solidFill>
                <a:latin typeface="Arial"/>
              </a:rPr>
              <a:t>430 000 </a:t>
            </a:r>
            <a:r>
              <a:rPr b="1" lang="bg-BG" sz="1600" spc="-1" strike="noStrike">
                <a:solidFill>
                  <a:srgbClr val="003f8a"/>
                </a:solidFill>
                <a:latin typeface="Arial"/>
              </a:rPr>
              <a:t>корпоративни кли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f8a"/>
                </a:solidFill>
                <a:latin typeface="Arial"/>
              </a:rPr>
              <a:t>1 </a:t>
            </a:r>
            <a:r>
              <a:rPr b="1" lang="bg-BG" sz="1600" spc="-1" strike="noStrike">
                <a:solidFill>
                  <a:srgbClr val="003f8a"/>
                </a:solidFill>
                <a:latin typeface="Arial"/>
              </a:rPr>
              <a:t>000 000 търговски об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f8a"/>
                </a:solidFill>
                <a:latin typeface="Arial"/>
              </a:rPr>
              <a:t>40 </a:t>
            </a:r>
            <a:r>
              <a:rPr b="1" lang="bg-BG" sz="2000" spc="-1" strike="noStrike">
                <a:solidFill>
                  <a:srgbClr val="003f8a"/>
                </a:solidFill>
                <a:latin typeface="Arial"/>
              </a:rPr>
              <a:t>държави</a:t>
            </a:r>
            <a:r>
              <a:rPr b="1" lang="fr-FR" sz="20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3f8a"/>
                </a:solidFill>
                <a:latin typeface="Arial"/>
              </a:rPr>
              <a:t>на</a:t>
            </a:r>
            <a:r>
              <a:rPr b="1" lang="fr-FR" sz="2000" spc="-1" strike="noStrike">
                <a:solidFill>
                  <a:srgbClr val="003f8a"/>
                </a:solidFill>
                <a:latin typeface="Arial"/>
              </a:rPr>
              <a:t> 5 </a:t>
            </a:r>
            <a:r>
              <a:rPr b="1" lang="bg-BG" sz="2000" spc="-1" strike="noStrike">
                <a:solidFill>
                  <a:srgbClr val="003f8a"/>
                </a:solidFill>
                <a:latin typeface="Arial"/>
              </a:rPr>
              <a:t>контин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46530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f8a"/>
                </a:solidFill>
                <a:latin typeface="Arial"/>
              </a:rPr>
              <a:t>€ </a:t>
            </a:r>
            <a:r>
              <a:rPr b="0" lang="fr-FR" sz="1600" spc="-1" strike="noStrike">
                <a:solidFill>
                  <a:srgbClr val="003f8a"/>
                </a:solidFill>
                <a:latin typeface="Arial"/>
              </a:rPr>
              <a:t>9,978 </a:t>
            </a:r>
            <a:r>
              <a:rPr b="0" lang="bg-BG" sz="1600" spc="-1" strike="noStrike">
                <a:solidFill>
                  <a:srgbClr val="003f8a"/>
                </a:solidFill>
                <a:latin typeface="Arial"/>
              </a:rPr>
              <a:t>млрд. оборот</a:t>
            </a:r>
            <a:br>
              <a:rPr sz="1600"/>
            </a:br>
            <a:r>
              <a:rPr b="0" lang="fr-FR" sz="1600" spc="-1" strike="noStrike">
                <a:solidFill>
                  <a:srgbClr val="003f8a"/>
                </a:solidFill>
                <a:latin typeface="Arial"/>
              </a:rPr>
              <a:t>2 </a:t>
            </a:r>
            <a:r>
              <a:rPr b="0" lang="bg-BG" sz="1600" spc="-1" strike="noStrike">
                <a:solidFill>
                  <a:srgbClr val="003f8a"/>
                </a:solidFill>
                <a:latin typeface="Arial"/>
              </a:rPr>
              <a:t>млрд. транза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f8a"/>
                </a:solidFill>
                <a:latin typeface="Arial"/>
              </a:rPr>
              <a:t>4 600 </a:t>
            </a:r>
            <a:r>
              <a:rPr b="0" lang="bg-BG" sz="1600" spc="-1" strike="noStrike">
                <a:solidFill>
                  <a:srgbClr val="003f8a"/>
                </a:solidFill>
                <a:latin typeface="Arial"/>
              </a:rPr>
              <a:t>служ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25AE-D321-49BA-A058-ECF96A8D36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142560"/>
            <a:ext cx="629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f8a"/>
                </a:solidFill>
                <a:latin typeface="Arial"/>
              </a:rPr>
              <a:t>Бизнес модел на ваучерната система</a:t>
            </a: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5516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f8a"/>
                </a:solidFill>
                <a:latin typeface="Arial"/>
              </a:rPr>
              <a:t>Ключ за успеха</a:t>
            </a:r>
            <a:r>
              <a:rPr b="1" lang="fr-FR" sz="1800" spc="-1" strike="noStrike">
                <a:solidFill>
                  <a:srgbClr val="003f8a"/>
                </a:solidFill>
                <a:latin typeface="Arial"/>
              </a:rPr>
              <a:t>: </a:t>
            </a:r>
            <a:r>
              <a:rPr b="1" lang="bg-BG" sz="1800" spc="-1" strike="noStrike">
                <a:solidFill>
                  <a:srgbClr val="003f8a"/>
                </a:solidFill>
                <a:latin typeface="Arial"/>
              </a:rPr>
              <a:t>Едно </a:t>
            </a:r>
            <a:r>
              <a:rPr b="1" lang="fr-FR" sz="1800" spc="-1" strike="noStrike">
                <a:solidFill>
                  <a:srgbClr val="003f8a"/>
                </a:solidFill>
                <a:latin typeface="Arial"/>
              </a:rPr>
              <a:t>« win-win » </a:t>
            </a:r>
            <a:r>
              <a:rPr b="1" lang="bg-BG" sz="1800" spc="-1" strike="noStrike">
                <a:solidFill>
                  <a:srgbClr val="003f8a"/>
                </a:solidFill>
                <a:latin typeface="Arial"/>
              </a:rPr>
              <a:t>решение</a:t>
            </a:r>
            <a:r>
              <a:rPr b="1" lang="fr-FR" sz="18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3f8a"/>
                </a:solidFill>
                <a:latin typeface="Arial"/>
              </a:rPr>
              <a:t>за всички участн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f8a"/>
                </a:solidFill>
                <a:latin typeface="Arial"/>
              </a:rPr>
              <a:t>Правителство и държавни служители</a:t>
            </a:r>
            <a:r>
              <a:rPr b="1" lang="fr-FR" sz="1800" spc="-1" strike="noStrike">
                <a:solidFill>
                  <a:srgbClr val="003f8a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3f8a"/>
                </a:solidFill>
                <a:latin typeface="Arial"/>
              </a:rPr>
              <a:t>корпоративни клиенти</a:t>
            </a:r>
            <a:r>
              <a:rPr b="1" lang="fr-FR" sz="1800" spc="-1" strike="noStrike">
                <a:solidFill>
                  <a:srgbClr val="003f8a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3f8a"/>
                </a:solidFill>
                <a:latin typeface="Arial"/>
              </a:rPr>
              <a:t>служители и граждани</a:t>
            </a:r>
            <a:r>
              <a:rPr b="1" lang="fr-FR" sz="1800" spc="-1" strike="noStrike">
                <a:solidFill>
                  <a:srgbClr val="003f8a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3f8a"/>
                </a:solidFill>
                <a:latin typeface="Arial"/>
              </a:rPr>
              <a:t>търговски партньори</a:t>
            </a:r>
            <a:r>
              <a:rPr b="1" lang="fr-FR" sz="1800" spc="-1" strike="noStrike">
                <a:solidFill>
                  <a:srgbClr val="003f8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4360" y="1387440"/>
            <a:ext cx="7261200" cy="3729240"/>
            <a:chOff x="684360" y="1387440"/>
            <a:chExt cx="7261200" cy="3729240"/>
          </a:xfrm>
        </p:grpSpPr>
        <p:sp>
          <p:nvSpPr>
            <p:cNvPr id="138" name=""/>
            <p:cNvSpPr/>
            <p:nvPr/>
          </p:nvSpPr>
          <p:spPr>
            <a:xfrm>
              <a:off x="2093760" y="2260440"/>
              <a:ext cx="4110120" cy="182412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7920" y="1714680"/>
              <a:ext cx="5402160" cy="279540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56160" y="1387440"/>
              <a:ext cx="1995480" cy="1397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42080" y="2682720"/>
              <a:ext cx="1996920" cy="139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4360" y="2565360"/>
              <a:ext cx="1996920" cy="139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4360" y="2995560"/>
              <a:ext cx="19350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0c479d"/>
                  </a:solidFill>
                  <a:latin typeface="Arial"/>
                </a:rPr>
                <a:t>Търговска мреж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c479d"/>
                  </a:solidFill>
                  <a:latin typeface="Arial"/>
                </a:rPr>
                <a:t>1 </a:t>
              </a:r>
              <a:r>
                <a:rPr b="0" lang="bg-BG" sz="1000" spc="-1" strike="noStrike">
                  <a:solidFill>
                    <a:srgbClr val="0c479d"/>
                  </a:solidFill>
                  <a:latin typeface="Arial"/>
                </a:rPr>
                <a:t>000 000 търговски обект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90960" y="3719520"/>
              <a:ext cx="1998720" cy="139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51080" y="4135320"/>
              <a:ext cx="193860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c479d"/>
                  </a:solidFill>
                  <a:latin typeface="Arial"/>
                </a:rPr>
                <a:t>Служители, партньори, клиен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c479d"/>
                  </a:solidFill>
                  <a:latin typeface="Arial"/>
                </a:rPr>
                <a:t>23 </a:t>
              </a:r>
              <a:r>
                <a:rPr b="0" lang="bg-BG" sz="1000" spc="-1" strike="noStrike">
                  <a:solidFill>
                    <a:srgbClr val="0c479d"/>
                  </a:solidFill>
                  <a:latin typeface="Arial"/>
                </a:rPr>
                <a:t>000 000 потребител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1440" y="1557360"/>
              <a:ext cx="140184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900" spc="-1" strike="noStrike">
                  <a:solidFill>
                    <a:srgbClr val="0c479d"/>
                  </a:solidFill>
                  <a:latin typeface="Arial"/>
                </a:rPr>
                <a:t>Заявка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900" spc="-1" strike="noStrike">
                  <a:solidFill>
                    <a:srgbClr val="0c479d"/>
                  </a:solidFill>
                  <a:latin typeface="Arial"/>
                </a:rPr>
                <a:t>за осребряван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67280" y="1700280"/>
              <a:ext cx="1555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900" spc="-1" strike="noStrike">
                  <a:solidFill>
                    <a:srgbClr val="0c479d"/>
                  </a:solidFill>
                  <a:latin typeface="Arial"/>
                </a:rPr>
                <a:t>Разработва, управлява и осигурява решения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92720" y="4365720"/>
              <a:ext cx="1347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900" spc="-1" strike="noStrike">
                  <a:solidFill>
                    <a:srgbClr val="0c479d"/>
                  </a:solidFill>
                  <a:latin typeface="Arial"/>
                </a:rPr>
                <a:t>Разпределение към потребителит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71640" y="4365720"/>
              <a:ext cx="11160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900" spc="-1" strike="noStrike">
                  <a:solidFill>
                    <a:srgbClr val="0c479d"/>
                  </a:solidFill>
                  <a:latin typeface="Arial"/>
                </a:rPr>
                <a:t>Използване на услуга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048400">
              <a:off x="2117520" y="1956960"/>
              <a:ext cx="469800" cy="243000"/>
            </a:xfrm>
            <a:custGeom>
              <a:avLst/>
              <a:gdLst>
                <a:gd name="textAreaLeft" fmla="*/ 73440 w 469800"/>
                <a:gd name="textAreaRight" fmla="*/ 411120 w 469800"/>
                <a:gd name="textAreaTop" fmla="*/ 60840 h 243000"/>
                <a:gd name="textAreaBottom" fmla="*/ 182160 h 2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12354000"/>
            </a:gra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733400">
              <a:off x="5986440" y="2106720"/>
              <a:ext cx="468360" cy="242640"/>
            </a:xfrm>
            <a:custGeom>
              <a:avLst/>
              <a:gdLst>
                <a:gd name="textAreaLeft" fmla="*/ 73080 w 468360"/>
                <a:gd name="textAreaRight" fmla="*/ 410040 w 468360"/>
                <a:gd name="textAreaTop" fmla="*/ 60480 h 242640"/>
                <a:gd name="textAreaBottom" fmla="*/ 182160 h 2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9066000"/>
            </a:gra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9464400">
              <a:off x="5581440" y="4084560"/>
              <a:ext cx="468000" cy="241200"/>
            </a:xfrm>
            <a:custGeom>
              <a:avLst/>
              <a:gdLst>
                <a:gd name="textAreaLeft" fmla="*/ 73080 w 468000"/>
                <a:gd name="textAreaRight" fmla="*/ 409680 w 468000"/>
                <a:gd name="textAreaTop" fmla="*/ 60120 h 241200"/>
                <a:gd name="textAreaBottom" fmla="*/ 181080 h 24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1338000"/>
            </a:gra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2113400">
              <a:off x="2245680" y="4084200"/>
              <a:ext cx="469800" cy="241200"/>
            </a:xfrm>
            <a:custGeom>
              <a:avLst/>
              <a:gdLst>
                <a:gd name="textAreaLeft" fmla="*/ 73440 w 469800"/>
                <a:gd name="textAreaRight" fmla="*/ 411120 w 469800"/>
                <a:gd name="textAreaTop" fmla="*/ 60120 h 241200"/>
                <a:gd name="textAreaBottom" fmla="*/ 181080 h 24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20286000"/>
            </a:gra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9464400">
              <a:off x="2526840" y="2420640"/>
              <a:ext cx="411120" cy="182520"/>
            </a:xfrm>
            <a:custGeom>
              <a:avLst/>
              <a:gdLst>
                <a:gd name="textAreaLeft" fmla="*/ 64080 w 411120"/>
                <a:gd name="textAreaRight" fmla="*/ 360000 w 411120"/>
                <a:gd name="textAreaTop" fmla="*/ 45720 h 182520"/>
                <a:gd name="textAreaBottom" fmla="*/ 13716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c479d"/>
                </a:gs>
                <a:gs pos="100000">
                  <a:srgbClr val="ffffff"/>
                </a:gs>
              </a:gsLst>
              <a:lin ang="1338000"/>
            </a:gradFill>
            <a:ln w="12600">
              <a:solidFill>
                <a:srgbClr val="0c47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2444600">
              <a:off x="5554440" y="2525040"/>
              <a:ext cx="411120" cy="182520"/>
            </a:xfrm>
            <a:custGeom>
              <a:avLst/>
              <a:gdLst>
                <a:gd name="textAreaLeft" fmla="*/ 64080 w 411120"/>
                <a:gd name="textAreaRight" fmla="*/ 360000 w 411120"/>
                <a:gd name="textAreaTop" fmla="*/ 45720 h 182520"/>
                <a:gd name="textAreaBottom" fmla="*/ 13716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c479d"/>
                </a:gs>
                <a:gs pos="100000">
                  <a:srgbClr val="ffffff"/>
                </a:gs>
              </a:gsLst>
              <a:lin ang="19956000"/>
            </a:gradFill>
            <a:ln w="12600">
              <a:solidFill>
                <a:srgbClr val="0c47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70440" y="3114720"/>
              <a:ext cx="2175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0c479d"/>
                  </a:solidFill>
                  <a:latin typeface="Arial"/>
                </a:rPr>
                <a:t>Корпоративни клиен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c479d"/>
                  </a:solidFill>
                  <a:latin typeface="Arial"/>
                </a:rPr>
                <a:t>370,000 </a:t>
              </a:r>
              <a:r>
                <a:rPr b="0" lang="bg-BG" sz="1000" spc="-1" strike="noStrike">
                  <a:solidFill>
                    <a:srgbClr val="0c479d"/>
                  </a:solidFill>
                  <a:latin typeface="Arial"/>
                </a:rPr>
                <a:t>компании и публични институ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00360" y="2565360"/>
              <a:ext cx="934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900" spc="-1" strike="noStrike">
                  <a:solidFill>
                    <a:srgbClr val="0c479d"/>
                  </a:solidFill>
                  <a:latin typeface="Arial"/>
                </a:rPr>
                <a:t>Осребряван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51520" y="270828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900" spc="-1" strike="noStrike">
                  <a:solidFill>
                    <a:srgbClr val="0c479d"/>
                  </a:solidFill>
                  <a:latin typeface="Arial"/>
                </a:rPr>
                <a:t>Заплащане по банков пъ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3825720" y="1819440"/>
              <a:ext cx="1519560" cy="5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A111-3957-4311-B534-A8FFD6FA2E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f8a"/>
                </a:solidFill>
                <a:latin typeface="Arial"/>
              </a:rPr>
              <a:t>Продукти от три групи</a:t>
            </a:r>
            <a:r>
              <a:rPr b="1" lang="en-US" sz="24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003f8a"/>
                </a:solidFill>
                <a:latin typeface="Arial"/>
              </a:rPr>
              <a:t>в България</a:t>
            </a: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19640" y="2205000"/>
            <a:ext cx="1800000" cy="3810960"/>
            <a:chOff x="3419640" y="2205000"/>
            <a:chExt cx="1800000" cy="3810960"/>
          </a:xfrm>
        </p:grpSpPr>
        <p:sp>
          <p:nvSpPr>
            <p:cNvPr id="162" name=""/>
            <p:cNvSpPr/>
            <p:nvPr/>
          </p:nvSpPr>
          <p:spPr>
            <a:xfrm>
              <a:off x="3419640" y="4181040"/>
              <a:ext cx="1800000" cy="1834920"/>
            </a:xfrm>
            <a:custGeom>
              <a:avLst/>
              <a:gdLst>
                <a:gd name="textAreaLeft" fmla="*/ 384480 w 1800000"/>
                <a:gd name="textAreaRight" fmla="*/ 1415520 w 1800000"/>
                <a:gd name="textAreaTop" fmla="*/ 392040 h 1834920"/>
                <a:gd name="textAreaBottom" fmla="*/ 1442880 h 18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443" y="21600"/>
                  </a:lnTo>
                  <a:lnTo>
                    <a:pt x="515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19640" y="2205000"/>
              <a:ext cx="1798560" cy="19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940360" y="2205000"/>
            <a:ext cx="1800360" cy="3810960"/>
            <a:chOff x="5940360" y="2205000"/>
            <a:chExt cx="1800360" cy="3810960"/>
          </a:xfrm>
        </p:grpSpPr>
        <p:sp>
          <p:nvSpPr>
            <p:cNvPr id="165" name=""/>
            <p:cNvSpPr/>
            <p:nvPr/>
          </p:nvSpPr>
          <p:spPr>
            <a:xfrm>
              <a:off x="5940360" y="4181040"/>
              <a:ext cx="1800360" cy="1834920"/>
            </a:xfrm>
            <a:custGeom>
              <a:avLst/>
              <a:gdLst>
                <a:gd name="textAreaLeft" fmla="*/ 384480 w 1800360"/>
                <a:gd name="textAreaRight" fmla="*/ 1415880 w 1800360"/>
                <a:gd name="textAreaTop" fmla="*/ 392040 h 1834920"/>
                <a:gd name="textAreaBottom" fmla="*/ 1442880 h 18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443" y="21600"/>
                  </a:lnTo>
                  <a:lnTo>
                    <a:pt x="515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8b08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40360" y="2205000"/>
              <a:ext cx="1798920" cy="19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b08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826920" y="2205000"/>
            <a:ext cx="1800000" cy="4026960"/>
            <a:chOff x="826920" y="2205000"/>
            <a:chExt cx="1800000" cy="4026960"/>
          </a:xfrm>
        </p:grpSpPr>
        <p:sp>
          <p:nvSpPr>
            <p:cNvPr id="168" name=""/>
            <p:cNvSpPr/>
            <p:nvPr/>
          </p:nvSpPr>
          <p:spPr>
            <a:xfrm>
              <a:off x="826920" y="4293000"/>
              <a:ext cx="1800000" cy="1938960"/>
            </a:xfrm>
            <a:custGeom>
              <a:avLst/>
              <a:gdLst>
                <a:gd name="textAreaLeft" fmla="*/ 384480 w 1800000"/>
                <a:gd name="textAreaRight" fmla="*/ 1415520 w 1800000"/>
                <a:gd name="textAreaTop" fmla="*/ 414000 h 1938960"/>
                <a:gd name="textAreaBottom" fmla="*/ 1524960 h 193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443" y="21600"/>
                  </a:lnTo>
                  <a:lnTo>
                    <a:pt x="515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6920" y="2205000"/>
              <a:ext cx="1798560" cy="208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26920" y="2421000"/>
            <a:ext cx="18860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3f8a"/>
                </a:solidFill>
                <a:latin typeface="Arial"/>
              </a:rPr>
              <a:t>Социални придобивки </a:t>
            </a:r>
            <a:r>
              <a:rPr b="0" lang="en-US" sz="1200" spc="-1" strike="noStrike">
                <a:solidFill>
                  <a:srgbClr val="003f8a"/>
                </a:solidFill>
                <a:latin typeface="Arial"/>
              </a:rPr>
              <a:t>(</a:t>
            </a:r>
            <a:r>
              <a:rPr b="0" lang="bg-BG" sz="1200" spc="-1" strike="noStrike">
                <a:solidFill>
                  <a:srgbClr val="003f8a"/>
                </a:solidFill>
                <a:latin typeface="Arial"/>
              </a:rPr>
              <a:t>храна и хранителни продукти</a:t>
            </a:r>
            <a:r>
              <a:rPr b="0" lang="en-US" sz="1200" spc="-1" strike="noStrike">
                <a:solidFill>
                  <a:srgbClr val="003f8a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Иконом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Удоб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Моде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Сигу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Мотивиращ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Бърз еф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2421000"/>
            <a:ext cx="180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3f8a"/>
                </a:solidFill>
                <a:latin typeface="Arial"/>
              </a:rPr>
              <a:t>За Вашите служители, клиенти и партнь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3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Решение, които предоставя множество възможности за удовлетворяване, мотивиране и създаване на лоялни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635280" y="4967280"/>
            <a:ext cx="1317600" cy="333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00000" y="13478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f8a"/>
                </a:solidFill>
                <a:latin typeface="Arial"/>
              </a:rPr>
              <a:t>Социални придоби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1268280"/>
            <a:ext cx="177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f8a"/>
                </a:solidFill>
                <a:latin typeface="Arial"/>
              </a:rPr>
              <a:t>Награди, бонуси и подаръ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134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f8a"/>
                </a:solidFill>
                <a:latin typeface="Arial"/>
              </a:rPr>
              <a:t>Управление на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40360" y="2421000"/>
            <a:ext cx="18003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3f8a"/>
                </a:solidFill>
                <a:latin typeface="Arial"/>
              </a:rPr>
              <a:t>Имате задължение по Наредба 11 на МТСП и М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Спестете разхо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Осигурете из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Иконом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Удоб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Сигу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0" i="1" lang="bg-BG" sz="1200" spc="-1" strike="noStrike">
                <a:solidFill>
                  <a:srgbClr val="003f8a"/>
                </a:solidFill>
                <a:latin typeface="Arial"/>
              </a:rPr>
              <a:t>Моде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3f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8720" y="591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42920" y="5013360"/>
            <a:ext cx="1368360" cy="287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156360" y="4941720"/>
            <a:ext cx="1368360" cy="2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45F6-3213-4291-9A30-3BC1E8F3AC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53880"/>
            <a:ext cx="609624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f8a"/>
                </a:solidFill>
                <a:latin typeface="Arial"/>
              </a:rPr>
              <a:t>5</a:t>
            </a:r>
            <a:r>
              <a:rPr b="1" lang="bg-BG" sz="2400" spc="-1" strike="noStrike">
                <a:solidFill>
                  <a:srgbClr val="003f8a"/>
                </a:solidFill>
                <a:latin typeface="Arial"/>
              </a:rPr>
              <a:t>-те механизма</a:t>
            </a:r>
            <a:r>
              <a:rPr b="1" lang="en-US" sz="24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003f8a"/>
                </a:solidFill>
                <a:latin typeface="Arial"/>
              </a:rPr>
              <a:t>на растеж</a:t>
            </a: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4140000">
            <a:off x="3711600" y="-699120"/>
            <a:ext cx="1182960" cy="7947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e9fb6"/>
              </a:gs>
              <a:gs pos="100000">
                <a:srgbClr val="bddde5"/>
              </a:gs>
            </a:gsLst>
            <a:lin ang="1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4051200">
            <a:off x="7884000" y="1627560"/>
            <a:ext cx="576360" cy="289080"/>
          </a:xfrm>
          <a:prstGeom prst="triangle">
            <a:avLst>
              <a:gd name="adj" fmla="val 50000"/>
            </a:avLst>
          </a:prstGeom>
          <a:solidFill>
            <a:srgbClr val="3c9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407664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тепен на проникване на паз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4200" y="4087800"/>
            <a:ext cx="151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Разширяване на продуктовата г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1598760"/>
            <a:ext cx="0" cy="3527280"/>
          </a:xfrm>
          <a:prstGeom prst="line">
            <a:avLst/>
          </a:prstGeom>
          <a:ln w="9360">
            <a:solidFill>
              <a:srgbClr val="00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4076640"/>
            <a:ext cx="174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Международно разгръщ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95640" y="1587600"/>
            <a:ext cx="0" cy="3527280"/>
          </a:xfrm>
          <a:prstGeom prst="line">
            <a:avLst/>
          </a:prstGeom>
          <a:ln w="9360">
            <a:solidFill>
              <a:srgbClr val="00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80000" y="4076640"/>
            <a:ext cx="131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тартиране в нови държ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0000" y="1587600"/>
            <a:ext cx="0" cy="3527280"/>
          </a:xfrm>
          <a:prstGeom prst="line">
            <a:avLst/>
          </a:prstGeom>
          <a:ln w="9360">
            <a:solidFill>
              <a:srgbClr val="00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82920" y="56545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e75299"/>
                </a:solidFill>
                <a:latin typeface="Arial"/>
              </a:rPr>
              <a:t>Органичен раст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3741840" y="2311920"/>
            <a:ext cx="362160" cy="6193080"/>
          </a:xfrm>
          <a:custGeom>
            <a:avLst/>
            <a:gdLst>
              <a:gd name="textAreaLeft" fmla="*/ 0 w 362160"/>
              <a:gd name="textAreaRight" fmla="*/ 130680 w 362160"/>
              <a:gd name="textAreaTop" fmla="*/ 161280 h 6193080"/>
              <a:gd name="textAreaBottom" fmla="*/ 6031800 h 619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53120" y="1628640"/>
            <a:ext cx="0" cy="3527640"/>
          </a:xfrm>
          <a:prstGeom prst="line">
            <a:avLst/>
          </a:prstGeom>
          <a:ln w="9360">
            <a:solidFill>
              <a:srgbClr val="e75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72200" y="4076640"/>
            <a:ext cx="14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ридобив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16760" y="5584680"/>
            <a:ext cx="151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e75299"/>
                </a:solidFill>
                <a:latin typeface="Arial"/>
              </a:rPr>
              <a:t>Външен расте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7597080" y="4725360"/>
            <a:ext cx="287280" cy="12952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6A33-282F-4626-AB89-E5B2F80B01E2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3f8a"/>
                </a:solidFill>
                <a:latin typeface="Arial"/>
              </a:rPr>
              <a:t>Разширяване на продуктовата гама, използвайки настоящия бизнес модел</a:t>
            </a:r>
            <a:endParaRPr b="1" lang="en-US" sz="22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5950080"/>
            <a:ext cx="1944360" cy="539640"/>
          </a:xfrm>
          <a:prstGeom prst="rect">
            <a:avLst/>
          </a:prstGeom>
          <a:solidFill>
            <a:srgbClr val="e75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гру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5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род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59640" y="5950080"/>
            <a:ext cx="2016000" cy="539640"/>
          </a:xfrm>
          <a:prstGeom prst="rect">
            <a:avLst/>
          </a:prstGeom>
          <a:solidFill>
            <a:srgbClr val="e75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гру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род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950080"/>
            <a:ext cx="1800000" cy="539640"/>
          </a:xfrm>
          <a:prstGeom prst="rect">
            <a:avLst/>
          </a:prstGeom>
          <a:solidFill>
            <a:srgbClr val="e75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род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9160" y="2967120"/>
            <a:ext cx="1192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4640" y="2395440"/>
            <a:ext cx="1860840" cy="90504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50760" y="2238480"/>
            <a:ext cx="687600" cy="45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20600" y="2276640"/>
            <a:ext cx="598680" cy="3315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41400" y="2651040"/>
            <a:ext cx="685800" cy="45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0880" y="2637000"/>
            <a:ext cx="747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Corporate</a:t>
            </a:r>
            <a:br>
              <a:rPr sz="500"/>
            </a:b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customer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c479d"/>
                </a:solidFill>
                <a:latin typeface="Arial"/>
              </a:rPr>
              <a:t>340 000 companies and public institu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2920" y="2671920"/>
            <a:ext cx="687240" cy="45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2708280"/>
            <a:ext cx="666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Service provider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c479d"/>
                </a:solidFill>
                <a:latin typeface="Arial"/>
              </a:rPr>
              <a:t>1 million affiliate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3044880"/>
            <a:ext cx="687240" cy="45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66960" y="3084480"/>
            <a:ext cx="693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Employees (beneficiaries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c479d"/>
                </a:solidFill>
                <a:latin typeface="Arial"/>
              </a:rPr>
              <a:t>21 million user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20048400">
            <a:off x="636120" y="2475000"/>
            <a:ext cx="162000" cy="77760"/>
          </a:xfrm>
          <a:custGeom>
            <a:avLst/>
            <a:gdLst>
              <a:gd name="textAreaLeft" fmla="*/ 25200 w 162000"/>
              <a:gd name="textAreaRight" fmla="*/ 141840 w 162000"/>
              <a:gd name="textAreaTop" fmla="*/ 19440 h 77760"/>
              <a:gd name="textAreaBottom" fmla="*/ 58320 h 77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2354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284600">
            <a:off x="1812960" y="2453760"/>
            <a:ext cx="162000" cy="79560"/>
          </a:xfrm>
          <a:custGeom>
            <a:avLst/>
            <a:gdLst>
              <a:gd name="textAreaLeft" fmla="*/ 25200 w 162000"/>
              <a:gd name="textAreaRight" fmla="*/ 141840 w 162000"/>
              <a:gd name="textAreaTop" fmla="*/ 19800 h 79560"/>
              <a:gd name="textAreaBottom" fmla="*/ 59760 h 7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9516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9464400">
            <a:off x="1828080" y="3161880"/>
            <a:ext cx="160200" cy="79560"/>
          </a:xfrm>
          <a:custGeom>
            <a:avLst/>
            <a:gdLst>
              <a:gd name="textAreaLeft" fmla="*/ 24840 w 160200"/>
              <a:gd name="textAreaRight" fmla="*/ 140400 w 160200"/>
              <a:gd name="textAreaTop" fmla="*/ 19800 h 79560"/>
              <a:gd name="textAreaBottom" fmla="*/ 59760 h 7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38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2113400">
            <a:off x="681120" y="3161880"/>
            <a:ext cx="162000" cy="79560"/>
          </a:xfrm>
          <a:custGeom>
            <a:avLst/>
            <a:gdLst>
              <a:gd name="textAreaLeft" fmla="*/ 25200 w 162000"/>
              <a:gd name="textAreaRight" fmla="*/ 141840 w 162000"/>
              <a:gd name="textAreaTop" fmla="*/ 19800 h 79560"/>
              <a:gd name="textAreaBottom" fmla="*/ 59760 h 7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20286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75040" y="2967120"/>
            <a:ext cx="1192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30520" y="2395440"/>
            <a:ext cx="1860480" cy="90504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76640" y="2238480"/>
            <a:ext cx="687600" cy="45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114800" y="2298600"/>
            <a:ext cx="63324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967280" y="2651040"/>
            <a:ext cx="685800" cy="45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46760" y="2637000"/>
            <a:ext cx="747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Corporate</a:t>
            </a:r>
            <a:br>
              <a:rPr sz="500"/>
            </a:b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customer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c479d"/>
                </a:solidFill>
                <a:latin typeface="Arial"/>
              </a:rPr>
              <a:t>340 000 companies and public institu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68800" y="2671920"/>
            <a:ext cx="687240" cy="45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8160" y="2708280"/>
            <a:ext cx="666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Service provider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c479d"/>
                </a:solidFill>
                <a:latin typeface="Arial"/>
              </a:rPr>
              <a:t>1 million affiliate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97160" y="3044880"/>
            <a:ext cx="687600" cy="45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92480" y="3084480"/>
            <a:ext cx="693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Employees (beneficiaries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c479d"/>
                </a:solidFill>
                <a:latin typeface="Arial"/>
              </a:rPr>
              <a:t>21 million user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20048400">
            <a:off x="3762000" y="2475000"/>
            <a:ext cx="162000" cy="77760"/>
          </a:xfrm>
          <a:custGeom>
            <a:avLst/>
            <a:gdLst>
              <a:gd name="textAreaLeft" fmla="*/ 25200 w 162000"/>
              <a:gd name="textAreaRight" fmla="*/ 141840 w 162000"/>
              <a:gd name="textAreaTop" fmla="*/ 19440 h 77760"/>
              <a:gd name="textAreaBottom" fmla="*/ 58320 h 77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2354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284600">
            <a:off x="4938840" y="2454120"/>
            <a:ext cx="161640" cy="79560"/>
          </a:xfrm>
          <a:custGeom>
            <a:avLst/>
            <a:gdLst>
              <a:gd name="textAreaLeft" fmla="*/ 25200 w 161640"/>
              <a:gd name="textAreaRight" fmla="*/ 141480 w 161640"/>
              <a:gd name="textAreaTop" fmla="*/ 19800 h 79560"/>
              <a:gd name="textAreaBottom" fmla="*/ 59760 h 7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9516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9464400">
            <a:off x="4953960" y="3161880"/>
            <a:ext cx="160200" cy="79560"/>
          </a:xfrm>
          <a:custGeom>
            <a:avLst/>
            <a:gdLst>
              <a:gd name="textAreaLeft" fmla="*/ 24840 w 160200"/>
              <a:gd name="textAreaRight" fmla="*/ 140400 w 160200"/>
              <a:gd name="textAreaTop" fmla="*/ 19800 h 79560"/>
              <a:gd name="textAreaBottom" fmla="*/ 59760 h 7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38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2113400">
            <a:off x="3806640" y="3161880"/>
            <a:ext cx="161640" cy="79560"/>
          </a:xfrm>
          <a:custGeom>
            <a:avLst/>
            <a:gdLst>
              <a:gd name="textAreaLeft" fmla="*/ 25200 w 161640"/>
              <a:gd name="textAreaRight" fmla="*/ 141480 w 161640"/>
              <a:gd name="textAreaTop" fmla="*/ 19800 h 79560"/>
              <a:gd name="textAreaBottom" fmla="*/ 59760 h 7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20286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00920" y="2967120"/>
            <a:ext cx="1192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56400" y="2395440"/>
            <a:ext cx="1860480" cy="90504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02520" y="2238480"/>
            <a:ext cx="687240" cy="4521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93160" y="2651040"/>
            <a:ext cx="685800" cy="45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72280" y="2749680"/>
            <a:ext cx="7477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Corporate</a:t>
            </a:r>
            <a:br>
              <a:rPr sz="500"/>
            </a:b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customer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94320" y="2671920"/>
            <a:ext cx="687600" cy="45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04040" y="2784600"/>
            <a:ext cx="6667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Service provider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23040" y="3044880"/>
            <a:ext cx="687600" cy="45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18360" y="3084480"/>
            <a:ext cx="69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Employees (beneficiaries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0048400">
            <a:off x="6887880" y="2475000"/>
            <a:ext cx="162000" cy="77760"/>
          </a:xfrm>
          <a:custGeom>
            <a:avLst/>
            <a:gdLst>
              <a:gd name="textAreaLeft" fmla="*/ 25200 w 162000"/>
              <a:gd name="textAreaRight" fmla="*/ 141840 w 162000"/>
              <a:gd name="textAreaTop" fmla="*/ 19440 h 77760"/>
              <a:gd name="textAreaBottom" fmla="*/ 58320 h 77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2354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284600">
            <a:off x="8064360" y="2453760"/>
            <a:ext cx="162000" cy="79560"/>
          </a:xfrm>
          <a:custGeom>
            <a:avLst/>
            <a:gdLst>
              <a:gd name="textAreaLeft" fmla="*/ 25200 w 162000"/>
              <a:gd name="textAreaRight" fmla="*/ 141840 w 162000"/>
              <a:gd name="textAreaTop" fmla="*/ 19800 h 79560"/>
              <a:gd name="textAreaBottom" fmla="*/ 59760 h 7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9516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9464400">
            <a:off x="8079840" y="3161520"/>
            <a:ext cx="160560" cy="79560"/>
          </a:xfrm>
          <a:custGeom>
            <a:avLst/>
            <a:gdLst>
              <a:gd name="textAreaLeft" fmla="*/ 24840 w 160560"/>
              <a:gd name="textAreaRight" fmla="*/ 140760 w 160560"/>
              <a:gd name="textAreaTop" fmla="*/ 19800 h 79560"/>
              <a:gd name="textAreaBottom" fmla="*/ 59760 h 7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38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2113400">
            <a:off x="6932520" y="3161880"/>
            <a:ext cx="162000" cy="79560"/>
          </a:xfrm>
          <a:custGeom>
            <a:avLst/>
            <a:gdLst>
              <a:gd name="textAreaLeft" fmla="*/ 25200 w 162000"/>
              <a:gd name="textAreaRight" fmla="*/ 141840 w 162000"/>
              <a:gd name="textAreaTop" fmla="*/ 19800 h 79560"/>
              <a:gd name="textAreaBottom" fmla="*/ 59760 h 7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20286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4160" y="1736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5299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00040" y="1736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5299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24120" y="1736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5299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1700280"/>
            <a:ext cx="7885080" cy="431640"/>
          </a:xfrm>
          <a:prstGeom prst="rect">
            <a:avLst/>
          </a:prstGeom>
          <a:noFill/>
          <a:ln w="9360">
            <a:solidFill>
              <a:srgbClr val="e75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792000" y="3778200"/>
            <a:ext cx="1087560" cy="320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876840" y="4249800"/>
            <a:ext cx="1652400" cy="322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3876840" y="3732120"/>
            <a:ext cx="914400" cy="3193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3890880" y="4770360"/>
            <a:ext cx="1067040" cy="301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3876840" y="5270400"/>
            <a:ext cx="990360" cy="335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792000" y="4237200"/>
            <a:ext cx="1151280" cy="339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9"/>
          <a:stretch/>
        </p:blipFill>
        <p:spPr>
          <a:xfrm>
            <a:off x="6804000" y="5494320"/>
            <a:ext cx="647640" cy="260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780920" cy="1819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1"/>
          <a:stretch/>
        </p:blipFill>
        <p:spPr>
          <a:xfrm>
            <a:off x="7236000" y="2349360"/>
            <a:ext cx="580680" cy="1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539D-E4E6-440B-98FE-AE6BD0EAE1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f8a"/>
                </a:solidFill>
                <a:latin typeface="Arial"/>
              </a:rPr>
              <a:t>Стартиране в нови държави</a:t>
            </a: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1711" t="0" r="0" b="0"/>
          <a:stretch/>
        </p:blipFill>
        <p:spPr>
          <a:xfrm>
            <a:off x="433440" y="1603440"/>
            <a:ext cx="8291520" cy="4330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90560" y="1527120"/>
            <a:ext cx="746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00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6720" y="1612800"/>
            <a:ext cx="8172720" cy="4321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09080" y="1814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5299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34960" y="1814400"/>
            <a:ext cx="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5299"/>
                </a:solidFill>
                <a:latin typeface="Arial"/>
              </a:rPr>
              <a:t>20</a:t>
            </a:r>
            <a:r>
              <a:rPr b="1" lang="bg-BG" sz="1800" spc="-1" strike="noStrike">
                <a:solidFill>
                  <a:srgbClr val="e75299"/>
                </a:solidFill>
                <a:latin typeface="Arial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59040" y="1814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5299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3981600"/>
            <a:ext cx="1655640" cy="360360"/>
          </a:xfrm>
          <a:prstGeom prst="rect">
            <a:avLst/>
          </a:prstGeom>
          <a:solidFill>
            <a:srgbClr val="e75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0800" y="3956040"/>
            <a:ext cx="17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ърж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4560" y="1835280"/>
            <a:ext cx="7885080" cy="320400"/>
          </a:xfrm>
          <a:prstGeom prst="rect">
            <a:avLst/>
          </a:prstGeom>
          <a:noFill/>
          <a:ln w="9360">
            <a:solidFill>
              <a:srgbClr val="e75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08360" y="3989520"/>
            <a:ext cx="1655640" cy="360360"/>
          </a:xfrm>
          <a:prstGeom prst="rect">
            <a:avLst/>
          </a:prstGeom>
          <a:solidFill>
            <a:srgbClr val="e75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89800" y="3989520"/>
            <a:ext cx="1871640" cy="360360"/>
          </a:xfrm>
          <a:prstGeom prst="rect">
            <a:avLst/>
          </a:prstGeom>
          <a:solidFill>
            <a:srgbClr val="e75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75240" y="3963960"/>
            <a:ext cx="17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ърж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47040" y="39895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5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ърж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5502240"/>
            <a:ext cx="3924000" cy="719280"/>
          </a:xfrm>
          <a:prstGeom prst="rect">
            <a:avLst/>
          </a:prstGeom>
          <a:solidFill>
            <a:srgbClr val="b53e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rmAutofit/>
          </a:bodyPr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държави пред старти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5880" y="3078000"/>
            <a:ext cx="1192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1360" y="2506680"/>
            <a:ext cx="1860480" cy="90468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87480" y="2349360"/>
            <a:ext cx="687240" cy="45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042920" y="2376360"/>
            <a:ext cx="598680" cy="331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78120" y="2762280"/>
            <a:ext cx="685800" cy="45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57240" y="2733840"/>
            <a:ext cx="747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Corporate</a:t>
            </a:r>
            <a:br>
              <a:rPr sz="500"/>
            </a:b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customer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c479d"/>
                </a:solidFill>
                <a:latin typeface="Arial"/>
              </a:rPr>
              <a:t>340 000 companies and public institu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2782800"/>
            <a:ext cx="687600" cy="45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9000" y="2852640"/>
            <a:ext cx="666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Service provider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c479d"/>
                </a:solidFill>
                <a:latin typeface="Arial"/>
              </a:rPr>
              <a:t>1 million affiliate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08000" y="3156120"/>
            <a:ext cx="687600" cy="45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03320" y="3195720"/>
            <a:ext cx="693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Employees (beneficiaries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c479d"/>
                </a:solidFill>
                <a:latin typeface="Arial"/>
              </a:rPr>
              <a:t>21 million user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20048400">
            <a:off x="672840" y="2585520"/>
            <a:ext cx="162000" cy="78120"/>
          </a:xfrm>
          <a:custGeom>
            <a:avLst/>
            <a:gdLst>
              <a:gd name="textAreaLeft" fmla="*/ 25200 w 162000"/>
              <a:gd name="textAreaRight" fmla="*/ 141840 w 162000"/>
              <a:gd name="textAreaTop" fmla="*/ 19440 h 78120"/>
              <a:gd name="textAreaBottom" fmla="*/ 58680 h 78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2354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284600">
            <a:off x="1849320" y="2565000"/>
            <a:ext cx="162000" cy="79560"/>
          </a:xfrm>
          <a:custGeom>
            <a:avLst/>
            <a:gdLst>
              <a:gd name="textAreaLeft" fmla="*/ 25200 w 162000"/>
              <a:gd name="textAreaRight" fmla="*/ 141840 w 162000"/>
              <a:gd name="textAreaTop" fmla="*/ 19800 h 79560"/>
              <a:gd name="textAreaBottom" fmla="*/ 59760 h 7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9516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9464400">
            <a:off x="1864800" y="3273120"/>
            <a:ext cx="160560" cy="79200"/>
          </a:xfrm>
          <a:custGeom>
            <a:avLst/>
            <a:gdLst>
              <a:gd name="textAreaLeft" fmla="*/ 24840 w 160560"/>
              <a:gd name="textAreaRight" fmla="*/ 140760 w 160560"/>
              <a:gd name="textAreaTop" fmla="*/ 19800 h 79200"/>
              <a:gd name="textAreaBottom" fmla="*/ 59400 h 79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38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2113400">
            <a:off x="717480" y="3273480"/>
            <a:ext cx="162000" cy="79200"/>
          </a:xfrm>
          <a:custGeom>
            <a:avLst/>
            <a:gdLst>
              <a:gd name="textAreaLeft" fmla="*/ 25200 w 162000"/>
              <a:gd name="textAreaRight" fmla="*/ 141840 w 162000"/>
              <a:gd name="textAreaTop" fmla="*/ 19800 h 79200"/>
              <a:gd name="textAreaBottom" fmla="*/ 59400 h 79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20286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11760" y="3078000"/>
            <a:ext cx="1191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67240" y="2506680"/>
            <a:ext cx="1860480" cy="90468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3360" y="2349360"/>
            <a:ext cx="687240" cy="45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151160" y="2409840"/>
            <a:ext cx="633600" cy="307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003640" y="2762280"/>
            <a:ext cx="685800" cy="45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83120" y="2781360"/>
            <a:ext cx="747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Corporate</a:t>
            </a:r>
            <a:br>
              <a:rPr sz="500"/>
            </a:b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customer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c479d"/>
                </a:solidFill>
                <a:latin typeface="Arial"/>
              </a:rPr>
              <a:t>340 000 companies and public institu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05160" y="2782800"/>
            <a:ext cx="687240" cy="45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14880" y="2895480"/>
            <a:ext cx="666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Service provider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c479d"/>
                </a:solidFill>
                <a:latin typeface="Arial"/>
              </a:rPr>
              <a:t>1 million affiliate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33880" y="3156120"/>
            <a:ext cx="687240" cy="45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29200" y="3195720"/>
            <a:ext cx="693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Employees (beneficiaries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c479d"/>
                </a:solidFill>
                <a:latin typeface="Arial"/>
              </a:rPr>
              <a:t>21 million user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20048400">
            <a:off x="3798360" y="2585520"/>
            <a:ext cx="162000" cy="78120"/>
          </a:xfrm>
          <a:custGeom>
            <a:avLst/>
            <a:gdLst>
              <a:gd name="textAreaLeft" fmla="*/ 25200 w 162000"/>
              <a:gd name="textAreaRight" fmla="*/ 141840 w 162000"/>
              <a:gd name="textAreaTop" fmla="*/ 19440 h 78120"/>
              <a:gd name="textAreaBottom" fmla="*/ 58680 h 78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2354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284600">
            <a:off x="4975200" y="2565000"/>
            <a:ext cx="162000" cy="79560"/>
          </a:xfrm>
          <a:custGeom>
            <a:avLst/>
            <a:gdLst>
              <a:gd name="textAreaLeft" fmla="*/ 25200 w 162000"/>
              <a:gd name="textAreaRight" fmla="*/ 141840 w 162000"/>
              <a:gd name="textAreaTop" fmla="*/ 19800 h 79560"/>
              <a:gd name="textAreaBottom" fmla="*/ 59760 h 7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9516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9464400">
            <a:off x="4990680" y="3273120"/>
            <a:ext cx="160560" cy="79200"/>
          </a:xfrm>
          <a:custGeom>
            <a:avLst/>
            <a:gdLst>
              <a:gd name="textAreaLeft" fmla="*/ 24840 w 160560"/>
              <a:gd name="textAreaRight" fmla="*/ 140760 w 160560"/>
              <a:gd name="textAreaTop" fmla="*/ 19800 h 79200"/>
              <a:gd name="textAreaBottom" fmla="*/ 59400 h 79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38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2113400">
            <a:off x="3843360" y="3273480"/>
            <a:ext cx="162000" cy="79200"/>
          </a:xfrm>
          <a:custGeom>
            <a:avLst/>
            <a:gdLst>
              <a:gd name="textAreaLeft" fmla="*/ 25200 w 162000"/>
              <a:gd name="textAreaRight" fmla="*/ 141840 w 162000"/>
              <a:gd name="textAreaTop" fmla="*/ 19800 h 79200"/>
              <a:gd name="textAreaBottom" fmla="*/ 59400 h 79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20286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37280" y="3078000"/>
            <a:ext cx="1192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92760" y="2506680"/>
            <a:ext cx="1860840" cy="90468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38880" y="2349360"/>
            <a:ext cx="687600" cy="4525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129520" y="2762280"/>
            <a:ext cx="685800" cy="45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109000" y="2860560"/>
            <a:ext cx="7477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Corporate</a:t>
            </a:r>
            <a:br>
              <a:rPr sz="500"/>
            </a:b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customer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31040" y="2782800"/>
            <a:ext cx="687240" cy="45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40400" y="2895480"/>
            <a:ext cx="6667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Service provider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59760" y="3156120"/>
            <a:ext cx="687240" cy="45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54720" y="3195720"/>
            <a:ext cx="69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c479d"/>
                </a:solidFill>
                <a:latin typeface="Arial"/>
              </a:rPr>
              <a:t>Employees (beneficiaries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0048400">
            <a:off x="6924240" y="2585520"/>
            <a:ext cx="162000" cy="78120"/>
          </a:xfrm>
          <a:custGeom>
            <a:avLst/>
            <a:gdLst>
              <a:gd name="textAreaLeft" fmla="*/ 25200 w 162000"/>
              <a:gd name="textAreaRight" fmla="*/ 141840 w 162000"/>
              <a:gd name="textAreaTop" fmla="*/ 19440 h 78120"/>
              <a:gd name="textAreaBottom" fmla="*/ 58680 h 78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2354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284600">
            <a:off x="8101080" y="2565000"/>
            <a:ext cx="162000" cy="79560"/>
          </a:xfrm>
          <a:custGeom>
            <a:avLst/>
            <a:gdLst>
              <a:gd name="textAreaLeft" fmla="*/ 25200 w 162000"/>
              <a:gd name="textAreaRight" fmla="*/ 141840 w 162000"/>
              <a:gd name="textAreaTop" fmla="*/ 19800 h 79560"/>
              <a:gd name="textAreaBottom" fmla="*/ 59760 h 7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9516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9464400">
            <a:off x="8116200" y="3273480"/>
            <a:ext cx="160200" cy="79200"/>
          </a:xfrm>
          <a:custGeom>
            <a:avLst/>
            <a:gdLst>
              <a:gd name="textAreaLeft" fmla="*/ 24840 w 160200"/>
              <a:gd name="textAreaRight" fmla="*/ 140400 w 160200"/>
              <a:gd name="textAreaTop" fmla="*/ 19800 h 79200"/>
              <a:gd name="textAreaBottom" fmla="*/ 59400 h 79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38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2113400">
            <a:off x="6968880" y="3273480"/>
            <a:ext cx="161640" cy="79200"/>
          </a:xfrm>
          <a:custGeom>
            <a:avLst/>
            <a:gdLst>
              <a:gd name="textAreaLeft" fmla="*/ 25200 w 161640"/>
              <a:gd name="textAreaRight" fmla="*/ 141480 w 161640"/>
              <a:gd name="textAreaTop" fmla="*/ 19800 h 79200"/>
              <a:gd name="textAreaBottom" fmla="*/ 59400 h 79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20286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7308720" y="2492280"/>
            <a:ext cx="581040" cy="1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13D6-0B7C-409E-9E9B-17E6BB82B4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81160"/>
            <a:ext cx="390384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f8a"/>
                </a:solidFill>
                <a:latin typeface="Arial"/>
              </a:rPr>
              <a:t>Външен растеж</a:t>
            </a: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508720" y="4581360"/>
            <a:ext cx="1123920" cy="3096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211640" y="4076640"/>
            <a:ext cx="1050840" cy="700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4643280" y="3645000"/>
            <a:ext cx="1086120" cy="2556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6012000" y="2781360"/>
            <a:ext cx="1376280" cy="5572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7993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3000" indent="-243000">
              <a:lnSpc>
                <a:spcPct val="80000"/>
              </a:lnSpc>
              <a:spcBef>
                <a:spcPts val="451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f8a"/>
                </a:solidFill>
                <a:latin typeface="Arial"/>
              </a:rPr>
              <a:t>Придобиване на пазарен дя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71360">
              <a:lnSpc>
                <a:spcPct val="80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Commuter check</a:t>
            </a:r>
            <a:r>
              <a:rPr b="0" lang="fr-FR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e75299"/>
                </a:solidFill>
                <a:latin typeface="Arial"/>
              </a:rPr>
              <a:t>USA-</a:t>
            </a:r>
            <a:r>
              <a:rPr b="0" lang="fr-FR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2006 (Transport voucher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71360">
              <a:lnSpc>
                <a:spcPct val="80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Stimula </a:t>
            </a:r>
            <a:r>
              <a:rPr b="0" lang="fr-FR" sz="1500" spc="-1" strike="noStrike">
                <a:solidFill>
                  <a:srgbClr val="e75299"/>
                </a:solidFill>
                <a:latin typeface="Arial"/>
              </a:rPr>
              <a:t>France-</a:t>
            </a:r>
            <a:r>
              <a:rPr b="0" lang="fr-FR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2006 (Gift voucher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71360">
              <a:lnSpc>
                <a:spcPct val="80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Kadeos </a:t>
            </a:r>
            <a:r>
              <a:rPr b="0" lang="fr-FR" sz="1500" spc="-1" strike="noStrike">
                <a:solidFill>
                  <a:srgbClr val="e75299"/>
                </a:solidFill>
                <a:latin typeface="Arial"/>
              </a:rPr>
              <a:t>France –</a:t>
            </a: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 2006 (Gift voucher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71360">
              <a:lnSpc>
                <a:spcPct val="80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Autocup</a:t>
            </a:r>
            <a:r>
              <a:rPr b="0" lang="en-US" sz="1500" spc="-1" strike="noStrike">
                <a:solidFill>
                  <a:srgbClr val="003f8a"/>
                </a:solidFill>
                <a:latin typeface="Arial"/>
                <a:ea typeface="Arial"/>
              </a:rPr>
              <a:t>ón </a:t>
            </a:r>
            <a:r>
              <a:rPr b="0" lang="en-US" sz="1500" spc="-1" strike="noStrike">
                <a:solidFill>
                  <a:srgbClr val="e75299"/>
                </a:solidFill>
                <a:latin typeface="Arial"/>
                <a:ea typeface="Arial"/>
              </a:rPr>
              <a:t>Mexico –</a:t>
            </a:r>
            <a:r>
              <a:rPr b="0" lang="en-US" sz="1500" spc="-1" strike="noStrike">
                <a:solidFill>
                  <a:srgbClr val="003f8a"/>
                </a:solidFill>
                <a:latin typeface="Arial"/>
                <a:ea typeface="Arial"/>
              </a:rPr>
              <a:t> 2007 (Gasoline card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71360">
              <a:lnSpc>
                <a:spcPct val="80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Intercheque Incentives SA Pty </a:t>
            </a:r>
            <a:r>
              <a:rPr b="0" lang="fr-FR" sz="1500" spc="-1" strike="noStrike">
                <a:solidFill>
                  <a:srgbClr val="e75299"/>
                </a:solidFill>
                <a:latin typeface="Arial"/>
              </a:rPr>
              <a:t>South Africa –</a:t>
            </a: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 2007 (Gift vouch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71360">
              <a:lnSpc>
                <a:spcPct val="80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SurfGold </a:t>
            </a:r>
            <a:r>
              <a:rPr b="0" lang="fr-FR" sz="1500" spc="-1" strike="noStrike">
                <a:solidFill>
                  <a:srgbClr val="e75299"/>
                </a:solidFill>
                <a:latin typeface="Arial"/>
              </a:rPr>
              <a:t>Asia –</a:t>
            </a: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 2007 (Loyalty and reward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71360">
              <a:lnSpc>
                <a:spcPct val="80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Tintelingen </a:t>
            </a:r>
            <a:r>
              <a:rPr b="0" lang="fr-FR" sz="1500" spc="-1" strike="noStrike">
                <a:solidFill>
                  <a:srgbClr val="e75299"/>
                </a:solidFill>
                <a:latin typeface="Arial"/>
              </a:rPr>
              <a:t>Nederlands –</a:t>
            </a: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 2007 (Gift voucher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71360">
              <a:lnSpc>
                <a:spcPct val="80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In-Action Scandinavia </a:t>
            </a:r>
            <a:r>
              <a:rPr b="0" lang="fr-FR" sz="1500" spc="-1" strike="noStrike">
                <a:solidFill>
                  <a:srgbClr val="e75299"/>
                </a:solidFill>
                <a:latin typeface="Arial"/>
              </a:rPr>
              <a:t>Sweden –</a:t>
            </a: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 2007 (Wellness products and service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43000" indent="-243000">
              <a:lnSpc>
                <a:spcPct val="80000"/>
              </a:lnSpc>
              <a:spcBef>
                <a:spcPts val="451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f8a"/>
                </a:solidFill>
                <a:latin typeface="Arial"/>
              </a:rPr>
              <a:t>Придобиване на нови експертиза и “ноу-хау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71360">
              <a:lnSpc>
                <a:spcPct val="80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Wired Commute</a:t>
            </a:r>
            <a:r>
              <a:rPr b="0" lang="fr-FR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e75299"/>
                </a:solidFill>
                <a:latin typeface="Arial"/>
              </a:rPr>
              <a:t>USA-</a:t>
            </a:r>
            <a:r>
              <a:rPr b="0" lang="fr-FR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2005 (Transport voucher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71360">
              <a:lnSpc>
                <a:spcPct val="80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Delicard </a:t>
            </a:r>
            <a:r>
              <a:rPr b="0" lang="fr-FR" sz="1500" spc="-1" strike="noStrike">
                <a:solidFill>
                  <a:srgbClr val="e75299"/>
                </a:solidFill>
                <a:latin typeface="Arial"/>
              </a:rPr>
              <a:t>Finland</a:t>
            </a:r>
            <a:r>
              <a:rPr b="0" lang="fr-FR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(Gift voucher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71360">
              <a:lnSpc>
                <a:spcPct val="80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Prepay Technologies Ltd </a:t>
            </a:r>
            <a:r>
              <a:rPr b="0" lang="fr-FR" sz="1500" spc="-1" strike="noStrike">
                <a:solidFill>
                  <a:srgbClr val="e75299"/>
                </a:solidFill>
                <a:latin typeface="Arial"/>
              </a:rPr>
              <a:t>UK –</a:t>
            </a: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 2007 (Prepaid card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43000" indent="-243000">
              <a:lnSpc>
                <a:spcPct val="80000"/>
              </a:lnSpc>
              <a:spcBef>
                <a:spcPts val="451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f8a"/>
                </a:solidFill>
                <a:latin typeface="Arial"/>
              </a:rPr>
              <a:t>Партньорства</a:t>
            </a:r>
            <a:r>
              <a:rPr b="1" lang="fr-FR" sz="1800" spc="-1" strike="noStrike">
                <a:solidFill>
                  <a:srgbClr val="003f8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71360">
              <a:lnSpc>
                <a:spcPct val="80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Caisse d’épargn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71360">
              <a:lnSpc>
                <a:spcPct val="80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f8a"/>
                </a:solidFill>
                <a:latin typeface="Arial"/>
              </a:rPr>
              <a:t>Europ Assistan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0546-AEEB-42D1-BC89-1B1607C67C6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08:11:28Z</dcterms:created>
  <dc:creator>hparnaudeau</dc:creator>
  <dc:description/>
  <dc:language>en-US</dc:language>
  <cp:lastModifiedBy>dmilushev</cp:lastModifiedBy>
  <dcterms:modified xsi:type="dcterms:W3CDTF">2008-06-26T12:16:41Z</dcterms:modified>
  <cp:revision>2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xpiration">
    <vt:lpwstr/>
  </property>
  <property fmtid="{D5CDD505-2E9C-101B-9397-08002B2CF9AE}" pid="3" name="Owner">
    <vt:lpwstr/>
  </property>
  <property fmtid="{D5CDD505-2E9C-101B-9397-08002B2CF9AE}" pid="4" name="Publication">
    <vt:lpwstr/>
  </property>
  <property fmtid="{D5CDD505-2E9C-101B-9397-08002B2CF9AE}" pid="5" name="SPSDescription">
    <vt:lpwstr/>
  </property>
  <property fmtid="{D5CDD505-2E9C-101B-9397-08002B2CF9AE}" pid="6" name="Status">
    <vt:lpwstr/>
  </property>
</Properties>
</file>