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670-AB34-49D5-B64C-C48833B2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452-5FDB-4EFA-9A33-AA9F6E5F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A8E-711F-4481-82D6-E763C834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70A-D7FC-4010-AB1D-A8E81D04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99A-22FD-4EB4-8B2B-DC0E92AA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002-84A9-4B06-A545-743C12A3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AC5-62FB-47DD-992B-14FC3625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35B-B1BF-47BA-99D8-2F5D086F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8CD-1DDA-41B4-B575-919E252E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0AB-2BEC-4596-AD98-433CDD83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964-2D6B-48F4-A1DC-01FC636B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DAF-5064-40B9-831A-EDB5C793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7361-8CC9-439A-AD7F-66943419DE7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HR </a:t>
            </a: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по време на икономическа криза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72392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Опит от практиката на производствена фирм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sney-Clipartcom" descr=""/>
          <p:cNvPicPr/>
          <p:nvPr/>
        </p:nvPicPr>
        <p:blipFill>
          <a:blip r:embed="rId1"/>
          <a:stretch/>
        </p:blipFill>
        <p:spPr>
          <a:xfrm>
            <a:off x="539640" y="0"/>
            <a:ext cx="7634520" cy="283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03280" y="189000"/>
            <a:ext cx="4248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Важните “да-” и “не-”действия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Какво да правим и какво да НЕ правим сега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(като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R-</a:t>
            </a: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и и като ръководители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Важни “да-”действия 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Самообладание и спокойствие</a:t>
            </a:r>
            <a:r>
              <a:rPr b="0" lang="bg-BG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Префокусиране на стратегията и дневния ред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Баланс между краткосрочните решения и дългосрочните цел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Подреждане на къщата”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Поглед към най-основното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Знаем ли какво става във всяко звено на фирмата ни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Знаем ли хората ни как се чувстват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Политиките/процедурите ни: достатъчно гъвкави ли са? Отговарят ли на реалността и целите ни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Важни “да-”действия 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Комуникация</a:t>
            </a:r>
            <a:r>
              <a:rPr b="0" lang="bg-BG" sz="2800" spc="-1" strike="noStrike" baseline="30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 – открита, ясна, точна, честна, навременн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Поддържане на мотивацията и лоялностт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Поддържане на ангажираностт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Управление на представянето чрез точно и ясно поставени цели</a:t>
            </a:r>
            <a:r>
              <a:rPr b="0" i="1" lang="en-GB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Фокус върху добрите ни служители и планиране на приемственостт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Ангажиране на колегите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Най-важното: </a:t>
            </a:r>
            <a:r>
              <a:rPr b="0" lang="bg-BG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Да НЕ спираме с това, което правим и в “нормални” времена!</a:t>
            </a:r>
            <a:r>
              <a:rPr b="0" lang="bg-BG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Важни “не-”действия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Да не спираме да търсим най-добрите специалисти за нашата фирма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Да не пропускаме възможности за увеличаване на приходите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Да внимаваме какви разходи “отрязваме”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Да не загубим погледа си върху дългосрочните цели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Да не чакаме какво ще се случи, а да правим да се случи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Да не загубваме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R 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идентичността си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Упражнение 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(1-ва част)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Запишете 3-те най-важни стратегически цели, които има Вашата фирма сега, към този момент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Спрямо 3-те стратегически цели на фирмата Ви, които записахте, отбележете основните цели и програми от Вашата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R </a:t>
            </a: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стратегия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Упражнение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 (2-ра част)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bg-BG" sz="3000" spc="-1" strike="noStrike">
                <a:solidFill>
                  <a:srgbClr val="000000"/>
                </a:solidFill>
                <a:latin typeface="Bookman Old Style"/>
              </a:rPr>
              <a:t>Идентифицирайте най-важните звена/групи/професионални роли във фирмата Ви, които допринасят най-много за постигане на набелязаните стратегически цели.</a:t>
            </a:r>
            <a:endParaRPr b="0" lang="en-US" sz="3000" spc="-1" strike="noStrike">
              <a:solidFill>
                <a:srgbClr val="000000"/>
              </a:solidFill>
              <a:latin typeface="Bookman Old Style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Bookman Old Style"/>
              </a:rPr>
              <a:t>(Тези роли, които допринасят най-пряко за постигане на фирмените стратегически цели и върху които, посредством 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HR </a:t>
            </a:r>
            <a:r>
              <a:rPr b="0" lang="bg-BG" sz="3000" spc="-1" strike="noStrike">
                <a:solidFill>
                  <a:srgbClr val="000000"/>
                </a:solidFill>
                <a:latin typeface="Bookman Old Style"/>
              </a:rPr>
              <a:t>инструменти, може да въздействате най-много и най-качествено.)</a:t>
            </a:r>
            <a:endParaRPr b="0" lang="en-US" sz="3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Упражнение</a:t>
            </a: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 (2-ра част)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 Вертикално съпоставяне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844640"/>
          <a:ext cx="8713800" cy="3470400"/>
        </p:xfrm>
        <a:graphic>
          <a:graphicData uri="http://schemas.openxmlformats.org/drawingml/2006/table">
            <a:tbl>
              <a:tblPr/>
              <a:tblGrid>
                <a:gridCol w="3573360"/>
                <a:gridCol w="1268280"/>
                <a:gridCol w="1266840"/>
                <a:gridCol w="1268640"/>
                <a:gridCol w="1336680"/>
              </a:tblGrid>
              <a:tr h="651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ля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ля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ля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ля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тегическа цел 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тегическа цел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тегическа цел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тегическа цел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тегическа цел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Упражнение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 (3-та част)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4. Разгледайте групите/ролите, които идентифицирахте като най-важни. Огледайте целите и програмите, които сте заложили в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R 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стратегията си.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За всяка от ролите поставете оценка от 1 до 5 до колко тези цели и програми са приложими към тези групи/роли и носят ефективни резултати, съобразно поставените цели.</a:t>
            </a: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(“1”- най-неприложими/неефективни; “5” – най-приложими/ефективни)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Упражнение</a:t>
            </a: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 (3-та част)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600"/>
            </a:b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Хоризонтално съпоставяне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1916280"/>
          <a:ext cx="8569080" cy="3887280"/>
        </p:xfrm>
        <a:graphic>
          <a:graphicData uri="http://schemas.openxmlformats.org/drawingml/2006/table">
            <a:tbl>
              <a:tblPr/>
              <a:tblGrid>
                <a:gridCol w="3573360"/>
                <a:gridCol w="1268280"/>
                <a:gridCol w="1266840"/>
                <a:gridCol w="1268640"/>
                <a:gridCol w="1191960"/>
              </a:tblGrid>
              <a:tr h="63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 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ля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ля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ля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рама 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рама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а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а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а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Общ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ca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889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За кризата, “Челопеч майнинг” и управлението на човешките ресурси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067280" y="321264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Реална практик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DSC03297" descr=""/>
          <p:cNvPicPr/>
          <p:nvPr/>
        </p:nvPicPr>
        <p:blipFill>
          <a:blip r:embed="rId1"/>
          <a:stretch/>
        </p:blipFill>
        <p:spPr>
          <a:xfrm>
            <a:off x="4140360" y="4149720"/>
            <a:ext cx="4829040" cy="2533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3271680"/>
            <a:ext cx="3600360" cy="3245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247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Съдържание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Същност на кризат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Вероятни (и вече реални) последстви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Откриващи се възможности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R 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екипът – с по-голяма принадена стойност за бизнеса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Кризата в минния бранш и опитът на “Челопеч майнинг”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Челопеч майнинг” ЕАД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Основна дейност - добив и преработка на медно-златни руди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 добити по подземен способ от находище „Челопеч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Металургична преработка -&gt; медно-златен концентрат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В близко бъдеще: инсталация за преработка на медно-златния концентрат до метали – катодна мед и злато Дорé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Собственост на Дънди прешъс металс, Канад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Характеристики: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Световно признати стандарти за работа  и безопасност на труда;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Грижа за околната среда;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Инвестиции в хората;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Мултикултурна среда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Визия и мисия на “Челопеч майнинг”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Bookman Old Style"/>
              </a:rPr>
              <a:t>Нашата Визия</a:t>
            </a:r>
            <a:r>
              <a:rPr b="1" i="1" lang="bg-BG" sz="2800" spc="-1" strike="noStrike">
                <a:solidFill>
                  <a:srgbClr val="000000"/>
                </a:solidFill>
                <a:latin typeface="Bookman Old Styl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Да бъдем най</a:t>
            </a:r>
            <a:r>
              <a:rPr b="0" i="1" lang="bg-BG" sz="28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ефективното миннодобивно</a:t>
            </a:r>
            <a:r>
              <a:rPr b="0" i="1" lang="bg-BG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геологопроучвателно и преработвателно предприятие в Европа</a:t>
            </a:r>
            <a:r>
              <a:rPr b="0" i="1" lang="bg-BG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Bookman Old Style"/>
              </a:rPr>
              <a:t>Нашата Мисия</a:t>
            </a:r>
            <a:r>
              <a:rPr b="1" i="1" lang="bg-BG" sz="2800" spc="-1" strike="noStrike">
                <a:solidFill>
                  <a:srgbClr val="000000"/>
                </a:solidFill>
                <a:latin typeface="Bookman Old Styl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Ние произвеждаме мед и злато за световния пазар по икономически ефективен</a:t>
            </a:r>
            <a:r>
              <a:rPr b="0" i="1" lang="bg-BG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безопасен и екологосъобразен начин</a:t>
            </a:r>
            <a:r>
              <a:rPr b="0" i="1" lang="bg-BG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Цели за следващите 3 години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.......... добив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 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2 млн. тона годишно през следващите две години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Преработка на руда до </a:t>
            </a:r>
            <a:r>
              <a:rPr b="0" i="1" lang="bg-BG" sz="2400" spc="-1" strike="noStrike">
                <a:solidFill>
                  <a:srgbClr val="000000"/>
                </a:solidFill>
                <a:latin typeface="Bookman Old Style"/>
              </a:rPr>
              <a:t>2 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млн</a:t>
            </a:r>
            <a:r>
              <a:rPr b="0" i="1" lang="bg-BG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тона годишно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лед 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ве години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Осигуряване на пазар за всички продукти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Успешно постигане на производствените цели с помощта на способни и ангажирани служители на всички нива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ъблюдаване и спазване на стандартите по безопасност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кологичните норми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онови и социални изисквания ......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оизводството да се осъществява 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по най-ефективния /рентабилен/ начин, при различни цени на металите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Отражение на кризата в минно-добивния/преработвателния бранш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Отражение на кризата в минно-добивния/преработвателния бранш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5" name="Chart 5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Chart 3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360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Какво сме направили до сега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6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Обсъждане и решение за “какво ще правим” на 2 мениджърски нива - Торонто и София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1011240" indent="-47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Пренастройка на цели и тактика за действие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1011240" indent="-47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План А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B, C </a:t>
            </a: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+ как ще ги осъществим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Комуникация с всички служители и представители на синдикатите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Ограничаване на разходите – настоящи и бюджетирани за 2009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Отлагане или преформулиране на инвестиционни проекти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Икономично използване на машини и техник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Оптимизиране на процеси – производство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експлоатация и ремонт; промяна на работното време на различни звена за по-ефективна организация на работат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Решенията ни: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Продължаваме към постигане на стратегическите си цели, дори и при наличието на много ограничения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Разширяваме рудник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Развиваме хората с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Осигуряваме клиенти за продуктите с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Усъвършенстваме стандартите си и методите си на работ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Какво ще или сме </a:t>
            </a:r>
            <a:br>
              <a:rPr sz="3600"/>
            </a:b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започнали да правим </a:t>
            </a: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подобряваме набора от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R 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умения, които трябва да има екипът ни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подобряваме ефективността на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R 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програмите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въвеждаме по-строги правила и процедури в областите, за които отговаряме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подобряваме вътрешно-фирмената комуникация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консултираме и обучаваме вътрешните си клиенти за по-добро управление на хора и процеси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изграждаме (където липсва) и да задържим мотивацията и ангажираността на хората си към работата и фирмат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работим по програмата си за изграждане на работодателската марка на Челопеч майнинг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развиваме многостранни умения у хората си, като преди това сме изследвали потребностите и потенциала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подобрим метриките си, за да са в синхрон с производствените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уговорим по-реалистични очаквания към нас и нашата работа и оптимизиране на срещите с колегите си от други звен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Да продължим да допринасяме за рентабилността на производството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Какво ще или сме </a:t>
            </a:r>
            <a:br>
              <a:rPr sz="3600"/>
            </a:b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започнали да правим </a:t>
            </a: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Благодарим Ви за вниманието!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1812960" cy="2305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4292640"/>
            <a:ext cx="5543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Bookman Old Style"/>
              </a:rPr>
              <a:t>От екипа на ЧМ</a:t>
            </a:r>
            <a:r>
              <a:rPr b="0" lang="bg-BG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Влади Радн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Кризата ...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Моля довършете изречението: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Криза, според мен, означава: ....”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Кризата...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Световна,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във всички сфери на живота,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с неизвестна продължителност и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(с не съвсем) предсказуеми резултати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Започна като финансова криза в една държава и се превърна в икономическа в световен мащаб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Обхваща държави, не отделни сектори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Намалено производство+ограничени на ресурси+цялостен спад на икономическа активност –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&gt;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 Рецеси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Идва след дълго затишие..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Кризата ...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397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Имате 5 мин. за да защитите тезите си: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Група 1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: Кризата дава възможности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Група 2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: Кризата крие много опасности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Вероятни последствия 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Загуба на пари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Загуба/ намаляване на проект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Загуба на клиент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Безпокойство и несигурност у хорат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Намалена мотивация за работ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Намалено внимание и концентрация върху работат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Понижена ангажираност към работата и фирмат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Отсъствия/ текучество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Вероятни последствия </a:t>
            </a: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Намаляване на продуктивностт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Загуба или намалени възможности за привличане на инвестиции/теглене на заем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Намалени заплати и придобивк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Съкращения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Поемане на повече задължения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Спорове, вкл. и съдебни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Спадане репутацията на фирмата, което може да доведе и до по-малко или по-некачествени кандидат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Bookman Old Style"/>
              </a:rPr>
              <a:t>Какви възможности открива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Bookman Old Style"/>
              </a:rPr>
              <a:t>Забавяне на темпа, за да се огледаме и видим неща, които не сме виждали или разбирали преди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Bookman Old Style"/>
              </a:rPr>
              <a:t>По-ефективно използване на ресурсите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Bookman Old Style"/>
              </a:rPr>
              <a:t>Оптимизиране на процеси и структури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bg-BG" sz="2600" spc="-1" strike="noStrike">
                <a:solidFill>
                  <a:srgbClr val="000000"/>
                </a:solidFill>
                <a:latin typeface="Bookman Old Style"/>
              </a:rPr>
              <a:t>Интензивно” (не екстензивно) повишаване на производителността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Bookman Old Style"/>
              </a:rPr>
              <a:t>Изпълнение на замислени, но неизпълнени идеи – одити, анализи, оценки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Bookman Old Style"/>
              </a:rPr>
              <a:t>Подобряване на умения и знания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Bookman Old Style"/>
              </a:rPr>
              <a:t>Необходимост да бъдем повече заедно и по-единни (в личен и професионален план)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HR </a:t>
            </a:r>
            <a:r>
              <a:rPr b="0" lang="bg-BG" sz="4000" spc="-1" strike="noStrike">
                <a:solidFill>
                  <a:srgbClr val="000000"/>
                </a:solidFill>
                <a:latin typeface="Bookman Old Style"/>
              </a:rPr>
              <a:t>екипът с повече принадена стойност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Bookman Old Style"/>
              </a:rPr>
              <a:t>Необходими и важни “да-” и “не-”действия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2:15:40Z</dcterms:created>
  <dc:creator>Vladislava Radneva</dc:creator>
  <dc:description/>
  <dc:language>en-US</dc:language>
  <cp:lastModifiedBy>eleonorat</cp:lastModifiedBy>
  <dcterms:modified xsi:type="dcterms:W3CDTF">2009-02-05T14:55:22Z</dcterms:modified>
  <cp:revision>339</cp:revision>
  <dc:subject/>
  <dc:title>HR по време на икономическа криза</dc:title>
</cp:coreProperties>
</file>