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dt" idx="6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ftr" idx="6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 type="sldNum" idx="6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90C7-6091-4E96-9245-8BAA6E143683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C48D-E1B3-420B-B476-4FD7C53AF1AB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91B2-878E-4FCA-94AF-AC22E1225E2B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659-2B21-4387-BA86-9812A9D1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C5A-8D1F-4125-82DC-A8C93640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444AA-FEF4-4E58-83D0-D157761E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9842C-06B0-4A43-BD5C-BF1E7189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4C813-575A-4A57-A91F-097D4804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1E213-1C0B-423F-A7DA-5D2AE7FE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AF7B6-149F-4080-945E-4CE9B41F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42E87-3852-404C-A10E-4C430745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6C696-1495-4665-811F-C6D8CB32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22B6D-0415-44C4-B73D-E06633E7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08195-0995-4450-BC25-A04815D3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48232-96E9-4338-A073-7BBE854F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0E0-7B5B-4204-BB77-3E8135A3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02AF7-7E44-4723-817B-117B00B3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9AB36-E7A5-4D47-B8B5-188B6A4B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65706-732D-48E1-8952-4F2ED075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5F530-6EA4-404D-8BF0-C84A7DA1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5C7C7-A5DC-446F-BB99-8A38A661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120F8-D5F6-4C96-B0F8-68362178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F17A6-723E-421C-9CE4-4862856B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EA40D-FB65-4B33-8369-EAF88849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E5446-EDE3-4631-86B5-C6ABFCAC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51409-C79A-4C75-8209-11553F82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A32-DEC9-4CB2-8AB5-F374C365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07E9A-A858-4E86-B5A4-5FB28C04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8DD7C-1144-4790-8D9C-E92B16FF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D9DF3-166D-486D-9336-5561E935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CEFB6-9BB3-46E3-A48E-B56D8893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0B41A-2AEC-49E9-9598-8F1C2C3B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8D21B-0E2C-4396-83BB-FAFEAE5C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9D2F8-F95E-43A1-914D-8CD67A06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5477C-9537-43C0-9F22-D0C4F3D8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150BB-138B-4E81-970B-BA94F462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75031-3F61-474A-BAF9-B7005748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D8BE-2F11-48D2-A55F-AD0EBA06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54D32-7F2E-41EF-B975-99833833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C4DD5-5C34-4D0D-82C1-8AB68AB9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522B0-2D18-4ED4-BB88-325C6861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39E50-2428-410E-8EE7-B58F967A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18F6C-5979-43C0-96D5-DE83440D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4A1F4-E9C1-4C9C-BA5E-57A22F63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60933-4B9B-49BA-B76F-8DB360E8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74633-3DD2-4D99-B2DF-A676D358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ECA66-703B-487E-86FD-88CF9B87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925C1-5537-4F21-A391-EDD4FF05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A8AE-A416-426C-877F-E9A0CE14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F1590-A912-4B50-8361-CA047A1C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E8963-1460-4624-81EE-C9752BC5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85D86-5814-4264-A464-B590C325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0D36E-8FB4-41EE-A746-FB60B5A7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A3149-6AA2-490C-9644-CD5C090B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01082D-ED09-442F-BFBE-E967D716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2E2D1-0676-4A3A-9B99-7CA59880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7640E-E429-4C40-BCED-0C00F92C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0FF09-C345-4328-93C4-9FD8E610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4E57CA-F746-4BDB-8435-FC3529B2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73A3-A3D2-4DB7-BCE0-9EE52775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08432-BB13-4942-9F63-6D418EFF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4B697-C742-449D-BB7B-4FE94CA6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8D28B-339C-4F2D-9E1F-BF106617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C54AA-53FA-47E6-A1C3-136451EA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BA554-415C-4238-9E7E-4757C626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D7E02-E7E6-432A-B856-E07DB95A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48DE7-F26E-4ECE-BBA0-175F6EB5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1524E-32E3-4835-8377-8C188BD8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84D66-F3A2-4FB7-96E6-2B3F2601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C1BCC5-3B43-4FD8-9BC2-C411F9DE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F0F0-2129-461B-9E47-43D98D75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D85E1-B703-4963-BA94-028F57DD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42866-ADFB-4AA7-BD4A-903845EA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5231A-64E4-4C9E-A8E2-BCA4BC58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CE861-E0D3-4DC4-95D4-43570C8E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3EDA3-5A2E-45F6-B246-B4DAF0DA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62B57-9307-4B97-986D-526045B7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58F56-557D-4546-9291-EC3FC078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4C0BB-8D8B-4A4D-AF33-19CA80E6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1B712-755B-4094-AC84-A587DC73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6CC03-D91C-4B99-9CB1-54F1D8D9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AEFC-8C19-4462-9038-F10591C2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D1266-2620-46B3-9ECB-73711918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F1085-2E61-4C18-B04F-E637DAB8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E873F4-5D9F-47A1-8266-FA88A631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C944E-8593-48B5-A121-6B56A39A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E55E1-F29B-4ED0-B623-D71C47B5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11DD2-B466-42EB-A067-255011D8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F7FFE0-FE68-484F-8F0C-10F6DB08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BD943A-E52F-4B68-B2D2-24399718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9D32B-B159-48FA-A229-533D3EF4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E8DA3-719A-4699-BCA0-BF3D525B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A0AF-8B49-4D3D-B82C-890DA3FE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38CDA-3BE4-40F3-A93F-C16742AC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82B44D-5C10-4450-A311-0871360C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D23126-E627-436F-8B93-C4F78C0C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7A5350-6F1E-4700-9BF9-B381F5B2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7C5D33-9928-47F2-A794-A8C61C27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3DD342-941C-40DB-8765-A3941BFA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DECB93-376E-4066-BD0D-8EF9D1FE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022FB5-691E-4071-96EB-2035C3B4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0F18A-DF4F-46AE-AD8F-2A4270CE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D84C4-F377-4DB4-A18C-9398D4A6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D3B6-2AC2-4ABB-8378-3C98A006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4D61B1-B8F9-47EA-A1E5-9F79CC01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ECB22A-8A57-4B6C-8E17-1D620E0B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862256-D3F3-4D60-BF86-FA529B15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480B19-18DC-4AF8-AD1B-2D3661CE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B9E316-4C1A-4EDA-9A19-3876EF9E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3D3CA8-7254-4A49-A405-18D945E9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C65C83-2F26-4998-9EDD-2D1A9F1A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6EE4A7-964B-4A02-8531-FAC38773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31D931-31C6-4A3D-B6F2-03AF3EDC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E32A7-4F8F-40DE-9081-215BD30D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82F-90C2-4AD2-9176-99C27E0D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888F-F09A-4ADC-BB63-5680EAB8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E7FFA-8F8C-4610-BAB3-51FC1389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59692A-B621-4144-9EE4-E6DC1800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EB003C-A1AF-49AA-9334-6DF553A5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09F293-E43E-46A0-A7ED-C48C0D8B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8CB254-EEC7-47FA-9689-2CDFBF61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688A82-A9FD-4AB1-838C-6095C88E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60399B-1480-4515-A45F-B3ECD9D3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C0A3E3-F94B-4702-BF48-CCD769E5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1D7D68-3C51-433A-923A-99E66E2E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51A365-9E31-40D5-820E-D94AC544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5292-1C51-4534-B774-5FC9CE72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334766-652C-4421-9D47-5B521C4A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A99FD5-FA7B-4ED6-8D0F-661FBB6D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BD63D6-FAA2-4967-AD05-DF7818A8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8BDD53-E860-40E3-9519-0F5CC90B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E0713-5478-46C0-947E-4409D136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415355-6F64-4CDE-8FBE-DFF54F71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B6A226-EECF-4E79-AD7C-A751F3BA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94889-7620-4CD9-B66A-707E1302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A3A1A4-D00B-4072-AC91-609D2596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1F6F27-6F55-4863-91A5-277010E7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CB63-1D15-46E0-9928-F0E7ECDC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F37604-B3EC-4244-8683-C7999F73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37D61A-D393-4310-9C41-45C776B5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A9DD2A-BE03-4D96-882A-0EBBCD78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D705A7-F4FA-4031-988A-5A57FC2F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D16DA-13AF-425B-8E86-8B277EAE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64E731-E0D3-4E2F-A797-F107B4DB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D47BFA-9D51-4E08-A988-B7A59CA9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140263-6AD0-483F-919A-D30F80E9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8F850E-E752-4831-A51C-62169D23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B983A8-772D-4A30-9A50-3DF6EC7E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D32B-48A7-4251-953C-3C4B3270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B40BC1-5FCD-4A6A-9498-634F7E20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EEA314-1FD9-4F2F-B57B-8D3B2918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04AA5A-4710-4FC6-8E06-1DD3E2ED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CEEE9E-4ADF-4E08-A191-7987EC50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71701B-5287-4C4A-B979-5275A9DF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2782CB-4D69-463F-8592-71B2F9B0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C7747F-B692-4678-A542-73B78BFB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D92988-E5BE-4829-B0E2-5D5DC53A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9B1027-39FD-4F5F-80D3-A74F9D15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409E2D-C375-4462-8D7C-257B9FCA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E1BA-6BE2-4C73-805F-B9FB2BB4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6AD69B-2F24-4EDE-96DE-806B6F81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B84D7-2FD2-44C7-A88F-9F17B601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0837B-4A94-4ED6-861F-A88DF264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1744-4BB8-46E7-9DD9-73B8F58B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63611-909E-48B0-AE3F-ECE7A585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ACEA0-EC9F-4629-99B7-391247E5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035-8188-4649-8680-C53ABC59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B255C-2E3E-4C12-8C6D-D4975819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70746-49D6-4BE1-A77A-F8B00C55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189E-27F0-4A69-BF5B-2479EB6F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7CEC-6269-4C3E-A464-4E8CDBCF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4EBF5-33CB-4A5A-8630-D45328BD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A003C-E708-4658-9FF0-64D2C253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49D3-08D6-4448-8634-7FFD5172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E93FD-DEED-45F0-AFA5-C165B6CD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543E7-3C1E-482E-AC0E-642A66DF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2DD03-9BB0-454F-91CF-00AB06CF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DA5-271D-420C-BA1A-08B9AE2D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0D49D-F57D-4A7E-A435-968EAAFB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0C5C6-0E35-498B-9331-7739BA46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DCB7B-5DB4-4384-BFE3-AE9F857B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415AD-8E27-4CD5-AA4B-EF826B55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5CCFA-295B-4C65-959B-33A97C4E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07C0A-7B8D-480D-8369-E598BE21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35C44-2CAD-48C8-9D53-AE08F0A0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D57D4-61A9-4F7E-872B-E4BB5715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584DE-4A89-492E-B244-7188EAD7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91AF3-B1DB-46C7-943D-F52A9141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D07-C15F-44E2-8D70-3BCE6DC1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511C7-FE02-4DA4-8722-1DED1224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1C533-A0AE-4552-B41C-CBDAFD6F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DF6DF-CE30-4D4A-9321-C44A603E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E6478-9301-4A30-9FF7-2867EEFD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CBA33-3751-435C-9AA0-8035574B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D5654-0855-471F-8C41-7C5DF66D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DEF27-4340-4EED-AE0E-BED401FB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2E9DA-43AE-439F-BA2D-693504A2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FDB8A-583E-440F-ACDA-4B8E42F0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AC6FF-F2A7-4414-9243-E2396A6E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3B8-BDFF-4CFD-9984-520150E9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A60C5-95C2-44C0-9D9C-32011DDF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3A219-58FF-41C9-AA54-2851D90F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691BD-2A15-4ACB-8D1E-CEE48DF2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0E823-D975-4CE9-AABC-21B8F553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8B4EA-53A6-4F1D-89B5-FB9005D5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C1EF8-9D62-4610-9374-DC8F20D6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6B816-269E-4247-8142-ED1B5628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D2B8-039D-4243-9E8A-5EF149A4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98582-86F4-4F91-959F-FDB7FD4D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05F3C-A520-4943-A2D8-96CB2A50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F90-E608-4D65-88D8-075F91D0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580CF-9AAD-46DC-A2D6-D657C41B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ABCD9-18F8-449A-824C-D520EDBE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C3BAE-6F31-48B0-8CFC-7D583582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5D475-DE4C-4DF1-B8B7-C41DC011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B7D75-63CD-470E-8FFD-85A5C873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B7518-08E3-4725-ADCB-129D081F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0E3EE-E3EE-452F-94F5-5C375A46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47BCF-62B6-4DE0-87D7-EBBF1DCE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FBD47-B22C-4F0F-970D-11268757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79079-EB72-49F5-83EC-915875E0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99A-8B0F-401D-8BD0-5D9EF372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78A40-2BF4-4025-9809-57402FB4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F72F8-5C2E-4BBD-A347-ACEF532F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6156C-3FB8-48C5-8D24-3E9E5E7C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AADCF-A119-44C1-9205-B5A7569C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464B9-1164-430D-9E4C-07518395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DFBE2-F04B-4481-92CD-64D9484A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3B3D7-FA18-4DFD-8ACC-9EFB25A3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D38A7-A328-4B49-BF3F-2386A11A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4E196-4860-4736-9846-64CC37A4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0A1DF-B681-4689-8880-84712DD3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D0A-C268-4564-904D-1CB2A72C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9A3D4-DCA5-496C-BB33-9CC6CC7F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0FBF6-30C1-4B92-9CFD-349567CA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D812C-EB9C-4E6B-9F1F-5E471719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9E941-77DE-4E24-B88B-AC483359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227F2-CA23-45D6-B215-D36AA877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E9EC4-BEAE-4676-B248-D05F98A5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D7B48-C9B2-455A-BC6B-CE558080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6CFB7-4848-4661-8E5E-EDDA187B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7B452-CBF6-4AF2-A785-47D827D3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4490C-C80E-42B9-8539-D520DCFB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98A8-68F8-4E54-9A7C-46711D2F21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ЧР по време на финансова кр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ЕЛАНА Финансов Холд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F9F9-E58D-4702-87CB-7CF59AC675CC}" type="datetime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E04A-2A70-47F8-BB94-9EA67EA55872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EE3B-C22E-4A2E-9898-3FE1C8D13623}" type="datetime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7DCC-C764-4E9C-895E-5DF1DFEDDDE1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28F6-261C-4871-B7FF-C1216AF7A737}" type="datetime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51D9-992F-4BEC-A868-4467B2386E54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0D2F-67A6-489D-9AA9-ABAE4D6617D7}" type="datetime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41FD-A70A-48F5-944C-F6FD0C715050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60CC-8299-4E85-B498-F6893128D191}" type="datetime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974A-FCEB-4758-88A9-4C0AF3D19144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641D-9623-4C47-A86D-827049F0FFB0}" type="datetime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8528-8BA6-4BE2-9350-C39543359C19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19E1-9C1C-454E-9133-C7E8445B4444}" type="datetime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BD8D-7E3D-46C0-BBD1-81BB025FB5DC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F1C1-37B0-4609-BC90-E323D9525866}" type="datetime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51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1E9E-44D7-4142-8ADC-709648F59F04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FDC9-9EB4-47DD-AB00-7F0CC7E2CF94}" type="datetime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4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B75B-F8D6-4114-A340-D10B5652726A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5F85-8DAA-462E-BB0D-1CFA1B241E3D}" type="datetime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789B-65E5-4280-84F3-72EDFF48F81E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81D7-7E6B-49C9-89E0-8D0A0E95AA6E}" type="datetime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D7C3-4B44-45CB-A6AE-0BDA315A5CE3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E63E-40CF-4172-9990-E9C257A4C124}" type="datetime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B807-8E15-4F01-97E5-E977E099732F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66DA-6135-46BD-9E93-B5D9B1BF94E5}" type="datetime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C881-D640-40BC-B362-AE003F974C07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ергтфхймнхгфждс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8" descr="logo.jpg"/>
          <p:cNvPicPr/>
          <p:nvPr/>
        </p:nvPicPr>
        <p:blipFill>
          <a:blip r:embed="rId3"/>
          <a:stretch/>
        </p:blipFill>
        <p:spPr>
          <a:xfrm>
            <a:off x="7162920" y="6248520"/>
            <a:ext cx="1752480" cy="630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E982-4786-41D3-B10E-F2FF4B5705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ЧР по време на финансова кр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8" descr="logo.jpg"/>
          <p:cNvPicPr/>
          <p:nvPr/>
        </p:nvPicPr>
        <p:blipFill>
          <a:blip r:embed="rId3"/>
          <a:stretch/>
        </p:blipFill>
        <p:spPr>
          <a:xfrm>
            <a:off x="7305840" y="6238800"/>
            <a:ext cx="1761840" cy="635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7B1F-E335-4CF8-8E07-BA728AAAE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ЧР на финансова кр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E552-2F35-4620-99DE-5CD60A4BECF6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FDED-7DD4-422F-AF8F-426386E19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ЧР по време на финансова кр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DAB6-A68E-424E-9534-6CEFE3A24F9E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8" descr="logo.jpg"/>
          <p:cNvPicPr/>
          <p:nvPr/>
        </p:nvPicPr>
        <p:blipFill>
          <a:blip r:embed="rId3"/>
          <a:stretch/>
        </p:blipFill>
        <p:spPr>
          <a:xfrm>
            <a:off x="7391520" y="6227640"/>
            <a:ext cx="1752480" cy="630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B4F0-8FFC-457B-9A2D-31A72D90E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ЧР по време на финансова кр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171840" y="624816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E991-8474-41D4-A566-F1173F2619BB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A8D4-34AA-4586-8517-4BD64A5C1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ЧР по време на финансова кр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2697-9A30-47C6-9947-EB9538FAF7B2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F573-19D6-48C4-B38D-9765EB254E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ЧР по време на финансова кр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0A00-5382-4A72-82B2-31AB352D5C72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Picture 11" descr="businessman%20jumping%202"/>
          <p:cNvPicPr/>
          <p:nvPr/>
        </p:nvPicPr>
        <p:blipFill>
          <a:blip r:embed="rId1"/>
          <a:stretch/>
        </p:blipFill>
        <p:spPr>
          <a:xfrm>
            <a:off x="3124080" y="3260880"/>
            <a:ext cx="1940040" cy="268272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Verdana"/>
              </a:rPr>
              <a:t>ЧР</a:t>
            </a:r>
            <a:r>
              <a:rPr b="1" lang="bg-BG" sz="40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1" lang="bg-BG" sz="4000" spc="-1" strike="noStrike">
                <a:solidFill>
                  <a:srgbClr val="cc0000"/>
                </a:solidFill>
                <a:latin typeface="Verdana"/>
              </a:rPr>
              <a:t>“на червено” </a:t>
            </a:r>
            <a:r>
              <a:rPr b="1" lang="bg-BG" sz="9600" spc="-1" strike="noStrike">
                <a:solidFill>
                  <a:srgbClr val="cc0000"/>
                </a:solidFill>
                <a:latin typeface="Wingdings"/>
                <a:ea typeface="Wingdings"/>
              </a:rPr>
              <a:t>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Date Placeholder 1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E955-3D6A-4FFE-8243-FB5AD4BE6B6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Verdana"/>
              </a:rPr>
              <a:t>ЧР по време на финансова кр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3F2C-6292-4280-8371-91B259D2F921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990720" y="158436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33"/>
                </a:solidFill>
                <a:latin typeface="Arial"/>
              </a:rPr>
              <a:t>Финансовата криза в България – има ли я, кога започна, как я усещаме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Rectangle 19"/>
          <p:cNvSpPr/>
          <p:nvPr/>
        </p:nvSpPr>
        <p:spPr>
          <a:xfrm>
            <a:off x="4800600" y="1600200"/>
            <a:ext cx="35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33"/>
                </a:solidFill>
                <a:latin typeface="Arial"/>
              </a:rPr>
              <a:t>Как се отразява тя на финансовите институци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Rectangle 20"/>
          <p:cNvSpPr/>
          <p:nvPr/>
        </p:nvSpPr>
        <p:spPr>
          <a:xfrm>
            <a:off x="1066680" y="3870360"/>
            <a:ext cx="297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33"/>
                </a:solidFill>
                <a:latin typeface="Arial"/>
              </a:rPr>
              <a:t>Предизвикателствата по отношение на хората във финансовите институции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Rectangle 21"/>
          <p:cNvSpPr/>
          <p:nvPr/>
        </p:nvSpPr>
        <p:spPr>
          <a:xfrm>
            <a:off x="4919760" y="3809880"/>
            <a:ext cx="300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33"/>
                </a:solidFill>
                <a:latin typeface="Arial"/>
              </a:rPr>
              <a:t>Как да помогне ЧР в управлението на кризата?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uzzle3"/>
          <p:cNvSpPr/>
          <p:nvPr/>
        </p:nvSpPr>
        <p:spPr>
          <a:xfrm>
            <a:off x="4419720" y="14400"/>
            <a:ext cx="3592440" cy="3643200"/>
          </a:xfrm>
          <a:prstGeom prst="pie">
            <a:avLst/>
          </a:prstGeom>
          <a:solidFill>
            <a:srgbClr val="ffdcb9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uzzle2"/>
          <p:cNvSpPr/>
          <p:nvPr/>
        </p:nvSpPr>
        <p:spPr>
          <a:xfrm>
            <a:off x="3429000" y="2666880"/>
            <a:ext cx="5737320" cy="3321000"/>
          </a:xfrm>
          <a:prstGeom prst="pie">
            <a:avLst/>
          </a:prstGeom>
          <a:solidFill>
            <a:srgbClr val="b2b2b2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uzzle4"/>
          <p:cNvSpPr/>
          <p:nvPr/>
        </p:nvSpPr>
        <p:spPr>
          <a:xfrm>
            <a:off x="1189080" y="2614680"/>
            <a:ext cx="3459240" cy="4243320"/>
          </a:xfrm>
          <a:prstGeom prst="pie">
            <a:avLst/>
          </a:prstGeom>
          <a:solidFill>
            <a:srgbClr val="9900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uzzle1"/>
          <p:cNvSpPr/>
          <p:nvPr/>
        </p:nvSpPr>
        <p:spPr>
          <a:xfrm>
            <a:off x="0" y="1101600"/>
            <a:ext cx="5808600" cy="2530440"/>
          </a:xfrm>
          <a:prstGeom prst="pie">
            <a:avLst/>
          </a:prstGeom>
          <a:solidFill>
            <a:srgbClr val="333333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50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Date Placeholder 1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1FD0-ACAB-491B-934C-AC66DD1AC81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Verdana"/>
              </a:rPr>
              <a:t>ЧР по време на финансова кр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655308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9BF2-7D99-4C71-AD17-75894ED14C93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8001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400" spc="-1" strike="noStrike">
                <a:solidFill>
                  <a:srgbClr val="333333"/>
                </a:solidFill>
                <a:latin typeface="Verdana"/>
              </a:rPr>
              <a:t>Финансовата криза в България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1142640" y="182844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b90000"/>
                </a:solidFill>
                <a:latin typeface="Verdana"/>
              </a:rPr>
              <a:t>Има ли я, кога започна, как я усещаме,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В България се заговори за криза през октомври 2008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33"/>
                </a:solidFill>
                <a:latin typeface="Verdana"/>
              </a:rPr>
              <a:t>Очаква с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Повишаване на безработицата през 2009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Намаляване темповете на икономически ръстеж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Намаляване на потреблението и ограничаване на кредитиранет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Date Placeholder 1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626D-9847-475B-B466-1382AB959CD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Verdana"/>
              </a:rPr>
              <a:t>ЧР по време на финансова кр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F23A-1917-4F73-91E9-518F7291EA8A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333333"/>
                </a:solidFill>
                <a:latin typeface="Verdana"/>
              </a:rPr>
              <a:t>Как се отразява тя на финансовите институции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8052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Ние заговорихме за криза октомври 2007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33"/>
                </a:solidFill>
                <a:latin typeface="Verdana"/>
              </a:rPr>
              <a:t>Кризата се отразяв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Липса на свеж капитал, ниска ликвидност – 26 фалита в САЩ до края на 2008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Загуба на доверието на клиентит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10% съкращения на персонал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във финансовия сектор в България </a:t>
            </a:r>
            <a:r>
              <a:rPr b="0" lang="bg-BG" sz="1800" spc="-1" strike="noStrike">
                <a:solidFill>
                  <a:srgbClr val="333333"/>
                </a:solidFill>
                <a:latin typeface="Verdana"/>
              </a:rPr>
              <a:t>/според проучване на в-к Дневник/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11" descr="scared-businessman"/>
          <p:cNvPicPr/>
          <p:nvPr/>
        </p:nvPicPr>
        <p:blipFill>
          <a:blip r:embed="rId1"/>
          <a:stretch/>
        </p:blipFill>
        <p:spPr>
          <a:xfrm>
            <a:off x="1523880" y="4670280"/>
            <a:ext cx="1990800" cy="3025800"/>
          </a:xfrm>
          <a:prstGeom prst="rect">
            <a:avLst/>
          </a:prstGeom>
          <a:ln w="0">
            <a:noFill/>
          </a:ln>
        </p:spPr>
      </p:pic>
      <p:sp>
        <p:nvSpPr>
          <p:cNvPr id="868" name="Date Placeholder 1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E0A0-C5D7-4FC2-B6B4-CD3A10D6A31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Verdana"/>
              </a:rPr>
              <a:t>ЧР по време на финансова кр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655308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B7AC-09B7-4315-980A-1475929D9A21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8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333333"/>
                </a:solidFill>
                <a:latin typeface="Verdana"/>
              </a:rPr>
              <a:t>Предизвикателствата по отношение на хората</a:t>
            </a:r>
            <a:br>
              <a:rPr sz="3400"/>
            </a:br>
            <a:r>
              <a:rPr b="1" lang="bg-BG" sz="3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във финансовите институ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0" y="2174760"/>
            <a:ext cx="777888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Хората са уплашени и не са сигурни дългосрочно в работата с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В условията на ограничени ресурси /”режим на оцеляване”/ трябва да се търсят нови алтернативи за мотивиране на хорат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Талантите ТРЯБВА да се запазя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Date Placeholder 1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BE0A-B452-46E7-A159-59D54877594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Verdana"/>
              </a:rPr>
              <a:t>ЧР по време на финансова кр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55308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7529-725E-4E3B-9AB4-C739D6FC8D2D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333333"/>
                </a:solidFill>
                <a:latin typeface="Verdana"/>
              </a:rPr>
              <a:t>Как да помогне ЧР?</a:t>
            </a:r>
            <a:br>
              <a:rPr sz="3000"/>
            </a:br>
            <a:br>
              <a:rPr sz="1000"/>
            </a:br>
            <a:r>
              <a:rPr b="0" lang="bg-BG" sz="2400" spc="-1" strike="noStrike">
                <a:solidFill>
                  <a:srgbClr val="c00000"/>
                </a:solidFill>
                <a:latin typeface="Verdana"/>
              </a:rPr>
              <a:t>“</a:t>
            </a:r>
            <a:r>
              <a:rPr b="1" lang="bg-BG" sz="2400" spc="-1" strike="noStrike">
                <a:solidFill>
                  <a:srgbClr val="c00000"/>
                </a:solidFill>
                <a:latin typeface="Verdana"/>
              </a:rPr>
              <a:t>Помощ от приятел</a:t>
            </a:r>
            <a:r>
              <a:rPr b="0" lang="bg-BG" sz="2400" spc="-1" strike="noStrike">
                <a:solidFill>
                  <a:srgbClr val="c00000"/>
                </a:solidFill>
                <a:latin typeface="Verdana"/>
              </a:rPr>
              <a:t>” </a:t>
            </a: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– </a:t>
            </a:r>
            <a:r>
              <a:rPr b="0" i="1" lang="bg-BG" sz="2400" spc="-1" strike="noStrike">
                <a:solidFill>
                  <a:srgbClr val="333333"/>
                </a:solidFill>
                <a:latin typeface="Verdana"/>
              </a:rPr>
              <a:t>Уорън Бъфет, “</a:t>
            </a:r>
            <a:r>
              <a:rPr b="0" i="1" lang="bg-BG" sz="2400" spc="-1" strike="noStrike">
                <a:solidFill>
                  <a:srgbClr val="000000"/>
                </a:solidFill>
                <a:latin typeface="Verdana"/>
              </a:rPr>
              <a:t>Оракула от Омаха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0" y="17524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ърво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Гледай в собствената си кошниц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в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Възнаграждавай високата възвращаемост на капитала, но не гарантирай подобно възнагражде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рет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Ще получите възнаграждение пропорционално на вашите усилия и ум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твърт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Не е задължително да губиш ако не правиш нищ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т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Изпращайте излишните парични средства в централа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Шест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Не се безпокойте за нетърпимост към загуба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8" name="Picture 4" descr="businesswoman"/>
          <p:cNvPicPr/>
          <p:nvPr/>
        </p:nvPicPr>
        <p:blipFill>
          <a:blip r:embed="rId1"/>
          <a:stretch/>
        </p:blipFill>
        <p:spPr>
          <a:xfrm>
            <a:off x="7591320" y="3784680"/>
            <a:ext cx="1552680" cy="3073320"/>
          </a:xfrm>
          <a:prstGeom prst="rect">
            <a:avLst/>
          </a:prstGeom>
          <a:ln w="0">
            <a:noFill/>
          </a:ln>
        </p:spPr>
      </p:pic>
      <p:sp>
        <p:nvSpPr>
          <p:cNvPr id="879" name="Rectangle 7"/>
          <p:cNvSpPr/>
          <p:nvPr/>
        </p:nvSpPr>
        <p:spPr>
          <a:xfrm>
            <a:off x="4267080" y="1758960"/>
            <a:ext cx="4572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cc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3333"/>
                </a:solidFill>
                <a:latin typeface="Verdana"/>
              </a:rPr>
              <a:t>Поглед навътре</a:t>
            </a: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 – </a:t>
            </a:r>
            <a:r>
              <a:rPr b="0" lang="bg-BG" sz="1600" spc="-1" strike="noStrike">
                <a:solidFill>
                  <a:srgbClr val="333333"/>
                </a:solidFill>
                <a:latin typeface="Verdana"/>
              </a:rPr>
              <a:t>не е ли време да” подредим” процесите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buClr>
                <a:srgbClr val="cc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buClr>
                <a:srgbClr val="cc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3333"/>
                </a:solidFill>
                <a:latin typeface="Verdana"/>
              </a:rPr>
              <a:t>Дали не можем да подобрим представянет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buClr>
                <a:srgbClr val="cc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buClr>
                <a:srgbClr val="cc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buClr>
                <a:srgbClr val="cc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3333"/>
                </a:solidFill>
                <a:latin typeface="Verdana"/>
              </a:rPr>
              <a:t>Управление на талантит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buClr>
                <a:srgbClr val="cc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buClr>
                <a:srgbClr val="cc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buClr>
                <a:srgbClr val="cc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3333"/>
                </a:solidFill>
                <a:latin typeface="Verdana"/>
              </a:rPr>
              <a:t>Прекалено много проекти анти-криза водят до хаос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buClr>
                <a:srgbClr val="cc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3333"/>
                </a:solidFill>
                <a:latin typeface="Verdana"/>
              </a:rPr>
              <a:t>Централиз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buClr>
                <a:srgbClr val="cc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3333"/>
                </a:solidFill>
                <a:latin typeface="Verdana"/>
              </a:rPr>
              <a:t>Хората ще се справят, трябва просто да им помогне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8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8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8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8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8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8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8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8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151920" y="1828440"/>
            <a:ext cx="76201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33"/>
                </a:solidFill>
                <a:latin typeface="Verdana"/>
              </a:rPr>
              <a:t>УСПЕХ!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Verdana"/>
              </a:rPr>
              <a:t>И да не забравяме още едно правило на Уорън Бъфе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95959"/>
                </a:solidFill>
                <a:latin typeface="Verdana"/>
              </a:rPr>
              <a:t>Не правя сделки с хора, на които нямам доверие. Мисля че всяко дружество заслужава акционерите с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90000"/>
                </a:solidFill>
                <a:latin typeface="Verdana"/>
              </a:rPr>
              <a:t>..служителите си.. </a:t>
            </a:r>
            <a:r>
              <a:rPr b="1" i="1" lang="ru-RU" sz="2400" spc="-1" strike="noStrike">
                <a:solidFill>
                  <a:srgbClr val="b9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Date Placeholder 1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AC3B-6FD4-4F0A-8164-3765831D533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Verdana"/>
              </a:rPr>
              <a:t>ЧР по време на финансова кр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3" name="Picture 6" descr="Businesswoman%20holding%20CDs%202"/>
          <p:cNvPicPr/>
          <p:nvPr/>
        </p:nvPicPr>
        <p:blipFill>
          <a:blip r:embed="rId1"/>
          <a:stretch/>
        </p:blipFill>
        <p:spPr>
          <a:xfrm>
            <a:off x="7467480" y="3429000"/>
            <a:ext cx="1419480" cy="2467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nakova</cp:lastModifiedBy>
  <dcterms:modified xsi:type="dcterms:W3CDTF">2009-01-29T11:17:24Z</dcterms:modified>
  <cp:revision>52</cp:revision>
  <dc:subject/>
  <dc:title>ЧР по време на финансова криза</dc:title>
</cp:coreProperties>
</file>