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8D9-D353-4EC4-868D-E283A032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0B9-9406-4B10-BC45-975BA38F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29A-ACE4-44F0-AF58-861547A5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F5C-F838-4044-92E9-08B86BF8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AC5-C60B-4733-9AA8-2DC17E39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357-C28D-40D8-94F4-42DB99FE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DA3-10DD-4F66-B366-A628C04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F0E-A490-4237-A531-7C5C64A0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957-7164-4DE1-BE55-5B8BFD6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AA5-BD26-48A7-8212-6AC2781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076-059D-4C3E-A734-CA4B255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47A-4DB2-453C-9944-EF7D46B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A80C-5A9A-4988-BD4D-F1C8B735B6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5f5f5f"/>
                </a:solidFill>
                <a:latin typeface="Times New Roman"/>
              </a:rPr>
              <a:t>Какво се случва на пазара на труда в България през 2006 г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f5f5f"/>
                </a:solidFill>
                <a:latin typeface="Times New Roman"/>
              </a:rPr>
              <a:t>Светлозар Петров, Управител, JobTiger.b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f5f5f"/>
                </a:solidFill>
                <a:latin typeface="Times New Roman"/>
              </a:rPr>
              <a:t>Светла Стоева, Key Account Officer, JobTiger.b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f5f5f"/>
                </a:solidFill>
                <a:latin typeface="Times New Roman"/>
              </a:rPr>
              <a:t>24.06.2006 г., Хотел “Дива”, Чифл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6858000" y="459432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5f5f5f"/>
                </a:solidFill>
                <a:latin typeface="Times New Roman"/>
              </a:rPr>
              <a:t>Благодарим В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" descr=""/>
          <p:cNvPicPr/>
          <p:nvPr/>
        </p:nvPicPr>
        <p:blipFill>
          <a:blip r:embed="rId1"/>
          <a:stretch/>
        </p:blipFill>
        <p:spPr>
          <a:xfrm>
            <a:off x="7620120" y="537228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f5f5f"/>
                </a:solidFill>
                <a:latin typeface="Times New Roman"/>
              </a:rPr>
              <a:t>Ново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Общи дан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all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upport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Вечните инжен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Решения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Кариерните центр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" descr=""/>
          <p:cNvPicPr/>
          <p:nvPr/>
        </p:nvPicPr>
        <p:blipFill>
          <a:blip r:embed="rId1"/>
          <a:stretch/>
        </p:blipFill>
        <p:spPr>
          <a:xfrm>
            <a:off x="7620120" y="5340240"/>
            <a:ext cx="15238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f5f5f"/>
                </a:solidFill>
                <a:latin typeface="Times New Roman"/>
              </a:rPr>
              <a:t>Промяна в търсенето по бизнес сектори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f5f5f"/>
                </a:solidFill>
                <a:latin typeface="Times New Roman"/>
              </a:rPr>
              <a:t>Промяна в търсенето по бизнес сектори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698400"/>
          <a:ext cx="9144000" cy="618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8400"/>
                    <a:ext cx="914400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Call Ce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Млади, неопитни, без трудови нав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Чужди ез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Работа на с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Мениджърски ек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" descr=""/>
          <p:cNvPicPr/>
          <p:nvPr/>
        </p:nvPicPr>
        <p:blipFill>
          <a:blip r:embed="rId1"/>
          <a:stretch/>
        </p:blipFill>
        <p:spPr>
          <a:xfrm>
            <a:off x="7620120" y="5340240"/>
            <a:ext cx="15238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Support Ce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Специфични технически ум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Владеене на поне един чужд западен ез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Предимно чужд мениджърски ек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7620120" y="5340240"/>
            <a:ext cx="15238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f5f5f"/>
                </a:solidFill>
                <a:latin typeface="Times New Roman"/>
              </a:rPr>
              <a:t>Инженери, инженер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Тенденция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Липса на достатъчно добре подготвени специали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Липса на активност, гъвкавост, желание за промя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Липса на ... търсещи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7620120" y="5340240"/>
            <a:ext cx="15238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f5f5f"/>
                </a:solidFill>
                <a:latin typeface="Times New Roman"/>
              </a:rPr>
              <a:t>Решения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Мерки за задържане на персон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Привличане на млади хора и изграждане на кариера във фирм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Привличане на ключови специали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Преосмисляне на разпределението на работ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ogo" descr=""/>
          <p:cNvPicPr/>
          <p:nvPr/>
        </p:nvPicPr>
        <p:blipFill>
          <a:blip r:embed="rId1"/>
          <a:stretch/>
        </p:blipFill>
        <p:spPr>
          <a:xfrm>
            <a:off x="7620120" y="5340240"/>
            <a:ext cx="15238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f5f5f"/>
                </a:solidFill>
                <a:latin typeface="Times New Roman"/>
              </a:rPr>
              <a:t>Кариерните центро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25 работещи кариерни центъ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Част от администрацията на университ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Връзка между бизнеса, студентите и академичното ръко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Сигурен партньор при подбора на млади кад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f5f5f"/>
                </a:solidFill>
                <a:latin typeface="Times New Roman"/>
              </a:rPr>
              <a:t>Все още прохождащи, нуждаят се от подкре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o" descr=""/>
          <p:cNvPicPr/>
          <p:nvPr/>
        </p:nvPicPr>
        <p:blipFill>
          <a:blip r:embed="rId1"/>
          <a:stretch/>
        </p:blipFill>
        <p:spPr>
          <a:xfrm>
            <a:off x="7620120" y="5340240"/>
            <a:ext cx="15238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2:41:12Z</dcterms:created>
  <dc:creator>Svetlozar Petrov</dc:creator>
  <dc:description/>
  <dc:language>en-US</dc:language>
  <cp:lastModifiedBy>Svetla Stoeva</cp:lastModifiedBy>
  <dcterms:modified xsi:type="dcterms:W3CDTF">2006-06-30T12:35:30Z</dcterms:modified>
  <cp:revision>16</cp:revision>
  <dc:subject/>
  <dc:title>Какво се случва на пазара на труда в България през 2006 г.?</dc:title>
</cp:coreProperties>
</file>