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50100" cy="943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149600" cy="94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16080" y="707760"/>
            <a:ext cx="4718160" cy="35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San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13880" y="4481640"/>
            <a:ext cx="57214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8962920"/>
            <a:ext cx="309888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049640" y="8962920"/>
            <a:ext cx="309888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612BCF-D12B-4B3C-B75E-5F7A5CC3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049640" y="8962920"/>
            <a:ext cx="309888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C520E5-3182-4CF5-9544-6266364D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8962920"/>
            <a:ext cx="309888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66840" y="74772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7800" y="4487400"/>
            <a:ext cx="52578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842472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776760"/>
            <a:ext cx="842472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400" y="132408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77676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400" y="377676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27126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3960" y="1324080"/>
            <a:ext cx="27126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2640" y="1324080"/>
            <a:ext cx="27126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776760"/>
            <a:ext cx="27126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3960" y="3776760"/>
            <a:ext cx="27126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2640" y="3776760"/>
            <a:ext cx="27126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324080"/>
            <a:ext cx="842472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84247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41112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400" y="1324080"/>
            <a:ext cx="41112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400" y="1324080"/>
            <a:ext cx="41112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77676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41112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400" y="132408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400" y="377676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32408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400" y="1324080"/>
            <a:ext cx="411120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776760"/>
            <a:ext cx="8424720" cy="22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733920" y="6021360"/>
            <a:ext cx="16002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95280" y="1324080"/>
            <a:ext cx="84247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spcBef>
                <a:spcPts val="799"/>
              </a:spcBef>
              <a:buClr>
                <a:srgbClr val="0c479d"/>
              </a:buClr>
              <a:buFont typeface="LucidaSans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2" marL="1281240" indent="-228600">
              <a:spcBef>
                <a:spcPts val="799"/>
              </a:spcBef>
              <a:buClr>
                <a:srgbClr val="0c479d"/>
              </a:buClr>
              <a:buFont typeface="LucidaSan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3" marL="1700280" indent="-228600">
              <a:spcBef>
                <a:spcPts val="799"/>
              </a:spcBef>
              <a:buClr>
                <a:srgbClr val="0c479d"/>
              </a:buClr>
              <a:buFont typeface="Lucida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4" marL="2119320" indent="-228600">
              <a:spcBef>
                <a:spcPts val="799"/>
              </a:spcBef>
              <a:buClr>
                <a:srgbClr val="0c479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5" marL="21193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6" marL="21193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914400"/>
            <a:ext cx="84186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0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San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5715000" cy="367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33920" y="6095880"/>
            <a:ext cx="1600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62520" y="6064200"/>
            <a:ext cx="1066680" cy="79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89560" y="1494000"/>
            <a:ext cx="4135320" cy="216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0720" y="25909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3716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26708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252a2"/>
                </a:solidFill>
                <a:latin typeface="Arial"/>
              </a:rPr>
              <a:t>     </a:t>
            </a:r>
            <a:r>
              <a:rPr b="1" i="1" lang="bg-BG" sz="2800" spc="-1" strike="noStrike">
                <a:solidFill>
                  <a:srgbClr val="0252a2"/>
                </a:solidFill>
                <a:latin typeface="Arial"/>
              </a:rPr>
              <a:t>Благополучие и усъвършенст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57200"/>
            <a:ext cx="3200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572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Повишаване на производителността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db364"/>
                </a:solidFill>
                <a:latin typeface="Arial"/>
              </a:rPr>
              <a:t>Мотивиране и създаване на лоялни служители</a:t>
            </a:r>
            <a:r>
              <a:rPr b="1" lang="fr-FR" sz="2000" spc="-1" strike="noStrike">
                <a:solidFill>
                  <a:srgbClr val="fdb364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fdb364"/>
                </a:solidFill>
                <a:latin typeface="Arial"/>
              </a:rPr>
              <a:t>мрежа от дистрибутори и клиенти, с цел развитие на компанията</a:t>
            </a:r>
            <a:r>
              <a:rPr b="1" lang="fr-FR" sz="2000" spc="-1" strike="noStrike">
                <a:solidFill>
                  <a:srgbClr val="fdb36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209680"/>
            <a:ext cx="5257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1" marL="354600" indent="-213120">
              <a:lnSpc>
                <a:spcPct val="110000"/>
              </a:lnSpc>
              <a:spcBef>
                <a:spcPts val="400"/>
              </a:spcBef>
              <a:buClr>
                <a:srgbClr val="dd7503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Марке</a:t>
            </a:r>
            <a:r>
              <a:rPr b="1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т</a:t>
            </a:r>
            <a:r>
              <a:rPr b="1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инг на взаимоотношенията</a:t>
            </a:r>
            <a:r>
              <a:rPr b="1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 : 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разработване 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и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 управление на програми з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а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 лоялност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,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 мотивационни кампании,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награди 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(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ваучери и каталози 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 подаръци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) 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и организиране на различни мероприятия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4600" indent="-213120">
              <a:lnSpc>
                <a:spcPct val="110000"/>
              </a:lnSpc>
              <a:spcBef>
                <a:spcPts val="201"/>
              </a:spcBef>
              <a:buClr>
                <a:srgbClr val="dd7503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54600" indent="-213120">
              <a:lnSpc>
                <a:spcPct val="110000"/>
              </a:lnSpc>
              <a:spcBef>
                <a:spcPts val="400"/>
              </a:spcBef>
              <a:buClr>
                <a:srgbClr val="dd7503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Спестяване от рабо</a:t>
            </a:r>
            <a:r>
              <a:rPr b="1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т</a:t>
            </a:r>
            <a:r>
              <a:rPr b="1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на заплата</a:t>
            </a:r>
            <a:r>
              <a:rPr b="1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 : 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придобивка, позволяваща въвеждането и управле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н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ието на система за спестяване от работната заплата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в малките и средни предприят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и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4600" indent="-213120">
              <a:lnSpc>
                <a:spcPct val="110000"/>
              </a:lnSpc>
              <a:spcBef>
                <a:spcPts val="201"/>
              </a:spcBef>
              <a:buClr>
                <a:srgbClr val="dd7503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54600" indent="-213120">
              <a:lnSpc>
                <a:spcPct val="110000"/>
              </a:lnSpc>
              <a:spcBef>
                <a:spcPts val="400"/>
              </a:spcBef>
              <a:buClr>
                <a:srgbClr val="dd7503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Обучение</a:t>
            </a:r>
            <a:r>
              <a:rPr b="1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 : 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изработване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, </a:t>
            </a:r>
            <a:r>
              <a:rPr b="0" lang="bg-BG" sz="1600" spc="-1" strike="noStrike">
                <a:solidFill>
                  <a:srgbClr val="ffb364"/>
                </a:solidFill>
                <a:latin typeface="Arial"/>
                <a:ea typeface="Arial"/>
              </a:rPr>
              <a:t>организиране и управление на програми за дистанционно обучение</a:t>
            </a:r>
            <a:r>
              <a:rPr b="0" lang="fr-FR" sz="1600" spc="-1" strike="noStrike">
                <a:solidFill>
                  <a:srgbClr val="ffb364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somme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nou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72200" y="3422520"/>
            <a:ext cx="1871640" cy="540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72200" y="4260960"/>
            <a:ext cx="1346040" cy="539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72200" y="5181480"/>
            <a:ext cx="1494000" cy="5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48520" y="990720"/>
            <a:ext cx="2819160" cy="1860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172200" y="2922480"/>
            <a:ext cx="1523880" cy="536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76320"/>
            <a:ext cx="1066680" cy="68580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05120" y="2362320"/>
            <a:ext cx="5333760" cy="22860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3886200"/>
            <a:ext cx="4495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676520"/>
            <a:ext cx="7010640" cy="350496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066680"/>
            <a:ext cx="2590920" cy="17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somme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nou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Функциониране на системата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514600" cy="13158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324480" y="2666880"/>
            <a:ext cx="2819160" cy="1752480"/>
            <a:chOff x="6324480" y="2666880"/>
            <a:chExt cx="2819160" cy="1752480"/>
          </a:xfrm>
        </p:grpSpPr>
        <p:sp>
          <p:nvSpPr>
            <p:cNvPr id="166" name=""/>
            <p:cNvSpPr/>
            <p:nvPr/>
          </p:nvSpPr>
          <p:spPr>
            <a:xfrm>
              <a:off x="6476760" y="2666880"/>
              <a:ext cx="2590920" cy="175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24480" y="2971800"/>
              <a:ext cx="28191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200" spc="-1" strike="noStrike">
                  <a:solidFill>
                    <a:srgbClr val="0c479d"/>
                  </a:solidFill>
                  <a:latin typeface="Arial"/>
                </a:rPr>
                <a:t>Клиен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c479d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c479d"/>
                  </a:solidFill>
                  <a:latin typeface="Arial"/>
                </a:rPr>
                <a:t>4</a:t>
              </a:r>
              <a:r>
                <a:rPr b="0" lang="fr-FR" sz="1200" spc="-1" strike="noStrike">
                  <a:solidFill>
                    <a:srgbClr val="0c479d"/>
                  </a:solidFill>
                  <a:latin typeface="Arial"/>
                </a:rPr>
                <a:t>0 000 </a:t>
              </a:r>
              <a:r>
                <a:rPr b="0" lang="bg-BG" sz="1200" spc="-1" strike="noStrike">
                  <a:solidFill>
                    <a:srgbClr val="0c479d"/>
                  </a:solidFill>
                  <a:latin typeface="Arial"/>
                </a:rPr>
                <a:t>партнь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c479d"/>
                  </a:solidFill>
                  <a:latin typeface="Arial"/>
                </a:rPr>
                <a:t>(</a:t>
              </a:r>
              <a:r>
                <a:rPr b="0" lang="bg-BG" sz="1200" spc="-1" strike="noStrike">
                  <a:solidFill>
                    <a:srgbClr val="0c479d"/>
                  </a:solidFill>
                  <a:latin typeface="Arial"/>
                </a:rPr>
                <a:t>фирми, държавни и публични институции</a:t>
              </a:r>
              <a:r>
                <a:rPr b="0" lang="fr-FR" sz="1200" spc="-1" strike="noStrike">
                  <a:solidFill>
                    <a:srgbClr val="0c479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6320" y="2743200"/>
            <a:ext cx="2590560" cy="1752480"/>
            <a:chOff x="76320" y="2743200"/>
            <a:chExt cx="2590560" cy="1752480"/>
          </a:xfrm>
        </p:grpSpPr>
        <p:sp>
          <p:nvSpPr>
            <p:cNvPr id="169" name=""/>
            <p:cNvSpPr/>
            <p:nvPr/>
          </p:nvSpPr>
          <p:spPr>
            <a:xfrm>
              <a:off x="76320" y="2743200"/>
              <a:ext cx="2590560" cy="175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320" y="2743200"/>
              <a:ext cx="2514240" cy="13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200" spc="-1" strike="noStrike">
                  <a:solidFill>
                    <a:srgbClr val="0c479d"/>
                  </a:solidFill>
                  <a:latin typeface="Arial"/>
                </a:rPr>
                <a:t>Доставчиц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c479d"/>
                  </a:solidFill>
                  <a:latin typeface="Arial"/>
                </a:rPr>
                <a:t>1 000 000 </a:t>
              </a:r>
              <a:r>
                <a:rPr b="0" lang="bg-BG" sz="1200" spc="-1" strike="noStrike">
                  <a:solidFill>
                    <a:srgbClr val="0c479d"/>
                  </a:solidFill>
                  <a:latin typeface="Arial"/>
                </a:rPr>
                <a:t>търговски обе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c479d"/>
                  </a:solidFill>
                  <a:latin typeface="Arial"/>
                </a:rPr>
                <a:t>(</a:t>
              </a:r>
              <a:r>
                <a:rPr b="0" lang="bg-BG" sz="1200" spc="-1" strike="noStrike">
                  <a:solidFill>
                    <a:srgbClr val="0c479d"/>
                  </a:solidFill>
                  <a:latin typeface="Arial"/>
                </a:rPr>
                <a:t>ресторанти, магазини за хранителни стоки, фирми за услуги</a:t>
              </a:r>
              <a:r>
                <a:rPr b="0" lang="fr-FR" sz="1200" spc="-1" strike="noStrike">
                  <a:solidFill>
                    <a:srgbClr val="0c479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00400" y="4191120"/>
            <a:ext cx="259092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572000"/>
            <a:ext cx="236232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c479d"/>
                </a:solidFill>
                <a:latin typeface="Arial"/>
              </a:rPr>
              <a:t>Ползват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c479d"/>
                </a:solidFill>
                <a:latin typeface="Arial"/>
              </a:rPr>
              <a:t>21 </a:t>
            </a:r>
            <a:r>
              <a:rPr b="0" lang="bg-BG" sz="1200" spc="-1" strike="noStrike">
                <a:solidFill>
                  <a:srgbClr val="0c479d"/>
                </a:solidFill>
                <a:latin typeface="Arial"/>
              </a:rPr>
              <a:t>милиона потреб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c479d"/>
                </a:solidFill>
                <a:latin typeface="Arial"/>
              </a:rPr>
              <a:t>(</a:t>
            </a:r>
            <a:r>
              <a:rPr b="0" lang="bg-BG" sz="1200" spc="-1" strike="noStrike">
                <a:solidFill>
                  <a:srgbClr val="0c479d"/>
                </a:solidFill>
                <a:latin typeface="Arial"/>
              </a:rPr>
              <a:t>работници и служители</a:t>
            </a:r>
            <a:r>
              <a:rPr b="0" lang="fr-FR" sz="1200" spc="-1" strike="noStrike">
                <a:solidFill>
                  <a:srgbClr val="0c479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0" y="1768320"/>
            <a:ext cx="163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c479d"/>
                </a:solidFill>
                <a:latin typeface="Arial"/>
              </a:rPr>
              <a:t>Искане за осребря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17524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c479d"/>
                </a:solidFill>
                <a:latin typeface="Arial"/>
              </a:rPr>
              <a:t>Концепция и управление на решени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48927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c479d"/>
                </a:solidFill>
                <a:latin typeface="Arial"/>
              </a:rPr>
              <a:t>Предоставяне на услуг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c479d"/>
                </a:solidFill>
                <a:latin typeface="Arial"/>
              </a:rPr>
              <a:t>Ползване на услуг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95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c479d"/>
                </a:solidFill>
                <a:latin typeface="Arial"/>
              </a:rPr>
              <a:t>Осребря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289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c479d"/>
                </a:solidFill>
                <a:latin typeface="Arial"/>
              </a:rPr>
              <a:t>Плащ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048400">
            <a:off x="1936440" y="198072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2354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84600">
            <a:off x="6372360" y="190476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951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9464400">
            <a:off x="6428880" y="4648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2113400">
            <a:off x="2104560" y="464796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2028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9464400">
            <a:off x="2466360" y="259056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c479d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2016800">
            <a:off x="5943240" y="251388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c479d"/>
              </a:gs>
              <a:gs pos="100000">
                <a:srgbClr val="ffffff"/>
              </a:gs>
            </a:gsLst>
            <a:lin ang="20382000"/>
          </a:gradFill>
          <a:ln w="1260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76320"/>
            <a:ext cx="1066680" cy="68580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533520"/>
            <a:ext cx="152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1703520"/>
            <a:ext cx="4267080" cy="340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486400" y="2208240"/>
            <a:ext cx="335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c479d"/>
                </a:solidFill>
                <a:latin typeface="Arial"/>
              </a:rPr>
              <a:t>Ключът за постоянните ни  успех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76320"/>
            <a:ext cx="8610480" cy="796680"/>
            <a:chOff x="0" y="76320"/>
            <a:chExt cx="8610480" cy="79668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0" y="76320"/>
              <a:ext cx="152388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676520" y="22860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2800" spc="-1" strike="noStrike">
                  <a:solidFill>
                    <a:srgbClr val="0c479d"/>
                  </a:solidFill>
                  <a:latin typeface="Arial"/>
                </a:rPr>
                <a:t>Благополучие и усъвършенства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LucidaSan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LucidaSans"/>
              </a:rPr>
              <a:t> </a:t>
            </a:r>
            <a:r>
              <a:rPr b="1" lang="bg-BG" sz="2300" spc="-1" strike="noStrike">
                <a:solidFill>
                  <a:srgbClr val="0c479d"/>
                </a:solidFill>
                <a:latin typeface="Arial"/>
              </a:rPr>
              <a:t>Стратегия, включваща три основни направления</a:t>
            </a:r>
            <a:r>
              <a:rPr b="1" lang="fr-FR" sz="2300" spc="-1" strike="noStrike">
                <a:solidFill>
                  <a:srgbClr val="0c479d"/>
                </a:solidFill>
                <a:latin typeface="Arial"/>
              </a:rPr>
              <a:t>…</a:t>
            </a:r>
            <a:endParaRPr b="1" lang="en-US" sz="23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792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Географско присъствие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: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35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трани в цял свят, прибавяне на поне една нова държава всяка година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Разработване на нови продукти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ъобразени с нарастващите изисквания в управлението на човешките ресурси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Внедряване на нови технологии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76320"/>
            <a:ext cx="1143000" cy="761760"/>
          </a:xfrm>
          <a:prstGeom prst="flowChartAlternateProcess">
            <a:avLst/>
          </a:prstGeom>
          <a:solidFill>
            <a:srgbClr val="0c479d"/>
          </a:solidFill>
          <a:ln w="1908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ff"/>
                </a:solidFill>
                <a:latin typeface="Arial"/>
              </a:rPr>
              <a:t>Ключъ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ffffff"/>
                </a:solidFill>
                <a:latin typeface="Arial"/>
              </a:rPr>
              <a:t>на успе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1523880"/>
            <a:ext cx="1836720" cy="2514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… 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която създава</a:t>
            </a: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конкурентни предимства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Лидер на пазара за ваучери на услуги в повечето страни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ветовно присъствие на групата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ACCOR : 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еференция, гаранция и трайно сътрудничество с веригите хотели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21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милиона ползвател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340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000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рпоративни клиенти, с които са установени партньорски отношения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Ефективни и мотивирани екипи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Експертен опит в областта на продажбите и маркетинга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76320"/>
            <a:ext cx="1143000" cy="761760"/>
          </a:xfrm>
          <a:prstGeom prst="flowChartAlternateProcess">
            <a:avLst/>
          </a:prstGeom>
          <a:solidFill>
            <a:srgbClr val="0c479d"/>
          </a:solidFill>
          <a:ln w="1908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лючъ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на усп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92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2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920" y="2897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29000" y="2700360"/>
            <a:ext cx="1736640" cy="873360"/>
            <a:chOff x="3429000" y="2700360"/>
            <a:chExt cx="1736640" cy="873360"/>
          </a:xfrm>
        </p:grpSpPr>
        <p:sp>
          <p:nvSpPr>
            <p:cNvPr id="204" name=""/>
            <p:cNvSpPr/>
            <p:nvPr/>
          </p:nvSpPr>
          <p:spPr>
            <a:xfrm flipH="1">
              <a:off x="4653000" y="2700360"/>
              <a:ext cx="512640" cy="4064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3114720"/>
              <a:ext cx="13968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88a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Turqui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Carte Restaur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6320" y="76320"/>
            <a:ext cx="1143000" cy="761760"/>
          </a:xfrm>
          <a:prstGeom prst="flowChartAlternateProcess">
            <a:avLst/>
          </a:prstGeom>
          <a:solidFill>
            <a:srgbClr val="0c479d"/>
          </a:solidFill>
          <a:ln w="1908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лючъ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на усп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c479d"/>
                </a:solidFill>
                <a:latin typeface="Arial"/>
              </a:rPr>
              <a:t>Развитието през 2002 г. в няколко примера</a:t>
            </a:r>
            <a:endParaRPr b="1" lang="en-US" sz="2400" spc="-1" strike="noStrike">
              <a:solidFill>
                <a:srgbClr val="ffffff"/>
              </a:solidFill>
              <a:latin typeface="Lucida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4973760"/>
            <a:ext cx="1727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Чили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Top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81480" y="2893680"/>
            <a:ext cx="1295280" cy="987840"/>
            <a:chOff x="5181480" y="2893680"/>
            <a:chExt cx="1295280" cy="987840"/>
          </a:xfrm>
        </p:grpSpPr>
        <p:sp>
          <p:nvSpPr>
            <p:cNvPr id="211" name=""/>
            <p:cNvSpPr/>
            <p:nvPr/>
          </p:nvSpPr>
          <p:spPr>
            <a:xfrm>
              <a:off x="5181480" y="3240000"/>
              <a:ext cx="12952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Ливан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Top Premium, Ticket Ess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5195160" y="2893680"/>
              <a:ext cx="490680" cy="333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40560" y="2817720"/>
            <a:ext cx="1527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Китай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Carte recyc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752480"/>
            <a:ext cx="914400" cy="4572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86080" y="1447920"/>
            <a:ext cx="1576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Ирландия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Eye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2131920"/>
            <a:ext cx="14436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200400" y="2209320"/>
            <a:ext cx="1000080" cy="2286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1981080"/>
            <a:ext cx="1676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74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Франция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Tes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35260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990720"/>
            <a:ext cx="1828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Швеция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Pay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3600" y="1905120"/>
            <a:ext cx="144720" cy="14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295280"/>
            <a:ext cx="0" cy="6098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48320" y="2133720"/>
            <a:ext cx="2895480" cy="459000"/>
            <a:chOff x="4648320" y="2133720"/>
            <a:chExt cx="2895480" cy="459000"/>
          </a:xfrm>
        </p:grpSpPr>
        <p:sp>
          <p:nvSpPr>
            <p:cNvPr id="224" name=""/>
            <p:cNvSpPr/>
            <p:nvPr/>
          </p:nvSpPr>
          <p:spPr>
            <a:xfrm>
              <a:off x="5435640" y="2133720"/>
              <a:ext cx="2108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Унгария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Top Fashion, Ticket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800600" y="2364120"/>
              <a:ext cx="627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48320" y="2291760"/>
              <a:ext cx="144360" cy="14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105520" y="2825640"/>
            <a:ext cx="14436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257800"/>
            <a:ext cx="19810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Австралия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EAP, Hotel Gift Vou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32600" y="4730760"/>
            <a:ext cx="14472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70840" y="2895480"/>
            <a:ext cx="14436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190760" y="2666880"/>
            <a:ext cx="990360" cy="5335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3200400"/>
            <a:ext cx="1527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Турция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Carte restau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13440" y="2595600"/>
            <a:ext cx="14436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5035680"/>
            <a:ext cx="144360" cy="14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47760" y="2590920"/>
            <a:ext cx="1066680" cy="3045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590920"/>
            <a:ext cx="1527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Испания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Ticket Guard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46400" y="2514600"/>
            <a:ext cx="14472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74800" y="4883040"/>
            <a:ext cx="14472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5029200"/>
            <a:ext cx="172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Уругвай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Ticket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3733920"/>
            <a:ext cx="144360" cy="14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3657600"/>
            <a:ext cx="1727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Колумбия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Ticket Premium, Ticket Can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df0032"/>
                </a:solidFill>
                <a:latin typeface="Arial"/>
              </a:rPr>
              <a:t>Настоящите  пазари имат нови потребности</a:t>
            </a:r>
            <a:r>
              <a:rPr b="1" lang="fr-FR" sz="2000" spc="-1" strike="noStrike">
                <a:solidFill>
                  <a:srgbClr val="df0032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80000"/>
              </a:lnSpc>
              <a:spcBef>
                <a:spcPts val="451"/>
              </a:spcBef>
              <a:buClr>
                <a:srgbClr val="0c479d"/>
              </a:buClr>
              <a:buFont typeface="LucidaSans"/>
              <a:buChar char="►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ови услуги, свързани с постигане на баланса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рофесионален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личен живот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нформационни програми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услуги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« 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рактично ежедневие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 » ,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ерсонално подпомагане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80000"/>
              </a:lnSpc>
              <a:spcBef>
                <a:spcPts val="451"/>
              </a:spcBef>
              <a:buClr>
                <a:srgbClr val="0c479d"/>
              </a:buClr>
              <a:buFont typeface="LucidaSans"/>
              <a:buChar char="►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Създаване на лоялност сред служителите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чрез нови придобивки и възнаграждения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80000"/>
              </a:lnSpc>
              <a:spcBef>
                <a:spcPts val="451"/>
              </a:spcBef>
              <a:buClr>
                <a:srgbClr val="0c479d"/>
              </a:buClr>
              <a:buFont typeface="LucidaSans"/>
              <a:buChar char="►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знасяне на функциите на Управлението на човешките ресурси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обучение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управление на професионалните разходи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80000"/>
              </a:lnSpc>
              <a:spcBef>
                <a:spcPts val="451"/>
              </a:spcBef>
              <a:buClr>
                <a:srgbClr val="0c479d"/>
              </a:buClr>
              <a:buFont typeface="LucidaSans"/>
              <a:buChar char="►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Управление и разпределение на социалните помощи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общините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df0032"/>
                </a:solidFill>
                <a:latin typeface="Arial"/>
              </a:rPr>
              <a:t>Нова категория ползватели на традиционните ни пазари</a:t>
            </a:r>
            <a:r>
              <a:rPr b="1" lang="fr-FR" sz="2000" spc="-1" strike="noStrike">
                <a:solidFill>
                  <a:srgbClr val="df0032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80000"/>
              </a:lnSpc>
              <a:spcBef>
                <a:spcPts val="451"/>
              </a:spcBef>
              <a:buClr>
                <a:srgbClr val="0c479d"/>
              </a:buClr>
              <a:buFont typeface="LucidaSans"/>
              <a:buChar char="►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Държавни служители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80000"/>
              </a:lnSpc>
              <a:spcBef>
                <a:spcPts val="451"/>
              </a:spcBef>
              <a:buClr>
                <a:srgbClr val="0c479d"/>
              </a:buClr>
              <a:buFont typeface="LucidaSans"/>
              <a:buChar char="►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убличен сектор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във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ранция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Белгия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талия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Бразилия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76320"/>
            <a:ext cx="1218960" cy="761760"/>
          </a:xfrm>
          <a:prstGeom prst="flowChartAlternateProcess">
            <a:avLst/>
          </a:prstGeom>
          <a:solidFill>
            <a:srgbClr val="0c479d"/>
          </a:solidFill>
          <a:ln w="1908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лючъ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на усп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Разнообразие от продукти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</p:spTree>
  </p:cSld>
  <p:transition>
    <p:wheel spokes="1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LucidaSans"/>
              </a:rPr>
              <a:t>	</a:t>
            </a:r>
            <a:r>
              <a:rPr b="1" lang="bg-BG" sz="2300" spc="-1" strike="noStrike">
                <a:solidFill>
                  <a:srgbClr val="0c479d"/>
                </a:solidFill>
                <a:latin typeface="Arial"/>
              </a:rPr>
              <a:t>Внедряване на нови технологии</a:t>
            </a:r>
            <a:endParaRPr b="1" lang="en-US" sz="23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95480" y="106668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витие на картите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магнитни и с чип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осигуряване на сигурността и проследяването на транзакциите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разил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Франц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Турц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Швец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зползване на Интернет за улесняване на поръчките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разил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Франц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нгар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едоставяне на мултимедиен продукт, улесняващ достъпа до информац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центрове за обаждания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Web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траниц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нтернет портал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султации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нифицирана информационна система за перфектно обслужване на клиентите и търговските обект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ект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ESPADA)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46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0c479d"/>
          </a:solidFill>
          <a:ln w="1908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лючъ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на усп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438640" cy="16257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3952" t="19482" r="54940" b="15624"/>
          <a:stretch/>
        </p:blipFill>
        <p:spPr>
          <a:xfrm>
            <a:off x="85680" y="4448160"/>
            <a:ext cx="1193760" cy="134316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1981080" y="1066680"/>
            <a:ext cx="6477120" cy="1524240"/>
            <a:chOff x="1981080" y="1066680"/>
            <a:chExt cx="6477120" cy="1524240"/>
          </a:xfrm>
        </p:grpSpPr>
        <p:sp>
          <p:nvSpPr>
            <p:cNvPr id="251" name=""/>
            <p:cNvSpPr/>
            <p:nvPr/>
          </p:nvSpPr>
          <p:spPr>
            <a:xfrm>
              <a:off x="1981080" y="1066680"/>
              <a:ext cx="6477120" cy="1524240"/>
            </a:xfrm>
            <a:prstGeom prst="ellipse">
              <a:avLst/>
            </a:prstGeom>
            <a:noFill/>
            <a:ln w="28440">
              <a:solidFill>
                <a:srgbClr val="c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1295280"/>
              <a:ext cx="556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91c8ff"/>
                  </a:solidFill>
                  <a:latin typeface="Arial"/>
                </a:rPr>
                <a:t>Успешно присъствие на световния пазар с офиси на 5 континен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133720" y="2819520"/>
            <a:ext cx="6400800" cy="1523880"/>
            <a:chOff x="2133720" y="2819520"/>
            <a:chExt cx="6400800" cy="1523880"/>
          </a:xfrm>
        </p:grpSpPr>
        <p:sp>
          <p:nvSpPr>
            <p:cNvPr id="254" name=""/>
            <p:cNvSpPr/>
            <p:nvPr/>
          </p:nvSpPr>
          <p:spPr>
            <a:xfrm>
              <a:off x="2133720" y="2819520"/>
              <a:ext cx="6400800" cy="1523880"/>
            </a:xfrm>
            <a:prstGeom prst="ellipse">
              <a:avLst/>
            </a:prstGeom>
            <a:noFill/>
            <a:ln w="28440">
              <a:solidFill>
                <a:srgbClr val="2b8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525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2b81ff"/>
                  </a:solidFill>
                  <a:latin typeface="Arial"/>
                </a:rPr>
                <a:t>Почти неограничени възможности да отговорим на новите пазарни изиск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09680" y="4572000"/>
            <a:ext cx="6400800" cy="1371600"/>
            <a:chOff x="2209680" y="4572000"/>
            <a:chExt cx="6400800" cy="1371600"/>
          </a:xfrm>
        </p:grpSpPr>
        <p:sp>
          <p:nvSpPr>
            <p:cNvPr id="257" name=""/>
            <p:cNvSpPr/>
            <p:nvPr/>
          </p:nvSpPr>
          <p:spPr>
            <a:xfrm>
              <a:off x="2209680" y="4572000"/>
              <a:ext cx="6400800" cy="1371600"/>
            </a:xfrm>
            <a:prstGeom prst="ellipse">
              <a:avLst/>
            </a:prstGeom>
            <a:noFill/>
            <a:ln w="28440">
              <a:solidFill>
                <a:srgbClr val="0c47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19520" y="4724280"/>
              <a:ext cx="518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c479d"/>
                  </a:solidFill>
                  <a:latin typeface="Arial"/>
                </a:rPr>
                <a:t>Accor Services </a:t>
              </a:r>
              <a:r>
                <a:rPr b="1" lang="bg-BG" sz="2000" spc="-1" strike="noStrike">
                  <a:solidFill>
                    <a:srgbClr val="0c479d"/>
                  </a:solidFill>
                  <a:latin typeface="Arial"/>
                </a:rPr>
                <a:t>участва все по-успешно във формирането на финансовите резултати на група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4240" y="2590920"/>
            <a:ext cx="1211040" cy="166212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0" y="76320"/>
            <a:ext cx="8610480" cy="796680"/>
            <a:chOff x="0" y="76320"/>
            <a:chExt cx="8610480" cy="79668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0" y="76320"/>
              <a:ext cx="152388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676520" y="22860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2800" spc="-1" strike="noStrike">
                  <a:solidFill>
                    <a:srgbClr val="0c479d"/>
                  </a:solidFill>
                  <a:latin typeface="Arial"/>
                </a:rPr>
                <a:t>Благополучие и усъвършенства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6320" y="1143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600200"/>
            <a:ext cx="6837480" cy="83808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Кои сме ние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124080"/>
            <a:ext cx="6837480" cy="838440"/>
          </a:xfrm>
          <a:prstGeom prst="flowChartAlternateProcess">
            <a:avLst/>
          </a:prstGeom>
          <a:solidFill>
            <a:srgbClr val="2b81ff">
              <a:alpha val="85000"/>
            </a:srgbClr>
          </a:solidFill>
          <a:ln w="19080">
            <a:solidFill>
              <a:srgbClr val="2b8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Нашите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63520" y="4724280"/>
            <a:ext cx="6837480" cy="838440"/>
          </a:xfrm>
          <a:prstGeom prst="flowChartAlternateProcess">
            <a:avLst/>
          </a:prstGeom>
          <a:solidFill>
            <a:srgbClr val="0c479d"/>
          </a:solidFill>
          <a:ln w="19080">
            <a:solidFill>
              <a:srgbClr val="0c4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Ключът за постоян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ни успе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33520"/>
            <a:ext cx="759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1523880" cy="796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3049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c479d"/>
                </a:solidFill>
                <a:latin typeface="Arial"/>
              </a:rPr>
              <a:t>Благополучие и усъвършенст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0160" y="1447920"/>
            <a:ext cx="2979720" cy="408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14800" y="2530440"/>
            <a:ext cx="46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c479d"/>
                </a:solidFill>
                <a:latin typeface="Arial"/>
              </a:rPr>
              <a:t>Кои сме ние</a:t>
            </a:r>
            <a:r>
              <a:rPr b="1" lang="fr-FR" sz="48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523880" cy="796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76520" y="2430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c479d"/>
                </a:solidFill>
                <a:latin typeface="Arial"/>
              </a:rPr>
              <a:t>Благополучие и усъвършенст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44756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09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ветовен лидер в емитирането на ваучери за услуг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тратегическа позиция в областта на управлението на човешките ресурси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оказан професионален опит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1" marL="109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Гъвкавост, основана на последните технологични новости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стойчивост на промените в икономическата конюнктура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чти неограничен потенциал за развитие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Втората основна дейност на</a:t>
            </a: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 Accor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952" t="19482" r="54940" b="15624"/>
          <a:stretch/>
        </p:blipFill>
        <p:spPr>
          <a:xfrm>
            <a:off x="77760" y="1066680"/>
            <a:ext cx="1386000" cy="1562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3886200" y="1066680"/>
            <a:ext cx="5257800" cy="3063960"/>
            <a:chOff x="3886200" y="1066680"/>
            <a:chExt cx="5257800" cy="30639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3886200" y="1066680"/>
              <a:ext cx="5257800" cy="30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609800" y="191844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09800" y="225864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65200" y="259956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32120" y="166212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14680" y="328068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61440" y="323748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14920" y="174852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49680" y="162000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9920" y="294012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89400" y="340812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29880" y="221652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22520" y="196164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66880" y="187524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41600" y="187524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07920" y="174744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8080" y="196164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97000" y="178992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0280" y="234432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2800" y="187524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46480" y="204588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55960" y="162000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98080" y="170532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22280" y="178992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66880" y="162000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2680" y="162000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2800" y="149256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05080" y="191844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9400" y="2514240"/>
              <a:ext cx="8280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9920" y="3280680"/>
              <a:ext cx="8316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   </a:t>
            </a:r>
            <a:r>
              <a:rPr b="1" lang="bg-BG" sz="2700" spc="-1" strike="noStrike">
                <a:solidFill>
                  <a:srgbClr val="0c479d"/>
                </a:solidFill>
                <a:latin typeface="Arial"/>
              </a:rPr>
              <a:t>Лидерска позиция и световно присъствие</a:t>
            </a:r>
            <a:endParaRPr b="1" lang="en-US" sz="2700" spc="-1" strike="noStrike">
              <a:solidFill>
                <a:srgbClr val="ffffff"/>
              </a:solidFill>
              <a:latin typeface="Lucida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5486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150000"/>
              </a:lnSpc>
              <a:spcBef>
                <a:spcPts val="300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трани на 5 континента </a:t>
            </a:r>
            <a:r>
              <a:rPr b="0" lang="bg-BG" sz="1200" spc="-1" strike="noStrike">
                <a:solidFill>
                  <a:srgbClr val="0c479d"/>
                </a:solidFill>
                <a:latin typeface="Arial"/>
              </a:rPr>
              <a:t>Аржентина, Австралия, Австрия, Белгия, Бразилия, България, Чили, Китай, Чехия, Финландия, Франция, Германия, Гърция, Унгария, Индия, Италия, Ливан, Люксембург, Мексико, Панама, Перу, Полша, Португалия, Румъния, Словакия, Южна Африка, Испания, Швеция, Швейцария, Холандия, Турция, Великобритания, САЩ, Уругвай, Венецуела</a:t>
            </a:r>
            <a:endParaRPr b="0" lang="en-US" sz="1200" spc="-1" strike="noStrike">
              <a:solidFill>
                <a:srgbClr val="0c479d"/>
              </a:solidFill>
              <a:latin typeface="Arial"/>
            </a:endParaRPr>
          </a:p>
          <a:p>
            <a:pPr marL="463680" indent="0">
              <a:lnSpc>
                <a:spcPct val="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479d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21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милиона потребители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340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000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корпоративни клиенти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1 000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000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търговски обекта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47560" y="1219320"/>
            <a:ext cx="73911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99"/>
                </a:solidFill>
                <a:uFillTx/>
                <a:latin typeface="Arial"/>
              </a:rPr>
              <a:t>Да участваме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в подобряване ефективността на фирмите, които имат желание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130000"/>
              </a:lnSpc>
              <a:spcBef>
                <a:spcPts val="499"/>
              </a:spcBef>
              <a:buClr>
                <a:srgbClr val="0c479d"/>
              </a:buClr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да възнаградят своите работници и служител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1" marL="938160" indent="-480960">
              <a:lnSpc>
                <a:spcPct val="130000"/>
              </a:lnSpc>
              <a:spcBef>
                <a:spcPts val="499"/>
              </a:spcBef>
              <a:buClr>
                <a:srgbClr val="0c479d"/>
              </a:buClr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да бъдат предпочитан работодател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f003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99"/>
                </a:solidFill>
                <a:uFillTx/>
                <a:latin typeface="Arial"/>
              </a:rPr>
              <a:t>Да подпомогнем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ържавните и административни  орган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 управлението на социалните фондове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чрез концепцията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витието и управлението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на комплексн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гъвкави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 иновативни решения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76320"/>
            <a:ext cx="1066680" cy="68580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76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Нашата ми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5680" y="990720"/>
            <a:ext cx="1279440" cy="1752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82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Accor Services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са разработили широка гама от услуги  за 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арастване на производителността на труда  чрез повишаване на бла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г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осъстоянието на работниците и служителите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marL="182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шето предложение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 фокусирано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върху три ключови области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 управлението на човешките ресурси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marL="1828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c479d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3809880"/>
            <a:ext cx="5134680" cy="2087280"/>
            <a:chOff x="685800" y="3809880"/>
            <a:chExt cx="5134680" cy="2087280"/>
          </a:xfrm>
        </p:grpSpPr>
        <p:sp>
          <p:nvSpPr>
            <p:cNvPr id="115" name=""/>
            <p:cNvSpPr/>
            <p:nvPr/>
          </p:nvSpPr>
          <p:spPr>
            <a:xfrm>
              <a:off x="685800" y="39625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98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648320"/>
              <a:ext cx="60948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ba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5334120"/>
              <a:ext cx="60948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db3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380988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8098cc"/>
                  </a:solidFill>
                  <a:latin typeface="Arial"/>
                </a:rPr>
                <a:t>Задоволяване на жизнените потреб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19520" y="4568760"/>
              <a:ext cx="45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4bbab4"/>
                  </a:solidFill>
                  <a:latin typeface="Arial"/>
                </a:rPr>
                <a:t>      </a:t>
              </a:r>
              <a:r>
                <a:rPr b="1" lang="bg-BG" sz="1800" spc="-1" strike="noStrike">
                  <a:solidFill>
                    <a:srgbClr val="4bbab4"/>
                  </a:solidFill>
                  <a:latin typeface="Arial"/>
                </a:rPr>
                <a:t>Повишаване на благосъстояниет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2240" y="5254560"/>
              <a:ext cx="481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db364"/>
                  </a:solidFill>
                  <a:latin typeface="Arial"/>
                </a:rPr>
                <a:t>      </a:t>
              </a:r>
              <a:r>
                <a:rPr b="1" lang="bg-BG" sz="1800" spc="-1" strike="noStrike">
                  <a:solidFill>
                    <a:srgbClr val="fdb364"/>
                  </a:solidFill>
                  <a:latin typeface="Arial"/>
                </a:rPr>
                <a:t>Увеличаван</a:t>
              </a:r>
              <a:r>
                <a:rPr b="1" lang="fr-FR" sz="1800" spc="-1" strike="noStrike">
                  <a:solidFill>
                    <a:srgbClr val="fdb364"/>
                  </a:solidFill>
                  <a:latin typeface="Arial"/>
                </a:rPr>
                <a:t>е </a:t>
              </a:r>
              <a:r>
                <a:rPr b="1" lang="bg-BG" sz="1800" spc="-1" strike="noStrike">
                  <a:solidFill>
                    <a:srgbClr val="fdb364"/>
                  </a:solidFill>
                  <a:latin typeface="Arial"/>
                </a:rPr>
                <a:t>на производителност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db364"/>
                  </a:solidFill>
                  <a:latin typeface="Arial"/>
                </a:rPr>
                <a:t> </a:t>
              </a:r>
              <a:r>
                <a:rPr b="1" lang="bg-BG" sz="1800" spc="-1" strike="noStrike">
                  <a:solidFill>
                    <a:srgbClr val="fdb364"/>
                  </a:solidFill>
                  <a:latin typeface="Arial"/>
                </a:rPr>
                <a:t>н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somme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nou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3 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типа услуги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375240" y="3444840"/>
            <a:ext cx="2235240" cy="2270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320" y="76320"/>
            <a:ext cx="1066680" cy="68580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98cc"/>
                </a:solidFill>
                <a:latin typeface="Arial"/>
              </a:rPr>
              <a:t>Задоволяване на  основните жизнени потреб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</a:rPr>
              <a:t>н</a:t>
            </a:r>
            <a:r>
              <a:rPr b="1" lang="bg-BG" sz="1600" spc="-1" strike="noStrike">
                <a:solidFill>
                  <a:srgbClr val="8098cc"/>
                </a:solidFill>
                <a:latin typeface="Arial"/>
              </a:rPr>
              <a:t>ости на 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98cc"/>
                </a:solidFill>
                <a:latin typeface="Arial"/>
              </a:rPr>
              <a:t>трудещите се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c479d"/>
              </a:solidFill>
              <a:latin typeface="Arial"/>
            </a:endParaRPr>
          </a:p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98cc"/>
                </a:solidFill>
                <a:latin typeface="Arial"/>
              </a:rPr>
              <a:t>Предоставяне на възможност на предприятията и публичните интституции да поем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</a:rPr>
              <a:t>а</a:t>
            </a:r>
            <a:r>
              <a:rPr b="1" lang="bg-BG" sz="1600" spc="-1" strike="noStrike">
                <a:solidFill>
                  <a:srgbClr val="8098cc"/>
                </a:solidFill>
                <a:latin typeface="Arial"/>
              </a:rPr>
              <a:t>т своята социална 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</a:rPr>
              <a:t>о</a:t>
            </a:r>
            <a:r>
              <a:rPr b="1" lang="bg-BG" sz="1600" spc="-1" strike="noStrike">
                <a:solidFill>
                  <a:srgbClr val="8098cc"/>
                </a:solidFill>
                <a:latin typeface="Arial"/>
              </a:rPr>
              <a:t>тговорност</a:t>
            </a:r>
            <a:r>
              <a:rPr b="1" lang="fr-FR" sz="1800" spc="-1" strike="noStrike">
                <a:solidFill>
                  <a:srgbClr val="8098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  <a:p>
            <a:pPr lvl="1" marL="1792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666880"/>
            <a:ext cx="6172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422280" indent="-253800">
              <a:lnSpc>
                <a:spcPct val="110000"/>
              </a:lnSpc>
              <a:spcBef>
                <a:spcPts val="374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Участие 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  <a:ea typeface="Arial"/>
              </a:rPr>
              <a:t>в</a:t>
            </a: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 ежедневните разходи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  <a:ea typeface="Arial"/>
              </a:rPr>
              <a:t> 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(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прехрана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, 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транспорт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99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374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Управление на професионалните разходи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  <a:ea typeface="Arial"/>
              </a:rPr>
              <a:t> 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(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поддръжка на коли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, 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поддръжка на дрехи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99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374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Помощ в изпълнението на социалните задължени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  <a:ea typeface="Arial"/>
              </a:rPr>
              <a:t>я</a:t>
            </a: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 на работодателите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, 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по отношение на 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х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игиената, сигурността и трудовата медицина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99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400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Управление на допълнителните услуги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  <a:ea typeface="Arial"/>
              </a:rPr>
              <a:t> 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( 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управление на служебни жилища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,</a:t>
            </a:r>
            <a:r>
              <a:rPr b="0" lang="bg-BG" sz="1500" spc="-1" strike="noStrike">
                <a:solidFill>
                  <a:srgbClr val="8098cc"/>
                </a:solidFill>
                <a:latin typeface="Arial"/>
                <a:ea typeface="Arial"/>
              </a:rPr>
              <a:t> общежития,  центрове за обучени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е).</a:t>
            </a:r>
            <a:r>
              <a:rPr b="0" lang="fr-FR" sz="1600" spc="-1" strike="noStrike">
                <a:solidFill>
                  <a:srgbClr val="8098c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99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53800">
              <a:lnSpc>
                <a:spcPct val="110000"/>
              </a:lnSpc>
              <a:spcBef>
                <a:spcPts val="374"/>
              </a:spcBef>
              <a:buClr>
                <a:srgbClr val="5474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Управление на социалн</a:t>
            </a:r>
            <a:r>
              <a:rPr b="1" lang="fr-FR" sz="1600" spc="-1" strike="noStrike">
                <a:solidFill>
                  <a:srgbClr val="8098cc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8098cc"/>
                </a:solidFill>
                <a:latin typeface="Arial"/>
                <a:ea typeface="Arial"/>
              </a:rPr>
              <a:t> програми на общините</a:t>
            </a:r>
            <a:r>
              <a:rPr b="0" lang="fr-FR" sz="1500" spc="-1" strike="noStrike">
                <a:solidFill>
                  <a:srgbClr val="8098cc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somme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nou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3000" spc="-1" strike="noStrike">
                <a:solidFill>
                  <a:srgbClr val="0c479d"/>
                </a:solidFill>
                <a:latin typeface="Arial"/>
              </a:rPr>
              <a:t>Задоволяване на жизнените</a:t>
            </a:r>
            <a:br>
              <a:rPr sz="3000"/>
            </a:br>
            <a:r>
              <a:rPr b="1" lang="bg-BG" sz="3000" spc="-1" strike="noStrike">
                <a:solidFill>
                  <a:srgbClr val="0c479d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3000" spc="-1" strike="noStrike">
                <a:solidFill>
                  <a:srgbClr val="0c479d"/>
                </a:solidFill>
                <a:latin typeface="Arial"/>
              </a:rPr>
              <a:t>потребности</a:t>
            </a:r>
            <a:endParaRPr b="1" lang="en-US" sz="3000" spc="-1" strike="noStrike">
              <a:solidFill>
                <a:srgbClr val="ffffff"/>
              </a:solidFill>
              <a:latin typeface="Lucida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57880" y="1066680"/>
            <a:ext cx="2657520" cy="177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2889360"/>
            <a:ext cx="2320920" cy="53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400800" y="3498840"/>
            <a:ext cx="1701720" cy="53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00800" y="4108320"/>
            <a:ext cx="2198520" cy="5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400800" y="4800600"/>
            <a:ext cx="2462040" cy="53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400800" y="5410080"/>
            <a:ext cx="1951200" cy="54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320" y="76320"/>
            <a:ext cx="1066680" cy="68580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88160" y="5410080"/>
            <a:ext cx="2385720" cy="540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4953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166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bbab4"/>
                </a:solidFill>
                <a:latin typeface="Arial"/>
              </a:rPr>
              <a:t>Постигане на баланс между личния  и професионалния живот на работниците и служителите</a:t>
            </a:r>
            <a:r>
              <a:rPr b="1" lang="fr-FR" sz="1800" spc="-1" strike="noStrike">
                <a:solidFill>
                  <a:srgbClr val="4bbab4"/>
                </a:solidFill>
                <a:latin typeface="Arial"/>
              </a:rPr>
              <a:t>,</a:t>
            </a:r>
            <a:r>
              <a:rPr b="1" lang="bg-BG" sz="1800" spc="-1" strike="noStrike">
                <a:solidFill>
                  <a:srgbClr val="4bbab4"/>
                </a:solidFill>
                <a:latin typeface="Arial"/>
              </a:rPr>
              <a:t> с цел увеличаване производителността на труда.</a:t>
            </a:r>
            <a:r>
              <a:rPr b="0" lang="fr-FR" sz="1800" spc="-1" strike="noStrike">
                <a:solidFill>
                  <a:srgbClr val="4bbab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895480"/>
            <a:ext cx="495288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9280" indent="-270000">
              <a:lnSpc>
                <a:spcPct val="110000"/>
              </a:lnSpc>
              <a:spcBef>
                <a:spcPts val="374"/>
              </a:spcBef>
              <a:buClr>
                <a:srgbClr val="3c9c97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Помощ </a:t>
            </a:r>
            <a:r>
              <a:rPr b="1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в</a:t>
            </a:r>
            <a:r>
              <a:rPr b="1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 семейството</a:t>
            </a:r>
            <a:r>
              <a:rPr b="1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 : </a:t>
            </a:r>
            <a:r>
              <a:rPr b="0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р</a:t>
            </a:r>
            <a:r>
              <a:rPr b="0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ешения, свързани с отглеждането на малки деца и грижи за възрастни хора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 (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ваучери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 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за детски градини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, 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информационни услуги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>
              <a:lnSpc>
                <a:spcPct val="110000"/>
              </a:lnSpc>
              <a:spcBef>
                <a:spcPts val="201"/>
              </a:spcBef>
              <a:buClr>
                <a:srgbClr val="3c9c97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>
              <a:lnSpc>
                <a:spcPct val="110000"/>
              </a:lnSpc>
              <a:spcBef>
                <a:spcPts val="374"/>
              </a:spcBef>
              <a:buClr>
                <a:srgbClr val="3c9c97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« </a:t>
            </a:r>
            <a:r>
              <a:rPr b="1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Уле</a:t>
            </a:r>
            <a:r>
              <a:rPr b="1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с</a:t>
            </a:r>
            <a:r>
              <a:rPr b="1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н</a:t>
            </a:r>
            <a:r>
              <a:rPr b="1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я</a:t>
            </a:r>
            <a:r>
              <a:rPr b="1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ване на ежедневи</a:t>
            </a:r>
            <a:r>
              <a:rPr b="1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е</a:t>
            </a:r>
            <a:r>
              <a:rPr b="1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то</a:t>
            </a:r>
            <a:r>
              <a:rPr b="1" lang="fr-FR" sz="1600" spc="-1" strike="noStrike">
                <a:solidFill>
                  <a:srgbClr val="4bbab4"/>
                </a:solidFill>
                <a:latin typeface="Arial"/>
                <a:ea typeface="Arial"/>
              </a:rPr>
              <a:t> » : 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услуги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 (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химическо чистене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, 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помощ по домовете и т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.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н.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) 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и информация, достъпн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а</a:t>
            </a:r>
            <a:r>
              <a:rPr b="0" lang="bg-BG" sz="1500" spc="-1" strike="noStrike">
                <a:solidFill>
                  <a:srgbClr val="4bbab4"/>
                </a:solidFill>
                <a:latin typeface="Arial"/>
                <a:ea typeface="Arial"/>
              </a:rPr>
              <a:t> по телефона или интернет</a:t>
            </a:r>
            <a:r>
              <a:rPr b="0" lang="fr-FR" sz="1500" spc="-1" strike="noStrike">
                <a:solidFill>
                  <a:srgbClr val="4bbab4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>
              <a:lnSpc>
                <a:spcPct val="110000"/>
              </a:lnSpc>
              <a:spcBef>
                <a:spcPts val="400"/>
              </a:spcBef>
              <a:buClr>
                <a:srgbClr val="3c9c97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bbab4"/>
                </a:solidFill>
                <a:latin typeface="Arial"/>
                <a:ea typeface="Arial"/>
              </a:rPr>
              <a:t>Психологическа помощ и съв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76320"/>
            <a:ext cx="1066680" cy="76176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sommes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nou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c479d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c479d"/>
                </a:solidFill>
                <a:latin typeface="Arial"/>
              </a:rPr>
              <a:t>Повишаване на благосъстоянието</a:t>
            </a:r>
            <a:endParaRPr b="1" lang="en-US" sz="2800" spc="-1" strike="noStrike">
              <a:solidFill>
                <a:srgbClr val="ffffff"/>
              </a:solidFill>
              <a:latin typeface="Lucida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95880" y="1082520"/>
            <a:ext cx="2514600" cy="1849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888160" y="2895480"/>
            <a:ext cx="2471760" cy="54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867280" y="3352680"/>
            <a:ext cx="2382840" cy="5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888160" y="3962520"/>
            <a:ext cx="2496960" cy="539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888160" y="4419720"/>
            <a:ext cx="2814480" cy="53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888160" y="4952880"/>
            <a:ext cx="12380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320" y="76320"/>
            <a:ext cx="1066680" cy="685800"/>
          </a:xfrm>
          <a:prstGeom prst="flowChartAlternateProcess">
            <a:avLst/>
          </a:prstGeom>
          <a:solidFill>
            <a:srgbClr val="c1e0ff"/>
          </a:solidFill>
          <a:ln w="19080">
            <a:solidFill>
              <a:srgbClr val="c1e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Кои с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c479d"/>
                </a:solidFill>
                <a:latin typeface="Arial"/>
              </a:rPr>
              <a:t>ние</a:t>
            </a:r>
            <a:r>
              <a:rPr b="1" lang="fr-FR" sz="1400" spc="-1" strike="noStrike">
                <a:solidFill>
                  <a:srgbClr val="0c479d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6:57:16Z</dcterms:created>
  <dc:creator>Accor Services</dc:creator>
  <dc:description/>
  <dc:language>en-US</dc:language>
  <cp:lastModifiedBy>Svetla Stoeva</cp:lastModifiedBy>
  <dcterms:modified xsi:type="dcterms:W3CDTF">2006-06-30T12:34:46Z</dcterms:modified>
  <cp:revision>323</cp:revision>
  <dc:subject/>
  <dc:title>Slide 1</dc:title>
</cp:coreProperties>
</file>