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6C3-AF7D-4AA9-B92D-04ED4A69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BBB-6BE7-4722-8B16-8B5D805C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9CD-A4A9-496D-AB71-81E2D60A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76D-1CBD-42FA-8471-0C36ADF6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D275-6ACC-4B75-A739-7454B978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F990-FB04-4FC5-A871-C04978C0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C58C-B3E1-4B0F-AD81-C8BB20A9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8265-2F91-414B-BF24-5F652973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B720-76B1-4986-81BF-AE6CF3B8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8D3A-1895-4BEC-B0AF-5BD3149C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FE67-8D19-4607-8DF5-564CA767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8DF-2EB3-424D-8D90-F2D3A06F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5471-774D-4164-8300-8D372F3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44A0-34AD-4524-8D45-D1C30DC6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28E7-9259-45EE-99FF-1974EF0E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CD6B-870A-46C9-B4CE-3CA562A3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3FC4-6732-4F88-ACDD-50E85D4E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9B5-BF44-4DB1-B65F-744B8FCC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F4F-DC98-4C64-90CB-68619C72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C00-23E8-4874-9BEA-FEE7AB58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20F-0A68-41BB-8FB7-7F86B74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DB3-4F04-4C9C-A222-CCD3D465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1C1-AA26-48D2-8F90-0423BEF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781-0C33-4215-ABBA-96F8A9AB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9D5D-2F52-4EE9-B995-0FF82BDA8FFE}" type="slidenum"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9249" t="67445" r="4117" b="4261"/>
          <a:stretch/>
        </p:blipFill>
        <p:spPr>
          <a:xfrm>
            <a:off x="2843280" y="4017960"/>
            <a:ext cx="6300720" cy="2840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26920" y="549360"/>
            <a:ext cx="863640" cy="608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733400" y="1052640"/>
            <a:ext cx="579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3542-5E1D-4EFB-812B-88ACEDDC10F7}" type="slidenum"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9249" t="67445" r="4117" b="4261"/>
          <a:stretch/>
        </p:blipFill>
        <p:spPr>
          <a:xfrm>
            <a:off x="0" y="2736720"/>
            <a:ext cx="9144000" cy="412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Мотивация на служителите </a:t>
            </a:r>
            <a:br>
              <a:rPr sz="4000"/>
            </a:b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4000"/>
            </a:b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Космо България Мобайл ЕАД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" y="6040440"/>
            <a:ext cx="46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3 - 24 юни 2006, Хотел Дива, Чифлика, Троянско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Годишна оценка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еглед на представянето и развитието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одишната оценка мотивира ли служителит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340000" y="5300640"/>
          <a:ext cx="4038480" cy="1117440"/>
        </p:xfrm>
        <a:graphic>
          <a:graphicData uri="http://schemas.openxmlformats.org/drawingml/2006/table">
            <a:tbl>
              <a:tblPr/>
              <a:tblGrid>
                <a:gridCol w="1154160"/>
                <a:gridCol w="949320"/>
                <a:gridCol w="1041480"/>
                <a:gridCol w="893520"/>
              </a:tblGrid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ти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3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00000" y="1628640"/>
          <a:ext cx="72723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2723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зрастване в кариерата 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765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1125360"/>
            <a:ext cx="52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197000"/>
            <a:ext cx="8280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ганизиране на вътрешни конкурси с цел попълване на свободните длъжности с вътрешни кандида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помагане професионалното развитие на младите служители с помощта на  мен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Ясна стълбица за израстване и планиране на кариер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имер: Търговска мре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правит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правит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часова 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66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1636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3080" y="450864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дав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нсул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5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43280" y="414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580000" y="321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36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46360" y="316080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рпоратив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даж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6520" y="4869000"/>
            <a:ext cx="314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ътрешни промо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005 г – 19, 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006 г. до момента – 5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ирмена култура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поделени цели, ценности и отговор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заимоотношения в екип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ратна връз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ирмени празници, подаръ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ещения в Гърция – Олимпийските игри, Еврови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трешна комуникация – списание, седмичен бюлетин, извънредни новини и съобщения по вътрешната поща, срещи, комуникационен 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следване мнението на служители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зводи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27008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отивацията в Глобул НЕ 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бстрактно понятие от УЧ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пирана модерна пра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ложено изиск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убаво пожел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отивацията в Глобул 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живяна и осмислена през етапите на развитие на компания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образена с нуждите и очакванията на служител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нована на обективни и прозрачни инструменти за 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ключена в ежегодно проследяване, оценка и обнов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Жива, реална и действащ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765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отивацията е изкуство да караш хората да правят това, което ти искаш от тях, само защото те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искат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а го правя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 чрез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мидж на работод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инансови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дишна оценка на представянето и развитие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растване в карие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ирмена култура и идентич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765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що Глобул?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мпания, водеща в областта на телекомуникациите в Бълг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мпания, отговорна към своите служители, партньори, доставчи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ща възможности за обучение, развитие и кариерно израст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зрачност, обективност, професионализъм и добронамереност  в процеса на назначаване на нови х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лични работни условия, добра атмосфера и добро отнош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оциално отговорна комп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ъм младите хора – работа с университетите, поощряване на спортни тала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ъм обществото –  Дом за сираци Елхово, Покрив за българската кул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мпания с дългосрочна визия и споделени ц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765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инансови инструменти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знаграждение споре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ивата на заплащане в сектора – ИТ и Телекомуникации според ежегодните изследвания на нивата на заплащан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Ms, HAY Group, Merc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ивото на компетентност – образование, предишен опит, допълнителни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езултатите в работата и годишната оценка на представянето на служител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игнатите цели на фирмата и финансовите резултат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765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инансови инструменти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ону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ърговски екипи – месечно, тримесечно, годиш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ърговски мениджъри – на полугод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служители - годиш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изключителни постижения и работа по проек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13 запл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765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инансови инструменти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765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341360"/>
          <a:ext cx="8229600" cy="4695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ове допълнителни придоби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ференциални условия за ползване на банкови продукти, туристически услуги, спорт, други видове стоки и 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ференциални условия в големи вериги - магаз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на к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ужебни автомоб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тени паркоместа за лични автомобили в БП - Со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и за х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рмени услуги - безплатни и /или на преференциални ц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страховка жив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о обслужване - здравен фонд или поликли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билни телеф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бучения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55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веждаща програма – Посрещане първия ден, Чаша вино, Двудневен семинар, специални въвеждащи срещи и посещения за ключови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фесионални обуч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филирани според тясната специализация на служителя (технически, търговски, обслужване на клиенти, финансови и др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правленски ум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зикова и компютърна грамот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и меки умения за целеви гру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разователни прогр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ртификационни курс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агистра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765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Годишна оценка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еглед на представянето и развитието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55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мам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фикасен мотивационен инструмент за даване на конструктивна обратна връзка, подобряване на представянето и концентриране върху бъдещот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ощряване на диалога ръководител – подчин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дентифициране на обещаващи и талантливи служители с цел инвестиране в тяхнот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лице 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Яснота на процеса, опит, 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ълна ангажираност на средния мениджмъ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100 % документирана оц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ратна връзка и усъвършенстване на проц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765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Годишна оценка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еглед на представянето и развитието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16000" y="1916280"/>
          <a:ext cx="6840720" cy="30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68407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050920" y="5157720"/>
          <a:ext cx="4752720" cy="1052640"/>
        </p:xfrm>
        <a:graphic>
          <a:graphicData uri="http://schemas.openxmlformats.org/drawingml/2006/table">
            <a:tbl>
              <a:tblPr/>
              <a:tblGrid>
                <a:gridCol w="1358280"/>
                <a:gridCol w="1117080"/>
                <a:gridCol w="1225440"/>
                <a:gridCol w="1051920"/>
              </a:tblGrid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ти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8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1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3640" y="1341360"/>
            <a:ext cx="65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мират ли служителите годишната оценка за полез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06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4:28:20Z</dcterms:created>
  <dc:creator>BTodorieva</dc:creator>
  <dc:description/>
  <dc:language>en-US</dc:language>
  <cp:lastModifiedBy>Svetla Stoeva</cp:lastModifiedBy>
  <dcterms:modified xsi:type="dcterms:W3CDTF">2006-06-30T12:33:51Z</dcterms:modified>
  <cp:revision>124</cp:revision>
  <dc:subject/>
  <dc:title>GLOBUL  Стажантската програма – път за привличане на млади специалисти</dc:title>
</cp:coreProperties>
</file>