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1568-37A3-4134-B1CB-31AED4FB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DC1-D14F-4FDE-9A41-C5F819CA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F29-C53C-4AF8-9AB3-876AC199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459-92D2-4DBB-ADAB-583FC003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7589-3456-4A86-B6AF-A5AD0B94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877-DF20-4D3E-8BF1-BBC42343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A42-D240-4EB3-BFF6-6673A991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227-E96C-49FB-820D-CD622249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C8D-D469-4365-84DA-32F3E798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89E-2A3A-4C54-BA5E-6C8F1F86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C2B8-BC97-4C9F-BA41-8C1D17F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758-07F3-409B-A78A-55C8CA9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C6A9-E320-49E9-B1FE-4D7F75D68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bg-BG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333399"/>
                </a:solidFill>
                <a:latin typeface="Verdana"/>
              </a:rPr>
              <a:t>Форум «Кариери»2007г.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K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ментар на събитието, статисти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46479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99"/>
                </a:solidFill>
                <a:latin typeface="Verdana"/>
              </a:rPr>
              <a:t>Христо Стоянов, мениджър Човешки ресурси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bg-BG" sz="1600" spc="-1" strike="noStrike">
                <a:solidFill>
                  <a:srgbClr val="333399"/>
                </a:solidFill>
                <a:latin typeface="Verdana"/>
              </a:rPr>
              <a:t>“ТЕСИ”О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c0000"/>
                </a:solidFill>
                <a:latin typeface="Verdana"/>
              </a:rPr>
              <a:t>Светлозар Петров – управител </a:t>
            </a: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JobTiger</a:t>
            </a:r>
            <a:r>
              <a:rPr b="1" lang="bg-BG" sz="1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333399"/>
                </a:solidFill>
                <a:latin typeface="Verdana"/>
              </a:rPr>
              <a:t>Юни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9520" cy="86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400" spc="-1" strike="noStrike" u="sng">
                <a:solidFill>
                  <a:srgbClr val="333399"/>
                </a:solidFill>
                <a:uFillTx/>
                <a:latin typeface="Verdana"/>
              </a:rPr>
              <a:t>Работода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започва да се чувства лека досада във фирмите и участие на принципа „където другите, там и ние”. Това личи от подготовката на щандове и материали, както и от нивото на служителите, тяхната подготовка, участ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необходимост да се доуточнят права и задължения на участниците. Става въпрос за недопустимо големи табла, плакати и т.н., които закриват съседни щандове,  за мултимедии и реклами с неподходящо озвучав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обратна връзка участници / организатори – много колеги “мърморят” повече от допустимото, компрометират събитието и влияят на част от компаниите. По-доброто е да обсъдят нещата или да не участват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Събирането на големи бази данни вече е безполезно, а събранит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-та трябва да се използват ведна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Кариер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много ясно показва тенденциите за работодателите, вижда се какво ни очаква през годин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11430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УЧАСТНИЦ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315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Много от тях активно набират такава информация за стажантски програми през цялата година – Интерн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Нарастването с пъти на участниците в летни бригади в чужбина (20 000 тази годи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Нарастване на процента работещи през цялата год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Почти непрекъснатите представяния на фирми в самите университети през годината. Преди 2-3 години беше събитие някоя фирма да се появи самостоятел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Целогодишната работа на кариерните центрове – вече има достатъчна информация от и през тях, а не да чакаш форума, за да разбереш къде какво се случ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Явен проблем с мотивацията за рабо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Основен въпрос – Изчерпан ли е свободния ресурс от студент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Преминаваме ли в обикновено динамично състояние в този сегмен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Студен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72680" y="1314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УЧАСТНИЦ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00200" y="1447920"/>
            <a:ext cx="5562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Verdana"/>
              </a:rPr>
              <a:t>Изводи и препоръ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011320" cy="868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9072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ачален час – 10 ча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При възможност – провеждане на територията на университ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Голяма роля на кариерните центрове в подготовката и провеждането – максимално активизиране на съвместната раб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Необходима е работа върху мотивацията на студ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Липса на разбиране и съдействие от страна на част от университетските ръково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За пазара – търсене на нови източници на свободни кад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За фирмите – преосмисляне на разпределението на труда, търсене на по-голяма ефективност на работата и справяне с наличните кад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 u="sng">
                <a:solidFill>
                  <a:srgbClr val="000000"/>
                </a:solidFill>
                <a:uFillTx/>
                <a:latin typeface="Verdana"/>
              </a:rPr>
              <a:t>КАНДИДАТИ / в проценти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през сайт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b Tiger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j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g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    -  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фирмен сайт и медии Шумен      - 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от самия форум                         - 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1447920"/>
            <a:ext cx="46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Verdana"/>
              </a:rPr>
              <a:t> “</a:t>
            </a:r>
            <a:r>
              <a:rPr b="1" lang="bg-BG" sz="3200" spc="-1" strike="noStrike">
                <a:solidFill>
                  <a:srgbClr val="333399"/>
                </a:solidFill>
                <a:latin typeface="Verdana"/>
              </a:rPr>
              <a:t>ТЕСИ”- 2007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g-BG" sz="4000" spc="-1" strike="noStrike">
                <a:solidFill>
                  <a:srgbClr val="333399"/>
                </a:solidFill>
                <a:latin typeface="Verdana"/>
              </a:rPr>
              <a:t>Благодарим в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371600" cy="1236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7315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искобюджете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о високоефективен фору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Натоварена програма – 7 града в един мес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Сложна координация за наемане на залите за провежда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Сложна координация с времето на министър Василе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Verdana"/>
              </a:rPr>
              <a:t>Великденски празници и ваканцията на университе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Особености в организацията на Кариери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0113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047960" cy="1000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94920" y="2057400"/>
            <a:ext cx="72392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Соф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1 фирми, 5000 студента (91, 8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ного добра орган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адължително по-късно начало - 10,00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аканцията на УНСС и някои факултети от други ВУЗ чувствително намали участниц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По град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047960" cy="100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94920" y="2133720"/>
            <a:ext cx="71629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2. Пловди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1 фирми, 1000 посетители (30, 2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ного добра орган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ходящ начален час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веде се точно преди Великден и преди ваканция в университе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По град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629400" y="30492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371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2011320" cy="868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193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3. Вар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6 фирми, 3500 посетители (51, 4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ного добра орган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-късен час на откриване е за предпочита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рази се ваканцията на И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ного добро участие на служителите на кариерните центр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2880" y="144792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По град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94920" y="2209680"/>
            <a:ext cx="6782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011320" cy="868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4. Рус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 фирми, 1000 посетители (22, 15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бра организация, много успешно  форумът да е в района на университ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-късен час на откриване е за предпочита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й-важното събитие в дейността на кариерните центрове към момента е форум “Кариери”. Сравнително слабата активност в Русе се дължи и на отсъствието на кариерните консулта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319200" y="144792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По град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5. Велико Търно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 фирми, 1300 посетители (27, 15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бра организация, успешно форумът да е в района на университ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ходящ начален ча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риерните центрове – отлично за ВТУ, но реално се усети отсъствието на ТУ –Габр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471480" y="160020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По град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94920" y="2057040"/>
            <a:ext cx="7086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6. Стара Заг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 фирми, 150 посети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бра организация, независимо, че форумът беше извън университ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ходящ начален ча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ключително лоша работа и неразбиране от страна на кариерния центъ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еди празници (1 ма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й-слабо посетения форум за годи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011320" cy="8683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19200" y="144792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По град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71240" y="1676160"/>
            <a:ext cx="701028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7. Благоевгра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 фирми, 800 посетит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обра организация, успешно форумът да е в района на университ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дходящ начален ча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отлична работа на кариерния центъ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011320" cy="86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676520"/>
            <a:ext cx="249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Verdana"/>
              </a:rPr>
              <a:t>По град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5:26:41Z</dcterms:created>
  <dc:creator>Yordanka</dc:creator>
  <dc:description/>
  <dc:language>en-US</dc:language>
  <cp:lastModifiedBy>anamariaa</cp:lastModifiedBy>
  <dcterms:modified xsi:type="dcterms:W3CDTF">2007-06-27T12:58:37Z</dcterms:modified>
  <cp:revision>37</cp:revision>
  <dc:subject/>
  <dc:title>   Започни кариерата си с JobTiger и Happy</dc:title>
</cp:coreProperties>
</file>