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77724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170520"/>
            <a:ext cx="77724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17052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17052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156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156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17052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17052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17052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141560"/>
            <a:ext cx="77724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77724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37926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141560"/>
            <a:ext cx="37926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41560"/>
            <a:ext cx="37926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17052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1560"/>
            <a:ext cx="777240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37926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17052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170520"/>
            <a:ext cx="77724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77724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170520"/>
            <a:ext cx="77724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17052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17052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14156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14156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17052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17052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170520"/>
            <a:ext cx="250236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77724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37926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1560"/>
            <a:ext cx="37926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1560"/>
            <a:ext cx="37926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17052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37926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17052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1560"/>
            <a:ext cx="3792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170520"/>
            <a:ext cx="77724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1560"/>
            <a:ext cx="77724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171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49200" indent="-17136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212920" indent="-342720">
              <a:spcBef>
                <a:spcPts val="451"/>
              </a:spcBef>
              <a:buClr>
                <a:srgbClr val="ff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735280" indent="-343080"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735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735280" indent="-3430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1889280" y="55418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4840" y="6248520"/>
            <a:ext cx="28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99"/>
                </a:solidFill>
                <a:latin typeface="Verdana"/>
              </a:rPr>
              <a:t>Copyright © 2007 InBev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8400" y="6467400"/>
            <a:ext cx="274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99"/>
                </a:solidFill>
                <a:latin typeface="Verdana"/>
              </a:rPr>
              <a:t>Version 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300720" y="6453360"/>
            <a:ext cx="27496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99"/>
                </a:solidFill>
                <a:latin typeface="Verdana"/>
              </a:rPr>
              <a:t>Page</a:t>
            </a:r>
            <a:fld id="{AB54FCE7-251A-416B-A5A4-1CFBCC635310}" type="slidenum">
              <a:rPr b="0" lang="en-US" sz="1000" spc="-1" strike="noStrike">
                <a:solidFill>
                  <a:srgbClr val="9999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227160" y="62514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99999"/>
                </a:solidFill>
                <a:latin typeface="Verdana"/>
              </a:rPr>
              <a:t>Copyright © 2007 InBev –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8400" y="6467400"/>
            <a:ext cx="274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999999"/>
                </a:solidFill>
                <a:latin typeface="Verdana"/>
              </a:rPr>
              <a:t>Version 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4b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4b4b4b"/>
              </a:solidFill>
              <a:latin typeface="Verdana"/>
            </a:endParaRPr>
          </a:p>
          <a:p>
            <a:pPr lvl="2" marL="914400" indent="163440" algn="ctr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b4b4b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4b4b4b"/>
              </a:solidFill>
              <a:latin typeface="Verdana"/>
            </a:endParaRPr>
          </a:p>
          <a:p>
            <a:pPr lvl="3" marL="1371600" indent="498600" algn="ctr">
              <a:spcBef>
                <a:spcPts val="451"/>
              </a:spcBef>
              <a:buClr>
                <a:srgbClr val="ff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b4b4b"/>
              </a:solidFill>
              <a:latin typeface="Verdana"/>
            </a:endParaRPr>
          </a:p>
          <a:p>
            <a:pPr lvl="4" marL="1828800" indent="563400" algn="ctr"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b4b4b"/>
              </a:solidFill>
              <a:latin typeface="Verdana"/>
            </a:endParaRPr>
          </a:p>
          <a:p>
            <a:pPr lvl="5" marL="1828800" indent="563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b4b4b"/>
              </a:solidFill>
              <a:latin typeface="Verdana"/>
            </a:endParaRPr>
          </a:p>
          <a:p>
            <a:pPr lvl="6" marL="1828800" indent="5634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b4b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AP%20budget%20download%20.xls" TargetMode="External"/><Relationship Id="rId3" Type="http://schemas.openxmlformats.org/officeDocument/2006/relationships/hyperlink" Target="file:///SAP%20budget%20download%20.xls" TargetMode="External"/><Relationship Id="rId4" Type="http://schemas.openxmlformats.org/officeDocument/2006/relationships/hyperlink" Target="mailto:MANAGING@INBEV" TargetMode="External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Verdana"/>
              </a:rPr>
              <a:t>Бюджет на </a:t>
            </a:r>
            <a:br>
              <a:rPr sz="3200"/>
            </a:br>
            <a:r>
              <a:rPr b="1" lang="bg-BG" sz="3200" spc="-1" strike="noStrike">
                <a:solidFill>
                  <a:srgbClr val="ffffff"/>
                </a:solidFill>
                <a:latin typeface="Verdana"/>
              </a:rPr>
              <a:t>дейностите в</a:t>
            </a:r>
            <a:br>
              <a:rPr sz="3200"/>
            </a:br>
            <a:r>
              <a:rPr b="1" lang="bg-BG" sz="3200" spc="-1" strike="noStrike">
                <a:solidFill>
                  <a:srgbClr val="ffffff"/>
                </a:solidFill>
                <a:latin typeface="Verdana"/>
              </a:rPr>
              <a:t>Човешки ресурс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3539880"/>
            <a:ext cx="77738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юн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20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Търговищ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Калина Петков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ople Matters Director, Kamenitza 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Verdana"/>
              </a:rPr>
              <a:t>Въпрос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4680" y="1700280"/>
            <a:ext cx="777240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юджет за дейностите по подбор и обуч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си ли полза предварителния</a:t>
            </a: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бюджет и за кого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-гъвкав вариант за фирмата ли е липса на предварителен бюджет?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Бюджет за дейностите по подбор и обуче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1125360"/>
          <a:ext cx="8137440" cy="357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137440" cy="35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68360" y="519264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Verdana"/>
              </a:rPr>
              <a:t>Какви изводи можем да направим от тази 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Методолог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171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b4b4b"/>
                </a:solidFill>
                <a:latin typeface="Verdana"/>
              </a:rPr>
              <a:t>На база исторически данни</a:t>
            </a:r>
            <a:endParaRPr b="0" lang="en-US" sz="16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-171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b4b4b"/>
                </a:solidFill>
                <a:latin typeface="Verdana"/>
              </a:rPr>
              <a:t>На база доказана необходимост</a:t>
            </a:r>
            <a:endParaRPr b="0" lang="en-US" sz="16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4b4b"/>
              </a:solidFill>
              <a:latin typeface="Verdana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Детай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171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b4b4b"/>
                </a:solidFill>
                <a:latin typeface="Verdana"/>
              </a:rPr>
              <a:t>Вж. следващия слайд</a:t>
            </a:r>
            <a:endParaRPr b="0" lang="en-US" sz="16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b4b4b"/>
              </a:solidFill>
              <a:latin typeface="Verdana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Комуник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171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b4b4b"/>
                </a:solidFill>
                <a:latin typeface="Verdana"/>
              </a:rPr>
              <a:t>Календар на обученията – за мениджърите и служителите</a:t>
            </a:r>
            <a:endParaRPr b="0" lang="en-US" sz="16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-171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b4b4b"/>
                </a:solidFill>
                <a:latin typeface="Verdana"/>
              </a:rPr>
              <a:t>Брошура</a:t>
            </a:r>
            <a:r>
              <a:rPr b="0" lang="en-US" sz="1600" spc="-1" strike="noStrike">
                <a:solidFill>
                  <a:srgbClr val="4b4b4b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4b4b4b"/>
                </a:solidFill>
                <a:latin typeface="Verdana"/>
              </a:rPr>
              <a:t>на обученията – за служителите</a:t>
            </a:r>
            <a:endParaRPr b="0" lang="en-US" sz="16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-17136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4b4b4b"/>
                </a:solidFill>
                <a:latin typeface="Verdana"/>
              </a:rPr>
              <a:t>Индивидуален план на развитие</a:t>
            </a:r>
            <a:endParaRPr b="0" lang="en-US" sz="1600" spc="-1" strike="noStrike">
              <a:solidFill>
                <a:srgbClr val="4b4b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Бюджет за дейностите по подбор и обуче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Бюджет за дейностите по подбор и обучени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141560"/>
            <a:ext cx="380988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Verdana"/>
              </a:rPr>
              <a:t>Детай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171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 u="sng">
                <a:solidFill>
                  <a:srgbClr val="b9b9b9"/>
                </a:solidFill>
                <a:uFillTx/>
                <a:latin typeface="Verdana"/>
                <a:hlinkClick r:id="rId2"/>
              </a:rPr>
              <a:t>Подбор</a:t>
            </a:r>
            <a:endParaRPr b="0" lang="en-US" sz="14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b4b4b"/>
              </a:solidFill>
              <a:latin typeface="Verdana"/>
            </a:endParaRPr>
          </a:p>
          <a:p>
            <a:pPr lvl="1" marL="716040" indent="-17136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 u="sng">
                <a:solidFill>
                  <a:srgbClr val="b9b9b9"/>
                </a:solidFill>
                <a:uFillTx/>
                <a:latin typeface="Verdana"/>
                <a:hlinkClick r:id="rId3"/>
              </a:rPr>
              <a:t>Обучение</a:t>
            </a:r>
            <a:endParaRPr b="0" lang="en-US" sz="1400" spc="-1" strike="noStrike">
              <a:solidFill>
                <a:srgbClr val="4b4b4b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71640" y="3859200"/>
          <a:ext cx="7200720" cy="2433600"/>
        </p:xfrm>
        <a:graphic>
          <a:graphicData uri="http://schemas.openxmlformats.org/drawingml/2006/table">
            <a:tbl>
              <a:tblPr/>
              <a:tblGrid>
                <a:gridCol w="858600"/>
                <a:gridCol w="901800"/>
                <a:gridCol w="824040"/>
                <a:gridCol w="988920"/>
                <a:gridCol w="878040"/>
                <a:gridCol w="790560"/>
                <a:gridCol w="1100160"/>
                <a:gridCol w="8586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raining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umber of Employe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raining Compon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raining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est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licy 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ransportation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6699"/>
                      </a:solidFill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m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LEADING@INBE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Facilit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Func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Kie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conom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 u="sng">
                          <a:solidFill>
                            <a:srgbClr val="b9b9b9"/>
                          </a:solidFill>
                          <a:uFillTx/>
                          <a:latin typeface="Arial Unicode MS"/>
                          <a:ea typeface="Arial Unicode MS"/>
                          <a:hlinkClick r:id="rId4"/>
                        </a:rPr>
                        <a:t>MANAGING@INBE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Fac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ross Func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rag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r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ate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Func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Zagr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O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e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Leadership Develo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lovd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900000" y="1773360"/>
          <a:ext cx="7272000" cy="1584360"/>
        </p:xfrm>
        <a:graphic>
          <a:graphicData uri="http://schemas.openxmlformats.org/drawingml/2006/table">
            <a:tbl>
              <a:tblPr/>
              <a:tblGrid>
                <a:gridCol w="1036080"/>
                <a:gridCol w="955440"/>
                <a:gridCol w="809640"/>
                <a:gridCol w="1669320"/>
                <a:gridCol w="642960"/>
                <a:gridCol w="1191600"/>
                <a:gridCol w="966960"/>
              </a:tblGrid>
              <a:tr h="51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nt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sition to f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earch Meth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a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m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60ed84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ana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xternal Agency Se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structu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eci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External Managed Advertis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VI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urn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solidFill>
                      <a:srgbClr val="e0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оси ли полза предварителния</a:t>
            </a:r>
            <a:r>
              <a:rPr b="1" lang="bg-BG" sz="24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бюджет и за кого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4600"/>
            <a:ext cx="777240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Компания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Човешки ресурс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Verdana"/>
              </a:rPr>
              <a:t>Служите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1:14:04Z</dcterms:created>
  <dc:creator>Accenture</dc:creator>
  <dc:description/>
  <dc:language>en-US</dc:language>
  <cp:lastModifiedBy>kalina.petkova</cp:lastModifiedBy>
  <dcterms:modified xsi:type="dcterms:W3CDTF">2007-07-03T16:22:34Z</dcterms:modified>
  <cp:revision>3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