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DED-BD59-4311-92EC-0600D854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34E-D4B6-4B07-A742-904D1606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45A-D4E7-466F-94E1-4216970E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326-F589-4C3F-8F92-4E7027B1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E7BF-1C6D-4E2A-8862-9E5720A7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57B6-6530-4D1C-BBDF-695DBA6F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582E-9C27-47E6-80F3-0BFAEBCF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370F-01E3-4D88-9DD1-43C6E1BB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6491-A149-4546-BAC0-F2C3ECF1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4642-A8D6-4A04-A309-9C67E384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5A01-6343-4275-B995-AE169A85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0DB-3FE9-41FA-8B8C-65BFB80F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8167-ACDD-4FA5-9836-957A371F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45BF-6A44-4D65-B0D4-FAB062D1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6FC5-9384-4C6C-A2F3-F81646F2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8E1E-875A-40F3-AC3C-334A02BD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6D73-3BAE-460F-8336-C5D4D93A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231-4143-41A5-9B77-7A234401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C9A-300A-406A-9407-EBD6C9AD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8B0-00A1-4FA4-B31A-8A2079BB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EB0-9233-4753-AB2A-A0101573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2CF-64D4-4B31-B88B-063D8BE9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47C-AF6E-4E30-A54E-C9A3109B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E35-73C3-4B94-9ECC-6FB21DA8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713E-83C1-4DB4-A2DE-0E328B01B37B}" type="slidenum">
              <a:rPr b="0" lang="bg-BG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DFD9-5555-4390-95DF-CE07697672BD}" type="slidenum">
              <a:rPr b="0" lang="bg-BG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0000"/>
                </a:solidFill>
                <a:latin typeface="Comic Sans MS"/>
              </a:rPr>
              <a:t>Бюджетиране на дейностите по управление на човешките ресурси</a:t>
            </a: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7280" y="42922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omic Sans MS"/>
              </a:rPr>
              <a:t>Ст.Гане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393372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703dff"/>
                </a:solidFill>
                <a:latin typeface="Comic Sans MS"/>
              </a:rPr>
              <a:t>Знам, че Вашите въпроси са повече от отговорите ми.</a:t>
            </a:r>
            <a:br>
              <a:rPr sz="4000"/>
            </a:br>
            <a:br>
              <a:rPr sz="4000"/>
            </a:br>
            <a:r>
              <a:rPr b="0" lang="bg-BG" sz="4000" spc="-1" strike="noStrike">
                <a:solidFill>
                  <a:srgbClr val="703dff"/>
                </a:solidFill>
                <a:latin typeface="Comic Sans MS"/>
              </a:rPr>
              <a:t>Отговорете си сами!</a:t>
            </a: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547280" y="5373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omic Sans MS"/>
              </a:rPr>
              <a:t>Ст.Гане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3534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03dff"/>
                </a:solidFill>
                <a:latin typeface="Comic Sans MS"/>
              </a:rPr>
              <a:t>Тест за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R</a:t>
            </a:r>
            <a:r>
              <a:rPr b="0" lang="bg-BG" sz="3200" spc="-1" strike="noStrike">
                <a:solidFill>
                  <a:srgbClr val="703dff"/>
                </a:solidFill>
                <a:latin typeface="Comic Sans MS"/>
              </a:rPr>
              <a:t> мени и мен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Определете възвращаемостта на инвестицията, ако разходите по нея са 200хил.лв, приходите са 220хил.лв, а срокът й за възвращаемост е 10 месец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03dff"/>
                </a:solidFill>
                <a:latin typeface="Comic Sans MS"/>
              </a:rPr>
              <a:t>Възможни отговори:</a:t>
            </a:r>
            <a:r>
              <a:rPr b="0" lang="bg-BG" sz="2000" spc="-1" strike="noStrike">
                <a:solidFill>
                  <a:srgbClr val="ffb800"/>
                </a:solidFill>
                <a:latin typeface="Comic Sans MS"/>
              </a:rPr>
              <a:t> А - 20%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;</a:t>
            </a: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bg-BG" sz="2000" spc="-1" strike="noStrike">
                <a:solidFill>
                  <a:srgbClr val="00b200"/>
                </a:solidFill>
                <a:latin typeface="Comic Sans MS"/>
              </a:rPr>
              <a:t>Б - 22%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; </a:t>
            </a:r>
            <a:r>
              <a:rPr b="0" lang="bg-BG" sz="2000" spc="-1" strike="noStrike">
                <a:solidFill>
                  <a:srgbClr val="ff0000"/>
                </a:solidFill>
                <a:latin typeface="Comic Sans MS"/>
              </a:rPr>
              <a:t>В - 10%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Определете коефициентът за използване на оборудването, ако календарният ФРВ 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0ч., плановият ФРВ е 150ч. и фактическият ФРВ е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0ч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03dff"/>
                </a:solidFill>
                <a:latin typeface="Comic Sans MS"/>
              </a:rPr>
              <a:t>Възможни отговори:</a:t>
            </a:r>
            <a:r>
              <a:rPr b="0" lang="bg-BG" sz="2000" spc="-1" strike="noStrike">
                <a:solidFill>
                  <a:srgbClr val="ffb800"/>
                </a:solidFill>
                <a:latin typeface="Comic Sans MS"/>
              </a:rPr>
              <a:t> А - </a:t>
            </a:r>
            <a:r>
              <a:rPr b="0" lang="en-US" sz="2000" spc="-1" strike="noStrike">
                <a:solidFill>
                  <a:srgbClr val="ffb800"/>
                </a:solidFill>
                <a:latin typeface="Comic Sans MS"/>
              </a:rPr>
              <a:t>33</a:t>
            </a:r>
            <a:r>
              <a:rPr b="0" lang="bg-BG" sz="2000" spc="-1" strike="noStrike">
                <a:solidFill>
                  <a:srgbClr val="ffb800"/>
                </a:solidFill>
                <a:latin typeface="Comic Sans MS"/>
              </a:rPr>
              <a:t>%;</a:t>
            </a:r>
            <a:r>
              <a:rPr b="0" lang="bg-BG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bg-BG" sz="2000" spc="-1" strike="noStrike">
                <a:solidFill>
                  <a:srgbClr val="00b200"/>
                </a:solidFill>
                <a:latin typeface="Comic Sans MS"/>
              </a:rPr>
              <a:t>Б -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30</a:t>
            </a:r>
            <a:r>
              <a:rPr b="0" lang="bg-BG" sz="2000" spc="-1" strike="noStrike">
                <a:solidFill>
                  <a:srgbClr val="00b200"/>
                </a:solidFill>
                <a:latin typeface="Comic Sans MS"/>
              </a:rPr>
              <a:t>%; </a:t>
            </a:r>
            <a:r>
              <a:rPr b="0" lang="bg-BG" sz="2000" spc="-1" strike="noStrike">
                <a:solidFill>
                  <a:srgbClr val="ff0000"/>
                </a:solidFill>
                <a:latin typeface="Comic Sans MS"/>
              </a:rPr>
              <a:t>В -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bg-BG" sz="2000" spc="-1" strike="noStrike">
                <a:solidFill>
                  <a:srgbClr val="ff0000"/>
                </a:solidFill>
                <a:latin typeface="Comic Sans MS"/>
              </a:rPr>
              <a:t>0%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Определете производителността на труда, ако за периода са произведени 5хил. Изделия, търговският оборот е 40хил.лв., а средносписъчния състав е 20 служител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03dff"/>
                </a:solidFill>
                <a:latin typeface="Comic Sans MS"/>
              </a:rPr>
              <a:t>Възможни отговори:</a:t>
            </a:r>
            <a:r>
              <a:rPr b="0" lang="bg-BG" sz="2000" spc="-1" strike="noStrike">
                <a:solidFill>
                  <a:srgbClr val="ffb800"/>
                </a:solidFill>
                <a:latin typeface="Comic Sans MS"/>
              </a:rPr>
              <a:t> А - 8000;</a:t>
            </a:r>
            <a:r>
              <a:rPr b="0" lang="bg-BG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bg-BG" sz="2000" spc="-1" strike="noStrike">
                <a:solidFill>
                  <a:srgbClr val="00b200"/>
                </a:solidFill>
                <a:latin typeface="Comic Sans MS"/>
              </a:rPr>
              <a:t>Б - 2000; </a:t>
            </a:r>
            <a:r>
              <a:rPr b="0" lang="bg-BG" sz="2000" spc="-1" strike="noStrike">
                <a:solidFill>
                  <a:srgbClr val="ff0000"/>
                </a:solidFill>
                <a:latin typeface="Comic Sans MS"/>
              </a:rPr>
              <a:t>В - 250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03dff"/>
                </a:solidFill>
                <a:latin typeface="Comic Sans MS"/>
              </a:rPr>
              <a:t>Общи приказ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3771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703dff"/>
                </a:solidFill>
                <a:latin typeface="Comic Sans MS"/>
              </a:rPr>
              <a:t>Бюджетен цикъ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Прогнозиран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Планиран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0000"/>
                </a:solidFill>
                <a:latin typeface="Comic Sans MS"/>
              </a:rPr>
              <a:t>Верификац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0000"/>
                </a:solidFill>
                <a:latin typeface="Comic Sans MS"/>
              </a:rPr>
              <a:t>Коригиран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0000"/>
                </a:solidFill>
                <a:latin typeface="Comic Sans MS"/>
              </a:rPr>
              <a:t>Ре-верификац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Изпълнение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Контро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Отчет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3280" y="1483920"/>
            <a:ext cx="3772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03dff"/>
                </a:solidFill>
                <a:latin typeface="Comic Sans MS"/>
              </a:rPr>
              <a:t>Видове бюдже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Постоянен/плаващ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Функционален/дивизионален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Твърд/лимитиращ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4770360"/>
            <a:ext cx="5211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03dff"/>
                </a:solidFill>
                <a:latin typeface="Comic Sans MS"/>
              </a:rPr>
              <a:t>Що е т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b200"/>
                </a:solidFill>
                <a:latin typeface="Comic Sans MS"/>
              </a:rPr>
              <a:t>Бюджетът е картина  изобразяваща различни, извършвани последователно операции за определен период от вр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03dff"/>
                </a:solidFill>
                <a:latin typeface="Comic Sans MS"/>
              </a:rPr>
              <a:t>Служителите –</a:t>
            </a:r>
            <a:br>
              <a:rPr sz="3200"/>
            </a:br>
            <a:r>
              <a:rPr b="0" lang="bg-BG" sz="3200" spc="-1" strike="noStrike">
                <a:solidFill>
                  <a:srgbClr val="703dff"/>
                </a:solidFill>
                <a:latin typeface="Comic Sans MS"/>
              </a:rPr>
              <a:t>ресурс, актив или капитал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413000"/>
          <a:ext cx="7696080" cy="438084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Ресурс 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потенци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Акти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стой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апитал - рентабил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Единствен, чийто потенциал се измерва и с други освен с физически величи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Единствен, чиято стойност не може да се измери само с па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Единствен, носещ добавена стойност в организация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Единствен, с ноеграничен потенц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Единствен, който се амортизира без прави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Единствен, притежаващ освен икономически, но и духовен асп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Единствен, чийто потенциал се влага само при негово съглас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Единствен, чиято балансова стойност е скрита в Б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03dff"/>
                </a:solidFill>
                <a:latin typeface="Comic Sans MS"/>
              </a:rPr>
              <a:t>Трите митологе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1268280"/>
          <a:ext cx="7696080" cy="42181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Митологема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йността по УЧР генерира само разходи и плащ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ходите и постъпленията се регистрират в другите дейност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Митологема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юджетът трябва да е поне за тригодишен пери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Р е най-динамичната част от бизнес дейността. Добре е бюджетът да е плаващ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Митологема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инансовата (бюджетната) информация е най-точ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ради спецификата на дейнсотта, финансовата съпоставимост е едва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%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03dff"/>
                </a:solidFill>
                <a:latin typeface="Comic Sans MS"/>
              </a:rPr>
              <a:t>Ето ги приходит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Отсъствие от работното място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Брой качествени кандидати за работно място </a:t>
            </a: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Задържане на служителите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Време, нужно за ориентиране и въвеждане на новите служители</a:t>
            </a: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Разходи за съдебни процес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Разходи за текучеството</a:t>
            </a: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Разходи за обезщетения и изгубено време поради злополук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Възприемане на основните ценности на фирмата</a:t>
            </a: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Разход за подбор на един служите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Организационен климат</a:t>
            </a: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Разход за 1 час обучение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Възможности за развитие и повишение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Удовлетвореност на персонала</a:t>
            </a: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Яснота за личните цели на служителите и за това как фирмата им помага да ги изпълнят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Развиване на лидери, план за приемственост </a:t>
            </a: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Иновативност на служителите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Успех на кандидати, назначени след външен подбор</a:t>
            </a: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Отношение между заплащането във фирмата и това при конкуренцията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Процент служители, на които заплащането зависи пряко от представянето им</a:t>
            </a: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Times New Roman"/>
              </a:rPr>
              <a:t>Брой на служителите с планове за кариерно развитие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68709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03dff"/>
                </a:solidFill>
                <a:latin typeface="Comic Sans MS"/>
              </a:rPr>
              <a:t>Другият поглед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1197000"/>
          <a:ext cx="7696080" cy="4937040"/>
        </p:xfrm>
        <a:graphic>
          <a:graphicData uri="http://schemas.openxmlformats.org/drawingml/2006/table">
            <a:tbl>
              <a:tblPr/>
              <a:tblGrid>
                <a:gridCol w="5541840"/>
                <a:gridCol w="1152720"/>
                <a:gridCol w="100152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следните 10% (най-неуспеш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ървите 10% (най-успеш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ени кандидати за пози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назначения, базирани на валидизиран тест за подб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вътрешни на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е обучение за нови служители през първата една го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е обучение за служители с оп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на служители, получаващи формална оценка за представянето 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на служители, получаващи оценка за представянето си от различни източници (например Оценка 360 градус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служители, чиито премии и поощрения са свързани с представяне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а разлика в премиите между служител с отлично представяне и служител със средно или ниско представя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й служители на HR професионалист (служител от HR екип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68709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03dff"/>
                </a:solidFill>
                <a:latin typeface="Comic Sans MS"/>
              </a:rPr>
              <a:t>Другият поглед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197000"/>
          <a:ext cx="7696080" cy="4699080"/>
        </p:xfrm>
        <a:graphic>
          <a:graphicData uri="http://schemas.openxmlformats.org/drawingml/2006/table">
            <a:tbl>
              <a:tblPr/>
              <a:tblGrid>
                <a:gridCol w="5541840"/>
                <a:gridCol w="1152720"/>
                <a:gridCol w="100152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следните 10% (най-неуспеш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ървите 10% (най-успеш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 резултати (В скала от 1 до 6, където 1 е най-ниската, а 6 – най-високата стойност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каква степен средния служител разбира как неговата/нейната работа допринася за успеха на фирма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каква степен мениджмънта на фирмата гледа на служителите като инвестиция (а не като на разход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каква степен HR професионалистите се възприемат като бизнес партнь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каква степен фирмата измерва и огласява финансовите си резулта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каква степен фирмата измерва и огласява реакцията на клиентите с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каква степен фирмата измерва и огласява ключови бизнес процес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каква степен фирмата измерва и огласява целите си за обучение и разви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51920"/>
            <a:ext cx="83534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703dff"/>
                </a:solidFill>
                <a:latin typeface="Comic Sans MS"/>
              </a:rPr>
              <a:t>Тест за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R</a:t>
            </a:r>
            <a:r>
              <a:rPr b="0" lang="bg-BG" sz="3200" spc="-1" strike="noStrike">
                <a:solidFill>
                  <a:srgbClr val="703dff"/>
                </a:solidFill>
                <a:latin typeface="Comic Sans MS"/>
              </a:rPr>
              <a:t> мени и мен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Определете възвращаемостта на инвестицията, ако разходите по нея са 200хил.лв, приходите са 220хил.лв, а срокът й за възвращаемост е 10 месец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03dff"/>
                </a:solidFill>
                <a:latin typeface="Comic Sans MS"/>
              </a:rPr>
              <a:t>Верен отговор:</a:t>
            </a:r>
            <a:r>
              <a:rPr b="0" lang="bg-BG" sz="20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bg-BG" sz="2000" spc="-1" strike="noStrike">
                <a:solidFill>
                  <a:srgbClr val="ff0000"/>
                </a:solidFill>
                <a:latin typeface="Comic Sans MS"/>
              </a:rPr>
              <a:t>В - 10%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Определете коефициентът за използване на оборудването, ако календарният ФРВ 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0ч., плановият ФРВ е 150ч. и фактическият ФРВ е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0ч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03dff"/>
                </a:solidFill>
                <a:latin typeface="Comic Sans MS"/>
              </a:rPr>
              <a:t>Верен отговор:</a:t>
            </a:r>
            <a:r>
              <a:rPr b="0" lang="bg-BG" sz="20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bg-BG" sz="2000" spc="-1" strike="noStrike">
                <a:solidFill>
                  <a:srgbClr val="ff0000"/>
                </a:solidFill>
                <a:latin typeface="Comic Sans MS"/>
              </a:rPr>
              <a:t>В -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bg-BG" sz="2000" spc="-1" strike="noStrike">
                <a:solidFill>
                  <a:srgbClr val="ff0000"/>
                </a:solidFill>
                <a:latin typeface="Comic Sans MS"/>
              </a:rPr>
              <a:t>0%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Определете производителността на труда, ако за периода са произведени 5хил. Изделия, търговският оборот е 40хил.лв., а средносписъчния състав е 20 служител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703dff"/>
                </a:solidFill>
                <a:latin typeface="Comic Sans MS"/>
              </a:rPr>
              <a:t>Верен отговор:</a:t>
            </a:r>
            <a:r>
              <a:rPr b="0" lang="bg-BG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bg-BG" sz="2000" spc="-1" strike="noStrike">
                <a:solidFill>
                  <a:srgbClr val="ff0000"/>
                </a:solidFill>
                <a:latin typeface="Comic Sans MS"/>
              </a:rPr>
              <a:t>В - 250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8T12:50:00Z</dcterms:created>
  <dc:creator>Stojan Ganev</dc:creator>
  <dc:description/>
  <dc:language>en-US</dc:language>
  <cp:lastModifiedBy>Stojan Ganev</cp:lastModifiedBy>
  <dcterms:modified xsi:type="dcterms:W3CDTF">2007-06-28T07:31:58Z</dcterms:modified>
  <cp:revision>13</cp:revision>
  <dc:subject/>
  <dc:title>Бюджетиране на дейностите по управление на човешките ресурс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50579232</vt:r8>
  </property>
  <property fmtid="{D5CDD505-2E9C-101B-9397-08002B2CF9AE}" pid="3" name="_AuthorEmail">
    <vt:lpwstr>s.ganev@herti-m.com</vt:lpwstr>
  </property>
  <property fmtid="{D5CDD505-2E9C-101B-9397-08002B2CF9AE}" pid="4" name="_AuthorEmailDisplayName">
    <vt:lpwstr>Stoyan Ganev</vt:lpwstr>
  </property>
  <property fmtid="{D5CDD505-2E9C-101B-9397-08002B2CF9AE}" pid="5" name="_EmailSubject">
    <vt:lpwstr>My presentation</vt:lpwstr>
  </property>
</Properties>
</file>