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F50-CF0E-4E3C-9D55-632EFE1D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70F-237C-429D-AF85-73D38A48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A9D-E54C-4346-8998-DC3C866A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00F-7EB6-4D2E-A5F2-82FD5B90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49B5-C830-45CE-98B3-345EDB40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4E62-CCD3-4ED3-BC15-5C580667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461B-D32D-47A9-B953-C9080480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545F-E7C1-4474-AB3C-3FF9571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D75D-8F8A-4135-A9BF-5CC51F9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DA3-67DF-45E5-A538-70F3A9B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3D5-A42A-4163-8A33-BDED963A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728-FA96-4B74-B05D-5DE59BBC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9F8-A734-4315-A4B6-4450328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71ED-039D-4507-B1F8-C9085791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F39-3117-4E85-BE7C-8157FE7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D910-3C29-49DA-9A33-81E90BB6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1652-CA20-4A9B-A535-F5BB336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FA7-40AA-4E05-A44C-FB877C2A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C94-36F8-4076-97D7-5347ABC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220-CAD2-475D-881A-EA11C840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425-6087-4F3A-BB13-40B84A48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E3E-EB5C-44A6-B2A2-0DDD69CA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2A4-CEA4-4086-B87A-7DFA2F5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8FD-8609-43E7-AAC9-514C8C83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4E87-C3DB-4C87-A723-DD1F1631A36B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FC1-588E-4366-B707-A4A02CBAE483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Връзката между образованието и бизнес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28440" y="3352680"/>
            <a:ext cx="67057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необходимо зло или осъзнато партньорст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Гергана Раков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Партньорство между бизнеса и университетите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устранен процес, който изисква усилия и резултатите рядко са положителни и за двете странит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ябва да бъдат регламентирани прозрачни прави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ърси се обществена полза независимо, че компаниите първо искат да решат собствените си пробле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бличните институции трудно осъзнават сериозността на проблеми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удно е да се намери начин за осъществяване на партньорството на макро ни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Възможни решения без партньорство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знесът да отвори свои образователни институ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 се обучават допълнително кадрите, които подготвят университетит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 се привличат кадри отвън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много други 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Защо мислим, че сме поставили основи за партньорст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162920" cy="42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4 кариерни центрове, но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00 кариерни специалисти в средното образование и планове за усилена работа през 2007, но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Магистърска програма по кариерно консултиране в България, но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C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ия, но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71236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Притесн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62920" cy="46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стина ли нещата са толкова сериозн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й трябва да вземе мер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ята на Министерство на образованието и университе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гат ли те да се справят с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кро или микро подход от страна на бизнес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78832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Някои иде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Да се започне с малки стъпки за да се изгражда партньор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розрачно корпоративно финансиране на конкретни образователни инициативи, но кои ще ги предлага – университетите на бизнеса или обратн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Какво би накарало бизнеса да се включи – увереност за решаването на проблемите, публично признание, възможности за социале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,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дру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Може ли да бъдат обединени микро усилията на компаниите под общ знаменате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ding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ърсим съмишлениц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Не става дума за еднократни ус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роцесът е дълъ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очти сигурно неблагодар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Най-вероятно в началото ще има отп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ои са най-подходящите хор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,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управляващите, друг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019920" cy="472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За какво ще говорим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34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Връзката между бизнеса и университетите няма да реши проблемите, нужно е дългосрочно партньорство, от което страните да не търсят бързи изго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що университетите работят успешно по св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ве за българското висше образ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блемите на университет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жем ли да променим статуквото и к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Актуалност на тема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ова конкурентна среда за България с европейските работодатели и университет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растваща вътрешната конкуренция на пазарите на висше образование и на труд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ериозни демографски пробле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обализацията влияе негативно върху българското висше образование и пазара на труд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бразованието и здравеопазването в България сериозно изостават по отношение на реформит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емата е благодатна за натрупването на политически дивиденти, но реални действия не са предприет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86464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996633"/>
                </a:solidFill>
                <a:latin typeface="Times New Roman"/>
              </a:rPr>
              <a:t>Висшето образование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bg-BG" sz="4400" spc="-1" strike="noStrike">
                <a:solidFill>
                  <a:srgbClr val="996633"/>
                </a:solidFill>
                <a:latin typeface="Times New Roman"/>
              </a:rPr>
              <a:t>и бизнеса по света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Университетите произвеждат “мозъците”, които задвижват икономиката на знанието, те осигуряват и  гръбнака й – от лаборатории до библиотеки, инкубатор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жду 1985 и 1997 г. приноса на високотехнологичните браншове към общия размер на реализираната добавена стойност се е увеличил от 51% на 59% в Германия и от 45% на 51% във Великобритания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(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изчисления на ОИС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-добрите компании понастоящем заделят поне 1/3 от средствата си за инвестиции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въ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исокотехнологични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роекти, които обикновено се извършва от университети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7883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Бизнеса на университетите в развитите стран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нтът на хората с висше образование в страните членки на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ИСР почти се е удвоил между 1975 и 2000 г. – от 22% на 41%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рез последните 20 години броят на хората от страните от ОИСР, учащи в чужбина се е удвоил и е скочил на 1,9 мл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Университетите разкриват свои филиали из целия свят- висшето образование се е превърнало в износна индустр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изчисления на Световната банка в глобален мащаб за висше образование се харчат $ 300 милиарда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публични сред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а година или 1% от глобалния икономически продукт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Митове, свързани с 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висшето образование у нас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296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оляма част от българските младежи кандидатстват в  университет, защото е престижно да са студен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а, има и такива мотиви, но доколко имат място днес? Те намаляват своето влияние и значение, а тенденциите са положителн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оляма част от българските студенти учат за дипломи, а качеството на подготовката им не ги интересу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контекста на членството ни в ЕС този фактор се промен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ългарските университети не трябва да се тревожат за бъдещето си, защото те и без друго са привлекателни, ако се съди по броя на кандидатстващ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ит, защото това са «кухи»брой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Митове, свързани с 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висшето образование у нас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лизането на България в ЕС не застрашава привлекателността на българските университети (в старите страни-членки е скъпо, следването е трудно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а, но с членството ни в ЕС студентските такси за българите в Европа се редуцират, подобряват се и  икономическите възможности в България и придобиването на образование в ЕС става по икономически изгод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оординацията между средното професионално образование, висшето образование и нуждите на пазара на труда е прерогатив а държава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ит, защото от една страна всички сме данъкоплатци, а от друга държавата вече не е толкова голям работодате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Проблемите на българските университет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литиката на висшето образование се изработва от Министерство на образованието, а не от самите университе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Финансирането не следва студен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старялата материално техническа база и липсата на визия и възможности за промя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ханизма за определяне на приема по държавна поръчка и кандидатстването са не релевантни на съвременните тенден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подавателите и учебните програми имат нужда от осъвременява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астно финансиране на университет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блемите на средното образование пряко рефлектират върху висшето образова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Някои вероятни тенденции 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на пазара на труда у нас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зарът на труда ще се нуждае от повече специалисти с висше образование, но на практика кандидатите ще бъдат по-малк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ъщевременно търсенето на “таланти” от страна на корпорациите се увеличава в световен мащаб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дига се стойността на българските студенти и висши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лобализацията ще продължи да въздейства негативно върху привличането на кандидат-студенти и задържането на преподаватели от българските университе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48440" y="6229440"/>
            <a:ext cx="20955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1:25:49Z</dcterms:created>
  <dc:creator>Monika Krumonva</dc:creator>
  <dc:description/>
  <dc:language>en-US</dc:language>
  <cp:lastModifiedBy>Monika Krumonva</cp:lastModifiedBy>
  <dcterms:modified xsi:type="dcterms:W3CDTF">2007-01-17T11:31:15Z</dcterms:modified>
  <cp:revision>13</cp:revision>
  <dc:subject/>
  <dc:title>Връзката между образованието и бизнеса</dc:title>
</cp:coreProperties>
</file>