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780-D44F-47DB-A8FC-95CFBAB4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03092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E09-1AD2-441F-9C32-8718AFE7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5956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62F-582C-420C-904D-A1E49BFF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24400" y="15235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20560" y="15235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0309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24400" y="40309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20560" y="40309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D0E-A48D-44CA-AC5E-7C4EFD88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8DD-582C-4742-AA5C-A3CA127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5956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403092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403092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5956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24400" y="15235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20560" y="15235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40309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624400" y="40309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20560" y="403092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B9F-4017-4C73-9FB3-42FE2C0F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BDC-38BB-44B3-8031-CCF9C3B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052-B43E-4146-9033-C58008C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DD7-24BD-4E8D-9C9F-8A6855A9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950-5119-49FE-BBBA-3832465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9560" y="40309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AE9-E206-453A-A417-1ECC789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59560" y="152352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03092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942-0273-48C8-9674-304A65D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9AE9-6882-453D-97EE-D82CB7282E18}" type="datetime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15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FF6-A409-4BAC-8315-3DDA9D452377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4496040" cy="25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uropa.eu/eures/" TargetMode="External"/><Relationship Id="rId3" Type="http://schemas.openxmlformats.org/officeDocument/2006/relationships/hyperlink" Target="http://europass.cedefop.europa.e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hyperlink" Target="http://ec.europa.eu/eures/main.jsp?acro=job&amp;lang=en&amp;catId=52&amp;parentId=0" TargetMode="External"/><Relationship Id="rId5" Type="http://schemas.openxmlformats.org/officeDocument/2006/relationships/hyperlink" Target="http://ec.europa.eu/eures/main.jsp?acro=job&amp;lang=en&amp;catId=52&amp;parentId=0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ec.europa.eu/eures/main.jsp?acro=emp&amp;lang=en&amp;catId=7555&amp;parentId=0" TargetMode="External"/><Relationship Id="rId8" Type="http://schemas.openxmlformats.org/officeDocument/2006/relationships/hyperlink" Target="http://ec.europa.eu/eures/main.jsp?acro=emp&amp;lang=en&amp;catId=7555&amp;parentId=0" TargetMode="External"/><Relationship Id="rId9" Type="http://schemas.openxmlformats.org/officeDocument/2006/relationships/image" Target="../media/image7.png"/><Relationship Id="rId10" Type="http://schemas.openxmlformats.org/officeDocument/2006/relationships/hyperlink" Target="http://ec.europa.eu/eures/main.jsp?lang=en&amp;acro=learning&amp;catId=55&amp;parentId=0" TargetMode="External"/><Relationship Id="rId11" Type="http://schemas.openxmlformats.org/officeDocument/2006/relationships/hyperlink" Target="http://ec.europa.eu/eures/main.jsp?lang=en&amp;acro=learning&amp;catId=55&amp;parentId=0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VTemplate_bg_BG.doc" TargetMode="External"/><Relationship Id="rId3" Type="http://schemas.openxmlformats.org/officeDocument/2006/relationships/hyperlink" Target="file:///ELPTemplate_bg_BG.doc" TargetMode="External"/><Relationship Id="rId4" Type="http://schemas.openxmlformats.org/officeDocument/2006/relationships/hyperlink" Target="file:///ELPTemplate_bg_BG.doc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4572000" cy="25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Verdana"/>
              </a:rPr>
              <a:t>ЕВРОПЕЙСКИ ИЗМЕРЕНИЯ В ЧОВЕШКИТЕ РЕСУРСИ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5790960"/>
            <a:ext cx="4572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Verdana"/>
              </a:rPr>
              <a:t>Росица Стелиянова – зам.изпълнителен директор на Агенция по заетостт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603440" y="342900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19 – 20.01.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елин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ВОБОДНО ДВИЖЕНИЕ НА ХОР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1629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9999"/>
                </a:solidFill>
                <a:latin typeface="Arial"/>
              </a:rPr>
              <a:t>Работник”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– човек, който се занимава с действителна и ефективна работа, за която получава заплащ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URES</a:t>
            </a:r>
            <a:r>
              <a:rPr b="1" lang="bg-BG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– Европейски портал за работна мобилн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a.eu/eures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UROPASS</a:t>
            </a: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 –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uropass.cedefop.europa.eu/</a:t>
            </a: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cffff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пределя стандарти за представяне на квалификацията и уменията на работниците, както и формат, в който могат да ги представя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9999"/>
                </a:solidFill>
                <a:latin typeface="Arial"/>
              </a:rPr>
              <a:t>Координация на системите за социална сигурност”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- механизъм за избягване на неприятните последици от хората, които се движат в рамките на ЕС и упражняват своите социални прав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CF4-2CDE-4415-A3DB-E320E87FC5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Работниц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иложение VI от Договора за присъединяване на България към ЕС във връзка с Регламент 1612/68 на ЕИ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Закон за влизането, пребиваването и напускането на Р България на гражданите на Европейския съюз и членовете на техните семейства – чл.чл.8 и 9 – Удостоверение за продължително пребивав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Закон за насърчаване на заетостта – всеки гражданин на държава – членка, или на друга държава  - страна по Споразумението за Европейско икономическо пространство може да се регистрира в ДБ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flag_eu" descr="European Flag"/>
          <p:cNvPicPr/>
          <p:nvPr/>
        </p:nvPicPr>
        <p:blipFill>
          <a:blip r:embed="rId2"/>
          <a:stretch/>
        </p:blipFill>
        <p:spPr>
          <a:xfrm>
            <a:off x="1143000" y="457200"/>
            <a:ext cx="99072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20E-E341-4DB6-AC1E-A01FA7585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152280"/>
          <a:ext cx="9748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280"/>
                    <a:ext cx="974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>
            <a:hlinkClick r:id="rId4"/>
          </p:cNvPr>
          <p:cNvSpPr/>
          <p:nvPr/>
        </p:nvSpPr>
        <p:spPr>
          <a:xfrm>
            <a:off x="3762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hoto_jobseekers_in" descr="EUR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895480"/>
            <a:ext cx="1905120" cy="1209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440" y="1676520"/>
            <a:ext cx="68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вропейски портал за мобилност на работната 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5146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38160">
            <a:solidFill>
              <a:srgbClr val="d1d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ърсещи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7"/>
          </p:cNvPr>
          <p:cNvSpPr/>
          <p:nvPr/>
        </p:nvSpPr>
        <p:spPr>
          <a:xfrm>
            <a:off x="3762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hoto_employers_in" descr="EUR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90920" y="2895480"/>
            <a:ext cx="1828800" cy="12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90920" y="2514600"/>
            <a:ext cx="1828800" cy="3808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8160">
            <a:solidFill>
              <a:srgbClr val="d1d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Работод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0"/>
          </p:cNvPr>
          <p:cNvSpPr/>
          <p:nvPr/>
        </p:nvSpPr>
        <p:spPr>
          <a:xfrm>
            <a:off x="3762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hoto_learning" descr="EURE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8320" y="289548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48320" y="2514600"/>
            <a:ext cx="182880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38160">
            <a:solidFill>
              <a:srgbClr val="d1d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7176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uropemap" descr=""/>
          <p:cNvPicPr/>
          <p:nvPr/>
        </p:nvPicPr>
        <p:blipFill>
          <a:blip r:embed="rId13"/>
          <a:stretch/>
        </p:blipFill>
        <p:spPr>
          <a:xfrm>
            <a:off x="3048120" y="43434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09680" y="312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34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V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од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286000"/>
            <a:ext cx="6172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28600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28600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981080"/>
            <a:ext cx="0" cy="30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hoto_lw" descr="EURES"/>
          <p:cNvPicPr/>
          <p:nvPr/>
        </p:nvPicPr>
        <p:blipFill>
          <a:blip r:embed="rId14"/>
          <a:stretch/>
        </p:blipFill>
        <p:spPr>
          <a:xfrm>
            <a:off x="6705720" y="2895480"/>
            <a:ext cx="198108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05720" y="2514600"/>
            <a:ext cx="1981080" cy="3808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d1d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Условия на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2286000"/>
            <a:ext cx="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F25-CE63-4A38-A177-1F9F345727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A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ционалн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ss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центрове – съществуват във всяка държава – членка и координират всички дейности свързани с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ss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окументите. Те са звена за директен контакт с лица и организации, които използват подготвяните от тях информация и документи, а именно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V формат утвърден от ЕК на всички европейски езици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ropass </a:t>
            </a:r>
            <a:r>
              <a:rPr b="1" lang="bg-BG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зиков паспорт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ss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приложение към сертифика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CSExamples_en_GB.pdf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ss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приложение към диплом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DSupplementExamples_en_GB.pdf 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ass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мобилнос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MobExamples_en_GB.pdf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9568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logo" descr="Logo Europass"/>
          <p:cNvPicPr/>
          <p:nvPr/>
        </p:nvPicPr>
        <p:blipFill>
          <a:blip r:embed="rId5"/>
          <a:stretch/>
        </p:blipFill>
        <p:spPr>
          <a:xfrm>
            <a:off x="533520" y="304920"/>
            <a:ext cx="160020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FBF-AFF9-4EEE-917A-FA18DF6751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Координация на системите за социална сигурнос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Механизмът се прилага за всички държави – членки на ЕС и за държавите от ЕИП, които не са членки на ЕС – Исландия, Норвегия и Лихтенщайн, и от Швейцари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Четири основни принцип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пределяне на приложимо законодателство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Равенство на третирането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умиране на периоди за заетост, осигуряване и пребиваване и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знос на обезщетени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риложимост спрям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bg-BG" sz="1800" spc="-1" strike="noStrike">
                <a:solidFill>
                  <a:srgbClr val="ffffff"/>
                </a:solidFill>
                <a:latin typeface="Arial"/>
              </a:rPr>
              <a:t>Обезщетения за болест и майчинство, обезщетения и пенсии за инвалидност, пенсии за старост, наследствени пенсии и обезщетения, обезщетения и пенсии във връзка с трудови злополуки и професионални болести, помощи при смърт, парични обезщетения при безработица и семейни обезщетени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j0409222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58608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483-67FD-4323-91B8-E75B53BC1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70866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3399"/>
                </a:solidFill>
                <a:latin typeface="Arial"/>
              </a:rPr>
              <a:t>ВЪПРОС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j0284095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2166840" cy="281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8920" y="510552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3399"/>
                </a:solidFill>
                <a:latin typeface="Arial"/>
              </a:rPr>
              <a:t>Благодаря за вниманиет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649-0DD4-44AF-97AE-67806C553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5:15:42Z</dcterms:created>
  <dc:creator>Rossi Stelianova</dc:creator>
  <dc:description/>
  <dc:language>en-US</dc:language>
  <cp:lastModifiedBy>Rossi Stelianova</cp:lastModifiedBy>
  <dcterms:modified xsi:type="dcterms:W3CDTF">2007-01-18T08:08:34Z</dcterms:modified>
  <cp:revision>34</cp:revision>
  <dc:subject/>
  <dc:title>Business V</dc:title>
</cp:coreProperties>
</file>